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81588" cy="3809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522-B4FE-4D3C-9299-19C8B587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11006280"/>
            <a:ext cx="2590812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5640" y="22946760"/>
            <a:ext cx="2590812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2BA-9389-42A1-99CD-F3FBA0BB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5640" y="1100628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1000" y="1100628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5640" y="2294676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1000" y="2294676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F70-4562-4708-B3BD-549F1595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11006280"/>
            <a:ext cx="834228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5520" y="11006280"/>
            <a:ext cx="834228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5040" y="11006280"/>
            <a:ext cx="834228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5640" y="22946760"/>
            <a:ext cx="834228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5520" y="22946760"/>
            <a:ext cx="834228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5040" y="22946760"/>
            <a:ext cx="834228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F78-AB8E-4E61-B5E7-D0ED1D51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5640" y="11006280"/>
            <a:ext cx="2590812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642-A20E-4205-A34C-79DBC0EF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5640" y="11006280"/>
            <a:ext cx="25908120" cy="2286000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F5C-F6A8-438D-81B8-F55B1B46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5640" y="11006280"/>
            <a:ext cx="12642840" cy="2286000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1000" y="11006280"/>
            <a:ext cx="12642840" cy="2286000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D97-9360-40A3-98E4-ABE889ED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67A-707E-415C-913F-7FAE6C67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5640" y="3385800"/>
            <a:ext cx="2590812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AA1-2193-4019-87E3-2D4CC409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1100628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1000" y="11006280"/>
            <a:ext cx="12642840" cy="2286000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5640" y="2294676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557-2552-4A18-AA56-BE846913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11006280"/>
            <a:ext cx="12642840" cy="2286000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1000" y="1100628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1000" y="2294676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9E0-8CFF-4595-A83A-0BC82C00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1100628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1000" y="11006280"/>
            <a:ext cx="1264284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5640" y="22946760"/>
            <a:ext cx="25908120" cy="10904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919680"/>
                <a:tab algn="l" pos="783900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E18-6BB6-43F5-A4DB-13F2FA2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3385800"/>
            <a:ext cx="25908120" cy="635004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ctr">
            <a:noAutofit/>
          </a:bodyPr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5640" y="11006280"/>
            <a:ext cx="25908120" cy="2286000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rmAutofit/>
          </a:bodyPr>
          <a:p>
            <a:pPr marL="1469880" indent="-146988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919680"/>
                <a:tab algn="l" pos="78390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4560" indent="-12254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919680"/>
                <a:tab algn="l" pos="78390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98880" indent="-9792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919680"/>
                <a:tab algn="l" pos="78390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858000" indent="-97956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919680"/>
                <a:tab algn="l" pos="78390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817120" indent="-97956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919680"/>
                <a:tab algn="l" pos="78390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817120" indent="-97956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919680"/>
                <a:tab algn="l" pos="78390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817120" indent="-97956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919680"/>
                <a:tab algn="l" pos="78390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5640" y="34713720"/>
            <a:ext cx="6350040" cy="254016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Autofit/>
          </a:bodyPr>
          <a:lstStyle>
            <a:lvl1pPr indent="0">
              <a:buNone/>
              <a:tabLst>
                <a:tab algn="l" pos="0"/>
                <a:tab algn="l" pos="3919680"/>
                <a:tab algn="l" pos="7839000"/>
              </a:tabLst>
              <a:defRPr b="0" lang="es-ES" sz="6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919680"/>
                <a:tab algn="l" pos="78390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3720" y="34713720"/>
            <a:ext cx="9651960" cy="254016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Autofit/>
          </a:bodyPr>
          <a:lstStyle>
            <a:lvl1pPr indent="0" algn="ctr">
              <a:buNone/>
              <a:tabLst>
                <a:tab algn="l" pos="0"/>
                <a:tab algn="l" pos="3919680"/>
                <a:tab algn="l" pos="7839000"/>
              </a:tabLst>
              <a:defRPr b="0" lang="es-ES" sz="6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919680"/>
                <a:tab algn="l" pos="78390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3720" y="34713720"/>
            <a:ext cx="6350040" cy="2540160"/>
          </a:xfrm>
          <a:prstGeom prst="rect">
            <a:avLst/>
          </a:prstGeom>
          <a:noFill/>
          <a:ln w="0">
            <a:noFill/>
          </a:ln>
        </p:spPr>
        <p:txBody>
          <a:bodyPr lIns="392040" rIns="392040" tIns="195840" bIns="195840" anchor="t">
            <a:noAutofit/>
          </a:bodyPr>
          <a:lstStyle>
            <a:lvl1pPr indent="0" algn="r">
              <a:buNone/>
              <a:tabLst>
                <a:tab algn="l" pos="0"/>
                <a:tab algn="l" pos="3919680"/>
                <a:tab algn="l" pos="7839000"/>
              </a:tabLst>
              <a:defRPr b="0" lang="es-ES" sz="6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919680"/>
                <a:tab algn="l" pos="7839000"/>
              </a:tabLst>
            </a:pPr>
            <a:fld id="{C45FF021-54C1-4522-BFA6-02A16A3F127F}" type="slidenum">
              <a:rPr b="0" lang="es-ES" sz="6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2.png"/><Relationship Id="rId19" Type="http://schemas.openxmlformats.org/officeDocument/2006/relationships/image" Target="../media/image11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457200"/>
            <a:ext cx="1866744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</a:t>
            </a:r>
            <a:r>
              <a:rPr b="1" lang="es-ES_tradnl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CANDO LA PARTICIPACIÓN DE LOS INVOLUCRAD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oyecto MERIT (EVK1-2000-00592)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 Fabeiro Cortés, A Domínguez Padilla y J Brom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970160" y="17741880"/>
            <a:ext cx="30479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2099960"/>
            <a:ext cx="11517480" cy="190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marL="457200" indent="-457200" algn="just">
              <a:spcBef>
                <a:spcPts val="1250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DENTIFICACION DE LOS INVOLUC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El primer paso es identificar a las diferentes comunidades relacionadas con la utilización d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Una vez identificadas las comunidades susceptibles de sufrir alteraciones en su mod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dependiendo del uso que se haga del agua, se realiza un esquema de la situación ac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139720" y="12115800"/>
            <a:ext cx="10339560" cy="152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marL="457200" indent="-457200" algn="just">
              <a:spcBef>
                <a:spcPts val="1250"/>
              </a:spcBef>
              <a:buClr>
                <a:srgbClr val="ff0066"/>
              </a:buClr>
              <a:buFont typeface="Times New Roman"/>
              <a:buAutoNum type="arabicPeriod" startAt="2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imes New Roman"/>
              </a:rPr>
              <a:t>RELACION ENTRE INVOLUC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A continuación se hará una lista con todas las variables relacionadas con el uso d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Finalmente se relacionarán las variables unas con ot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6824240"/>
            <a:ext cx="8381880" cy="428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 marL="457200" indent="-457200" algn="just">
              <a:spcBef>
                <a:spcPts val="1250"/>
              </a:spcBef>
              <a:buClr>
                <a:srgbClr val="ff0066"/>
              </a:buClr>
              <a:buFont typeface="Times New Roman"/>
              <a:buAutoNum type="arabicPeriod" startAt="3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imes New Roman"/>
              </a:rPr>
              <a:t>CONSTRUCCION DE LA RED BAYE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Tras relacionar las variables es necesario introducir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para ver como cambia el valor de una variable al cambiar el valo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otra relacionada con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La información utilizada proviene de estudios, reuniones con expe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y con los propios usuarios, los cuales serán los encargados de corroborar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predicciones hechas por el mod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cc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A partir de esta información pueden tomarse decisiones conociend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antemano las posibles consecue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63840" y="24612480"/>
            <a:ext cx="25918920" cy="9715680"/>
            <a:chOff x="2463840" y="24612480"/>
            <a:chExt cx="25918920" cy="97156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rcRect l="0" t="0" r="3937" b="5249"/>
            <a:stretch/>
          </p:blipFill>
          <p:spPr>
            <a:xfrm>
              <a:off x="2463840" y="30008520"/>
              <a:ext cx="5840280" cy="43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monsal" descr="monsal head"/>
            <p:cNvPicPr/>
            <p:nvPr/>
          </p:nvPicPr>
          <p:blipFill>
            <a:blip r:embed="rId2"/>
            <a:srcRect l="0" t="0" r="10941" b="0"/>
            <a:stretch/>
          </p:blipFill>
          <p:spPr>
            <a:xfrm>
              <a:off x="22617000" y="30008520"/>
              <a:ext cx="5765760" cy="43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ortona_mare" descr=""/>
            <p:cNvPicPr/>
            <p:nvPr/>
          </p:nvPicPr>
          <p:blipFill>
            <a:blip r:embed="rId3"/>
            <a:stretch/>
          </p:blipFill>
          <p:spPr>
            <a:xfrm>
              <a:off x="3479760" y="24612480"/>
              <a:ext cx="3911760" cy="432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c_arhus1" descr="Arhus, Denmark"/>
            <p:cNvPicPr/>
            <p:nvPr/>
          </p:nvPicPr>
          <p:blipFill>
            <a:blip r:embed="rId4"/>
            <a:srcRect l="0" t="0" r="4123" b="0"/>
            <a:stretch/>
          </p:blipFill>
          <p:spPr>
            <a:xfrm>
              <a:off x="22617000" y="24612480"/>
              <a:ext cx="5693040" cy="43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307040" y="32291280"/>
              <a:ext cx="90349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0" rIns="3780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enca del Wye, 100 Km</a:t>
              </a:r>
              <a:r>
                <a:rPr b="1" i="1" lang="es-ES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uada al sur de Inglaterra, el elevado nivel de extracciones est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vocando la disminución del número de peces y de la calidad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s aguas. El reto es satisfacer las necesidades urbanas mantenie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s bancos de peces y humedales así como la utilización recreat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 río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40560" y="24688800"/>
              <a:ext cx="7922520" cy="22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0" rIns="378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ón de Abruzzo, 10.000 Km</a:t>
              </a:r>
              <a:r>
                <a:rPr b="1" i="1" lang="es-ES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 encuentra en la costa del Adriático en la zona central de Italia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 agua de esta zona tiene utilidad agrícola y como generadora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ergía eléctrica, siendo esta última la causa de la alteración 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osistema local. La utilización creciente de estos recursos pa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o recreativo puede afectar a la agricultura de la zona.</a:t>
              </a:r>
              <a:r>
                <a:rPr b="1" i="1" lang="es-ES" sz="20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39120" y="30021120"/>
              <a:ext cx="792864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0" rIns="378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enca del Júcar, 10.000 Km</a:t>
              </a:r>
              <a:r>
                <a:rPr b="1" i="1" lang="es-ES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uada al este de Castilla-La Mancha,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 trata de una zo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ncipalmente agrícola siendo la extracción de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gua para riego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usa del rápido descenso del nivel freático.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 reducción de 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racciones afectará a la economía loca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61360" y="27187560"/>
              <a:ext cx="878652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0" rIns="378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enca nordeste de Zealand, 2.800  Km</a:t>
              </a:r>
              <a:r>
                <a:rPr b="1" i="1" lang="es-ES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s la cuenca más densamente poblada de Dinamarca y la que abaste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Copenhague. Las extracciones superan los recursos subterráneos y 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rtidos agrícolas e industriales están deteriorando la calidad de las agu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perficiales y subterránea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2192120" y="6858000"/>
            <a:ext cx="2057400" cy="1905120"/>
          </a:xfrm>
          <a:prstGeom prst="rightArrow">
            <a:avLst>
              <a:gd name="adj1" fmla="val 50000"/>
              <a:gd name="adj2" fmla="val 606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23124960" y="8723160"/>
            <a:ext cx="6630840" cy="2897280"/>
          </a:xfrm>
          <a:custGeom>
            <a:avLst/>
            <a:gdLst>
              <a:gd name="textAreaLeft" fmla="*/ 0 w 6630840"/>
              <a:gd name="textAreaRight" fmla="*/ 6631200 w 6630840"/>
              <a:gd name="textAreaTop" fmla="*/ 0 h 2897280"/>
              <a:gd name="textAreaBottom" fmla="*/ 2897640 h 289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74" stAng="10800000" swAng="5400000"/>
                <a:lnTo>
                  <a:pt x="16027" y="2886"/>
                </a:lnTo>
                <a:lnTo>
                  <a:pt x="16027" y="0"/>
                </a:lnTo>
                <a:lnTo>
                  <a:pt x="21600" y="6079"/>
                </a:lnTo>
                <a:lnTo>
                  <a:pt x="16027" y="12158"/>
                </a:lnTo>
                <a:lnTo>
                  <a:pt x="16027" y="9272"/>
                </a:lnTo>
                <a:lnTo>
                  <a:pt x="12427" y="9272"/>
                </a:lnTo>
                <a:arcTo wR="6041" hR="2888" stAng="16200000" swAng="-5400000"/>
                <a:lnTo>
                  <a:pt x="638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35520" y="34747200"/>
            <a:ext cx="28032840" cy="2666880"/>
            <a:chOff x="1235520" y="34747200"/>
            <a:chExt cx="28032840" cy="2666880"/>
          </a:xfrm>
        </p:grpSpPr>
        <p:sp>
          <p:nvSpPr>
            <p:cNvPr id="58" name=""/>
            <p:cNvSpPr/>
            <p:nvPr/>
          </p:nvSpPr>
          <p:spPr>
            <a:xfrm>
              <a:off x="21574800" y="34823520"/>
              <a:ext cx="7693560" cy="252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Mejorar la gestión de las cuencas hídrica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Conseguir una utilización de los recurs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económicamente óptima, socialmente jus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y ambientalmente sostenib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48920" y="35052120"/>
              <a:ext cx="15435360" cy="1920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buClr>
                  <a:srgbClr val="0000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Pautas para la utilización del Bbn que desarrollen políticas de gestión integradas a la escala de cuenc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Pautas para conseguir que los representantes de las comunidades afectadas se impliquen en las decisiones de gestió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Un conjunto de variables cuantificables de los recursos hídricos que guíen el desarrollo de técnicas ambiental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</a:t>
              </a:r>
              <a:r>
                <a:rPr b="1" lang="es-E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ctuación en la</a:t>
              </a:r>
              <a:r>
                <a:rPr b="1" lang="es-ES_tradnl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s c</a:t>
              </a:r>
              <a:r>
                <a:rPr b="1" lang="es-E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uencas de Europ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a aplicación de dicha técnica en 4 cuencas Europeas para estudiar su funcionamient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35520" y="35715600"/>
              <a:ext cx="2513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Times New Roman"/>
                </a:rPr>
                <a:t>OBJETIV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51200" y="35052120"/>
              <a:ext cx="228600" cy="19810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134080" y="35813880"/>
              <a:ext cx="914400" cy="533520"/>
            </a:xfrm>
            <a:prstGeom prst="rightArrow">
              <a:avLst>
                <a:gd name="adj1" fmla="val 42861"/>
                <a:gd name="adj2" fmla="val 6784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201120" y="34747200"/>
              <a:ext cx="304560" cy="26668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47760" y="23317200"/>
            <a:ext cx="4164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REAS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4933520" y="4495680"/>
            <a:ext cx="8886960" cy="7194600"/>
            <a:chOff x="14933520" y="4495680"/>
            <a:chExt cx="8886960" cy="7194600"/>
          </a:xfrm>
        </p:grpSpPr>
        <p:sp>
          <p:nvSpPr>
            <p:cNvPr id="66" name=""/>
            <p:cNvSpPr/>
            <p:nvPr/>
          </p:nvSpPr>
          <p:spPr>
            <a:xfrm>
              <a:off x="14933520" y="4498920"/>
              <a:ext cx="8883720" cy="7191360"/>
            </a:xfrm>
            <a:prstGeom prst="rect">
              <a:avLst/>
            </a:prstGeom>
            <a:solidFill>
              <a:srgbClr val="ffffcc"/>
            </a:solidFill>
            <a:ln w="270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308600" y="8977320"/>
              <a:ext cx="633600" cy="390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29560" y="904068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low f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405440" y="9177480"/>
              <a:ext cx="42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ural u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583280" y="10848960"/>
              <a:ext cx="758880" cy="390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78680" y="10910880"/>
              <a:ext cx="54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Katerag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63360" y="11049120"/>
              <a:ext cx="18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04280" y="7102440"/>
              <a:ext cx="730080" cy="293760"/>
            </a:xfrm>
            <a:prstGeom prst="rect">
              <a:avLst/>
            </a:prstGeom>
            <a:solidFill>
              <a:srgbClr val="ccffcc"/>
            </a:solidFill>
            <a:ln w="39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234160" y="711828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xtraction fo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5400" y="7254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674000" y="7527960"/>
              <a:ext cx="803160" cy="36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40320" y="75754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low af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933920" y="7713720"/>
              <a:ext cx="27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pad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680040" y="8397720"/>
              <a:ext cx="662040" cy="390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776520" y="846144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low af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81280" y="859788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t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176840" y="6626160"/>
              <a:ext cx="897120" cy="416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376640" y="6686640"/>
              <a:ext cx="47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low aft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250640" y="685008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Paddy (detail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954080" y="6824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830800" y="6091200"/>
              <a:ext cx="728640" cy="289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041400" y="610380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Anic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82000" y="624204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830800" y="5635800"/>
              <a:ext cx="728640" cy="291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902800" y="5649840"/>
              <a:ext cx="56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975880" y="5786280"/>
              <a:ext cx="11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090360" y="5786280"/>
              <a:ext cx="31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anicu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870400" y="7413480"/>
              <a:ext cx="731880" cy="292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992800" y="742788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072720" y="7566120"/>
              <a:ext cx="31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830800" y="6627960"/>
              <a:ext cx="728640" cy="291960"/>
            </a:xfrm>
            <a:prstGeom prst="rect">
              <a:avLst/>
            </a:prstGeom>
            <a:solidFill>
              <a:srgbClr val="ffff99"/>
            </a:solidFill>
            <a:ln w="39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52840" y="664200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71920" y="6778800"/>
              <a:ext cx="43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or pad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729120" y="565164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870240" y="5664240"/>
              <a:ext cx="42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isplac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896880" y="5800680"/>
              <a:ext cx="37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arm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38560" y="604836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45560" y="6060960"/>
              <a:ext cx="27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Illeg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909560" y="619920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off tak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38560" y="5635800"/>
              <a:ext cx="728640" cy="290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41800" y="5648400"/>
              <a:ext cx="7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963560" y="5784840"/>
              <a:ext cx="26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of la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38560" y="650412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956720" y="65167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00200" y="665316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to Pad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687720" y="625644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92920" y="6269040"/>
              <a:ext cx="30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Padd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950160" y="6405480"/>
              <a:ext cx="19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38560" y="704232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985160" y="705492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Lin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904160" y="719280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channe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87720" y="749772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928560" y="75103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769440" y="764712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constr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687720" y="683568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876360" y="6848640"/>
              <a:ext cx="3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urfa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886080" y="6985080"/>
              <a:ext cx="32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789400" y="7081920"/>
              <a:ext cx="890640" cy="164880"/>
            </a:xfrm>
            <a:custGeom>
              <a:avLst/>
              <a:gdLst/>
              <a:ahLst/>
              <a:rect l="l" t="t" r="r" b="b"/>
              <a:pathLst>
                <a:path w="561" h="104">
                  <a:moveTo>
                    <a:pt x="91" y="0"/>
                  </a:moveTo>
                  <a:lnTo>
                    <a:pt x="73" y="1"/>
                  </a:lnTo>
                  <a:lnTo>
                    <a:pt x="56" y="4"/>
                  </a:lnTo>
                  <a:lnTo>
                    <a:pt x="41" y="9"/>
                  </a:lnTo>
                  <a:lnTo>
                    <a:pt x="27" y="16"/>
                  </a:lnTo>
                  <a:lnTo>
                    <a:pt x="16" y="22"/>
                  </a:lnTo>
                  <a:lnTo>
                    <a:pt x="8" y="31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2" y="63"/>
                  </a:lnTo>
                  <a:lnTo>
                    <a:pt x="8" y="72"/>
                  </a:lnTo>
                  <a:lnTo>
                    <a:pt x="16" y="81"/>
                  </a:lnTo>
                  <a:lnTo>
                    <a:pt x="27" y="89"/>
                  </a:lnTo>
                  <a:lnTo>
                    <a:pt x="41" y="95"/>
                  </a:lnTo>
                  <a:lnTo>
                    <a:pt x="56" y="100"/>
                  </a:lnTo>
                  <a:lnTo>
                    <a:pt x="73" y="103"/>
                  </a:lnTo>
                  <a:lnTo>
                    <a:pt x="91" y="104"/>
                  </a:lnTo>
                  <a:lnTo>
                    <a:pt x="471" y="104"/>
                  </a:lnTo>
                  <a:lnTo>
                    <a:pt x="489" y="103"/>
                  </a:lnTo>
                  <a:lnTo>
                    <a:pt x="506" y="100"/>
                  </a:lnTo>
                  <a:lnTo>
                    <a:pt x="521" y="95"/>
                  </a:lnTo>
                  <a:lnTo>
                    <a:pt x="535" y="89"/>
                  </a:lnTo>
                  <a:lnTo>
                    <a:pt x="546" y="81"/>
                  </a:lnTo>
                  <a:lnTo>
                    <a:pt x="554" y="72"/>
                  </a:lnTo>
                  <a:lnTo>
                    <a:pt x="559" y="63"/>
                  </a:lnTo>
                  <a:lnTo>
                    <a:pt x="561" y="52"/>
                  </a:lnTo>
                  <a:lnTo>
                    <a:pt x="559" y="41"/>
                  </a:lnTo>
                  <a:lnTo>
                    <a:pt x="554" y="31"/>
                  </a:lnTo>
                  <a:lnTo>
                    <a:pt x="546" y="22"/>
                  </a:lnTo>
                  <a:lnTo>
                    <a:pt x="535" y="16"/>
                  </a:lnTo>
                  <a:lnTo>
                    <a:pt x="521" y="9"/>
                  </a:lnTo>
                  <a:lnTo>
                    <a:pt x="506" y="4"/>
                  </a:lnTo>
                  <a:lnTo>
                    <a:pt x="489" y="1"/>
                  </a:lnTo>
                  <a:lnTo>
                    <a:pt x="47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59160" y="7122960"/>
              <a:ext cx="918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 Unicode MS"/>
                </a:rPr>
                <a:t>Upstream of Sugar Est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694440" y="5827680"/>
              <a:ext cx="890640" cy="5288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905040" y="589104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low af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880920" y="602784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(Upstrea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10160" y="6165720"/>
              <a:ext cx="27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pad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024480" y="9121680"/>
              <a:ext cx="728640" cy="290520"/>
            </a:xfrm>
            <a:prstGeom prst="rect">
              <a:avLst/>
            </a:prstGeom>
            <a:solidFill>
              <a:srgbClr val="ffcc99"/>
            </a:solidFill>
            <a:ln w="39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65880" y="9134640"/>
              <a:ext cx="62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xtraction f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57400" y="927252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t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16480" y="10296360"/>
              <a:ext cx="727200" cy="290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970920" y="103093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istill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29240" y="1044576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upp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5630480" y="4973760"/>
              <a:ext cx="2624040" cy="342720"/>
              <a:chOff x="15630480" y="4973760"/>
              <a:chExt cx="2624040" cy="342720"/>
            </a:xfrm>
          </p:grpSpPr>
          <p:sp>
            <p:nvSpPr>
              <p:cNvPr id="136" name=""/>
              <p:cNvSpPr/>
              <p:nvPr/>
            </p:nvSpPr>
            <p:spPr>
              <a:xfrm>
                <a:off x="15630480" y="4973760"/>
                <a:ext cx="2624040" cy="3427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630480" y="4973760"/>
                <a:ext cx="2624040" cy="42840"/>
              </a:xfrm>
              <a:custGeom>
                <a:avLst/>
                <a:gdLst/>
                <a:ahLst/>
                <a:rect l="l" t="t" r="r" b="b"/>
                <a:pathLst>
                  <a:path w="1653" h="27">
                    <a:moveTo>
                      <a:pt x="0" y="0"/>
                    </a:moveTo>
                    <a:lnTo>
                      <a:pt x="24" y="27"/>
                    </a:lnTo>
                    <a:lnTo>
                      <a:pt x="1629" y="27"/>
                    </a:lnTo>
                    <a:lnTo>
                      <a:pt x="16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30480" y="4973760"/>
                <a:ext cx="3816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0" y="0"/>
                    </a:moveTo>
                    <a:lnTo>
                      <a:pt x="0" y="216"/>
                    </a:lnTo>
                    <a:lnTo>
                      <a:pt x="24" y="189"/>
                    </a:lnTo>
                    <a:lnTo>
                      <a:pt x="24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630480" y="5273640"/>
                <a:ext cx="2624040" cy="42840"/>
              </a:xfrm>
              <a:custGeom>
                <a:avLst/>
                <a:gdLst/>
                <a:ahLst/>
                <a:rect l="l" t="t" r="r" b="b"/>
                <a:pathLst>
                  <a:path w="1653" h="27">
                    <a:moveTo>
                      <a:pt x="0" y="27"/>
                    </a:moveTo>
                    <a:lnTo>
                      <a:pt x="1653" y="27"/>
                    </a:lnTo>
                    <a:lnTo>
                      <a:pt x="1629" y="0"/>
                    </a:lnTo>
                    <a:lnTo>
                      <a:pt x="2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c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16360" y="4973760"/>
                <a:ext cx="3816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24" y="216"/>
                    </a:moveTo>
                    <a:lnTo>
                      <a:pt x="24" y="0"/>
                    </a:lnTo>
                    <a:lnTo>
                      <a:pt x="0" y="27"/>
                    </a:lnTo>
                    <a:lnTo>
                      <a:pt x="0" y="189"/>
                    </a:lnTo>
                    <a:lnTo>
                      <a:pt x="24" y="216"/>
                    </a:lnTo>
                    <a:close/>
                  </a:path>
                </a:pathLst>
              </a:custGeom>
              <a:solidFill>
                <a:srgbClr val="99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630480" y="4973760"/>
                <a:ext cx="2624040" cy="342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668640" y="5016600"/>
                <a:ext cx="2547720" cy="2570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5630480" y="4973760"/>
                <a:ext cx="38160" cy="42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5630480" y="5273280"/>
                <a:ext cx="38160" cy="42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18216360" y="5273280"/>
                <a:ext cx="38160" cy="42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18216360" y="4973760"/>
                <a:ext cx="38160" cy="42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5540840" y="5057640"/>
              <a:ext cx="283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 Unicode MS"/>
                </a:rPr>
                <a:t>Paddy farmers upstream of sugar est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5243120" y="10460160"/>
              <a:ext cx="1012680" cy="342720"/>
              <a:chOff x="15243120" y="10460160"/>
              <a:chExt cx="1012680" cy="342720"/>
            </a:xfrm>
          </p:grpSpPr>
          <p:sp>
            <p:nvSpPr>
              <p:cNvPr id="149" name=""/>
              <p:cNvSpPr/>
              <p:nvPr/>
            </p:nvSpPr>
            <p:spPr>
              <a:xfrm>
                <a:off x="15243120" y="10460160"/>
                <a:ext cx="1012680" cy="3427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243120" y="10460160"/>
                <a:ext cx="1012680" cy="42480"/>
              </a:xfrm>
              <a:custGeom>
                <a:avLst/>
                <a:gdLst/>
                <a:ahLst/>
                <a:rect l="l" t="t" r="r" b="b"/>
                <a:pathLst>
                  <a:path w="638" h="27">
                    <a:moveTo>
                      <a:pt x="0" y="0"/>
                    </a:moveTo>
                    <a:lnTo>
                      <a:pt x="25" y="27"/>
                    </a:lnTo>
                    <a:lnTo>
                      <a:pt x="613" y="27"/>
                    </a:lnTo>
                    <a:lnTo>
                      <a:pt x="6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243120" y="10460160"/>
                <a:ext cx="39600" cy="342720"/>
              </a:xfrm>
              <a:custGeom>
                <a:avLst/>
                <a:gdLst/>
                <a:ahLst/>
                <a:rect l="l" t="t" r="r" b="b"/>
                <a:pathLst>
                  <a:path w="25" h="216">
                    <a:moveTo>
                      <a:pt x="0" y="0"/>
                    </a:moveTo>
                    <a:lnTo>
                      <a:pt x="0" y="216"/>
                    </a:lnTo>
                    <a:lnTo>
                      <a:pt x="25" y="189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1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243120" y="10760040"/>
                <a:ext cx="1012680" cy="42480"/>
              </a:xfrm>
              <a:custGeom>
                <a:avLst/>
                <a:gdLst/>
                <a:ahLst/>
                <a:rect l="l" t="t" r="r" b="b"/>
                <a:pathLst>
                  <a:path w="638" h="27">
                    <a:moveTo>
                      <a:pt x="0" y="27"/>
                    </a:moveTo>
                    <a:lnTo>
                      <a:pt x="638" y="27"/>
                    </a:lnTo>
                    <a:lnTo>
                      <a:pt x="613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a4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216200" y="10460160"/>
                <a:ext cx="39600" cy="342720"/>
              </a:xfrm>
              <a:custGeom>
                <a:avLst/>
                <a:gdLst/>
                <a:ahLst/>
                <a:rect l="l" t="t" r="r" b="b"/>
                <a:pathLst>
                  <a:path w="25" h="216">
                    <a:moveTo>
                      <a:pt x="25" y="216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189"/>
                    </a:lnTo>
                    <a:lnTo>
                      <a:pt x="25" y="216"/>
                    </a:lnTo>
                    <a:close/>
                  </a:path>
                </a:pathLst>
              </a:custGeom>
              <a:solidFill>
                <a:srgbClr val="997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243120" y="10460160"/>
                <a:ext cx="1012680" cy="34272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5282720" y="10502640"/>
                <a:ext cx="933480" cy="25704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5243120" y="10460160"/>
                <a:ext cx="39600" cy="42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5243120" y="10760040"/>
                <a:ext cx="39600" cy="42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16216200" y="10760040"/>
                <a:ext cx="39600" cy="42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6216200" y="10460160"/>
                <a:ext cx="39600" cy="42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5299280" y="10544040"/>
              <a:ext cx="88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 Unicode MS"/>
                </a:rPr>
                <a:t>Sugar est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332960" y="7061040"/>
              <a:ext cx="730080" cy="292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463640" y="7075440"/>
              <a:ext cx="45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unicip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391280" y="721188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Water supp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120120" y="5916600"/>
              <a:ext cx="974880" cy="390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214080" y="5979960"/>
              <a:ext cx="759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Treatment wor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456720" y="611676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upp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42160" y="7081920"/>
              <a:ext cx="729000" cy="291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64560" y="7095960"/>
              <a:ext cx="46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Treat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25680" y="723420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ffective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159720" y="6545160"/>
              <a:ext cx="728640" cy="292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185280" y="6559560"/>
              <a:ext cx="65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Town boreho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413880" y="6696000"/>
              <a:ext cx="21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yie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204280" y="5967360"/>
              <a:ext cx="730080" cy="290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219760" y="5979960"/>
              <a:ext cx="675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Pump and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378880" y="611676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capac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332960" y="5967360"/>
              <a:ext cx="730080" cy="412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506480" y="597204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e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419720" y="6110280"/>
              <a:ext cx="56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514040" y="624672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701160" y="5122800"/>
              <a:ext cx="730080" cy="290520"/>
            </a:xfrm>
            <a:prstGeom prst="rect">
              <a:avLst/>
            </a:prstGeom>
            <a:solidFill>
              <a:srgbClr val="99ccff"/>
            </a:solidFill>
            <a:ln w="39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918600" y="513540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834000" y="5273640"/>
              <a:ext cx="44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796120" y="10814040"/>
              <a:ext cx="728640" cy="291960"/>
            </a:xfrm>
            <a:prstGeom prst="rect">
              <a:avLst/>
            </a:prstGeom>
            <a:solidFill>
              <a:srgbClr val="99ccff"/>
            </a:solidFill>
            <a:ln w="39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015360" y="1082844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930760" y="10964880"/>
              <a:ext cx="44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429800" y="10239480"/>
              <a:ext cx="728640" cy="290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520160" y="10252080"/>
              <a:ext cx="53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Rural wa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642560" y="1038852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upp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456800" y="11104560"/>
              <a:ext cx="728640" cy="291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608000" y="1111896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New 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707720" y="11255400"/>
              <a:ext cx="21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wel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0204280" y="5295960"/>
              <a:ext cx="1265040" cy="342720"/>
              <a:chOff x="20204280" y="5295960"/>
              <a:chExt cx="1265040" cy="342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0204280" y="5295960"/>
                <a:ext cx="1265040" cy="3427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204280" y="5295960"/>
                <a:ext cx="1265040" cy="42840"/>
              </a:xfrm>
              <a:custGeom>
                <a:avLst/>
                <a:gdLst/>
                <a:ahLst/>
                <a:rect l="l" t="t" r="r" b="b"/>
                <a:pathLst>
                  <a:path w="797" h="27">
                    <a:moveTo>
                      <a:pt x="0" y="0"/>
                    </a:moveTo>
                    <a:lnTo>
                      <a:pt x="25" y="27"/>
                    </a:lnTo>
                    <a:lnTo>
                      <a:pt x="773" y="27"/>
                    </a:lnTo>
                    <a:lnTo>
                      <a:pt x="79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f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204280" y="5295960"/>
                <a:ext cx="39600" cy="342720"/>
              </a:xfrm>
              <a:custGeom>
                <a:avLst/>
                <a:gdLst/>
                <a:ahLst/>
                <a:rect l="l" t="t" r="r" b="b"/>
                <a:pathLst>
                  <a:path w="25" h="216">
                    <a:moveTo>
                      <a:pt x="0" y="0"/>
                    </a:moveTo>
                    <a:lnTo>
                      <a:pt x="0" y="216"/>
                    </a:lnTo>
                    <a:lnTo>
                      <a:pt x="25" y="189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204280" y="5595840"/>
                <a:ext cx="1265040" cy="42840"/>
              </a:xfrm>
              <a:custGeom>
                <a:avLst/>
                <a:gdLst/>
                <a:ahLst/>
                <a:rect l="l" t="t" r="r" b="b"/>
                <a:pathLst>
                  <a:path w="797" h="27">
                    <a:moveTo>
                      <a:pt x="0" y="27"/>
                    </a:moveTo>
                    <a:lnTo>
                      <a:pt x="797" y="27"/>
                    </a:lnTo>
                    <a:lnTo>
                      <a:pt x="773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4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1431160" y="5295960"/>
                <a:ext cx="3816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24" y="216"/>
                    </a:moveTo>
                    <a:lnTo>
                      <a:pt x="24" y="0"/>
                    </a:lnTo>
                    <a:lnTo>
                      <a:pt x="0" y="27"/>
                    </a:lnTo>
                    <a:lnTo>
                      <a:pt x="0" y="189"/>
                    </a:lnTo>
                    <a:lnTo>
                      <a:pt x="24" y="216"/>
                    </a:lnTo>
                    <a:close/>
                  </a:path>
                </a:pathLst>
              </a:custGeom>
              <a:solidFill>
                <a:srgbClr val="7a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0204280" y="5295960"/>
                <a:ext cx="1265040" cy="3427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243880" y="5338800"/>
                <a:ext cx="1187280" cy="2570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204280" y="5295960"/>
                <a:ext cx="39600" cy="42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20204280" y="5595480"/>
                <a:ext cx="39600" cy="42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21431160" y="5595480"/>
                <a:ext cx="38160" cy="42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1431160" y="5295960"/>
                <a:ext cx="38160" cy="42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0273040" y="5381640"/>
              <a:ext cx="1194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 Unicode MS"/>
                </a:rPr>
                <a:t>Municipal Suppl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701160" y="5468760"/>
              <a:ext cx="890640" cy="167040"/>
            </a:xfrm>
            <a:custGeom>
              <a:avLst/>
              <a:gdLst/>
              <a:ahLst/>
              <a:rect l="l" t="t" r="r" b="b"/>
              <a:pathLst>
                <a:path w="561" h="105">
                  <a:moveTo>
                    <a:pt x="91" y="0"/>
                  </a:moveTo>
                  <a:lnTo>
                    <a:pt x="72" y="1"/>
                  </a:lnTo>
                  <a:lnTo>
                    <a:pt x="55" y="5"/>
                  </a:lnTo>
                  <a:lnTo>
                    <a:pt x="40" y="9"/>
                  </a:lnTo>
                  <a:lnTo>
                    <a:pt x="27" y="16"/>
                  </a:lnTo>
                  <a:lnTo>
                    <a:pt x="15" y="23"/>
                  </a:lnTo>
                  <a:lnTo>
                    <a:pt x="7" y="32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3"/>
                  </a:lnTo>
                  <a:lnTo>
                    <a:pt x="7" y="72"/>
                  </a:lnTo>
                  <a:lnTo>
                    <a:pt x="15" y="81"/>
                  </a:lnTo>
                  <a:lnTo>
                    <a:pt x="27" y="89"/>
                  </a:lnTo>
                  <a:lnTo>
                    <a:pt x="40" y="96"/>
                  </a:lnTo>
                  <a:lnTo>
                    <a:pt x="55" y="100"/>
                  </a:lnTo>
                  <a:lnTo>
                    <a:pt x="72" y="104"/>
                  </a:lnTo>
                  <a:lnTo>
                    <a:pt x="91" y="105"/>
                  </a:lnTo>
                  <a:lnTo>
                    <a:pt x="470" y="105"/>
                  </a:lnTo>
                  <a:lnTo>
                    <a:pt x="489" y="104"/>
                  </a:lnTo>
                  <a:lnTo>
                    <a:pt x="505" y="100"/>
                  </a:lnTo>
                  <a:lnTo>
                    <a:pt x="521" y="96"/>
                  </a:lnTo>
                  <a:lnTo>
                    <a:pt x="534" y="89"/>
                  </a:lnTo>
                  <a:lnTo>
                    <a:pt x="545" y="81"/>
                  </a:lnTo>
                  <a:lnTo>
                    <a:pt x="554" y="72"/>
                  </a:lnTo>
                  <a:lnTo>
                    <a:pt x="559" y="63"/>
                  </a:lnTo>
                  <a:lnTo>
                    <a:pt x="561" y="52"/>
                  </a:lnTo>
                  <a:lnTo>
                    <a:pt x="559" y="42"/>
                  </a:lnTo>
                  <a:lnTo>
                    <a:pt x="554" y="32"/>
                  </a:lnTo>
                  <a:lnTo>
                    <a:pt x="545" y="23"/>
                  </a:lnTo>
                  <a:lnTo>
                    <a:pt x="534" y="16"/>
                  </a:lnTo>
                  <a:lnTo>
                    <a:pt x="521" y="9"/>
                  </a:lnTo>
                  <a:lnTo>
                    <a:pt x="505" y="5"/>
                  </a:lnTo>
                  <a:lnTo>
                    <a:pt x="489" y="1"/>
                  </a:lnTo>
                  <a:lnTo>
                    <a:pt x="470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787560" y="5467320"/>
              <a:ext cx="687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 Unicode MS"/>
                </a:rPr>
                <a:t>Upstream of Est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935160" y="5553000"/>
              <a:ext cx="421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 Unicode MS"/>
                </a:rPr>
                <a:t>And Buttal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732760" y="11304720"/>
              <a:ext cx="890640" cy="166680"/>
            </a:xfrm>
            <a:custGeom>
              <a:avLst/>
              <a:gdLst/>
              <a:ahLst/>
              <a:rect l="l" t="t" r="r" b="b"/>
              <a:pathLst>
                <a:path w="561" h="105">
                  <a:moveTo>
                    <a:pt x="91" y="0"/>
                  </a:moveTo>
                  <a:lnTo>
                    <a:pt x="72" y="2"/>
                  </a:lnTo>
                  <a:lnTo>
                    <a:pt x="56" y="5"/>
                  </a:lnTo>
                  <a:lnTo>
                    <a:pt x="40" y="9"/>
                  </a:lnTo>
                  <a:lnTo>
                    <a:pt x="27" y="16"/>
                  </a:lnTo>
                  <a:lnTo>
                    <a:pt x="16" y="23"/>
                  </a:lnTo>
                  <a:lnTo>
                    <a:pt x="7" y="32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3"/>
                  </a:lnTo>
                  <a:lnTo>
                    <a:pt x="7" y="72"/>
                  </a:lnTo>
                  <a:lnTo>
                    <a:pt x="16" y="81"/>
                  </a:lnTo>
                  <a:lnTo>
                    <a:pt x="27" y="89"/>
                  </a:lnTo>
                  <a:lnTo>
                    <a:pt x="40" y="96"/>
                  </a:lnTo>
                  <a:lnTo>
                    <a:pt x="56" y="100"/>
                  </a:lnTo>
                  <a:lnTo>
                    <a:pt x="72" y="104"/>
                  </a:lnTo>
                  <a:lnTo>
                    <a:pt x="91" y="105"/>
                  </a:lnTo>
                  <a:lnTo>
                    <a:pt x="470" y="105"/>
                  </a:lnTo>
                  <a:lnTo>
                    <a:pt x="489" y="104"/>
                  </a:lnTo>
                  <a:lnTo>
                    <a:pt x="506" y="100"/>
                  </a:lnTo>
                  <a:lnTo>
                    <a:pt x="521" y="96"/>
                  </a:lnTo>
                  <a:lnTo>
                    <a:pt x="534" y="89"/>
                  </a:lnTo>
                  <a:lnTo>
                    <a:pt x="546" y="81"/>
                  </a:lnTo>
                  <a:lnTo>
                    <a:pt x="554" y="72"/>
                  </a:lnTo>
                  <a:lnTo>
                    <a:pt x="559" y="63"/>
                  </a:lnTo>
                  <a:lnTo>
                    <a:pt x="561" y="52"/>
                  </a:lnTo>
                  <a:lnTo>
                    <a:pt x="559" y="42"/>
                  </a:lnTo>
                  <a:lnTo>
                    <a:pt x="554" y="32"/>
                  </a:lnTo>
                  <a:lnTo>
                    <a:pt x="546" y="23"/>
                  </a:lnTo>
                  <a:lnTo>
                    <a:pt x="534" y="16"/>
                  </a:lnTo>
                  <a:lnTo>
                    <a:pt x="521" y="9"/>
                  </a:lnTo>
                  <a:lnTo>
                    <a:pt x="506" y="5"/>
                  </a:lnTo>
                  <a:lnTo>
                    <a:pt x="489" y="2"/>
                  </a:lnTo>
                  <a:lnTo>
                    <a:pt x="470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775240" y="11302920"/>
              <a:ext cx="793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 Unicode MS"/>
                </a:rPr>
                <a:t>Downstream of Est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966760" y="11388600"/>
              <a:ext cx="421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 Unicode MS"/>
                </a:rPr>
                <a:t>And Buttal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736000" y="9291600"/>
              <a:ext cx="728640" cy="29196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978640" y="93060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819160" y="94438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constr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531320" y="7642080"/>
              <a:ext cx="7286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674240" y="7655040"/>
              <a:ext cx="42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isplac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99080" y="7791480"/>
              <a:ext cx="37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arm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561560" y="9077400"/>
              <a:ext cx="7286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68560" y="9090000"/>
              <a:ext cx="27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Illeg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734000" y="92282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off tak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561560" y="8218440"/>
              <a:ext cx="728640" cy="2923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564800" y="8232840"/>
              <a:ext cx="7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88360" y="8369280"/>
              <a:ext cx="26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of la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582000" y="8218440"/>
              <a:ext cx="7304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801960" y="823104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745440" y="836784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to Pad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05760" y="7562880"/>
              <a:ext cx="7286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11320" y="7575480"/>
              <a:ext cx="30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Padd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68560" y="7713720"/>
              <a:ext cx="19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86600" y="7562880"/>
              <a:ext cx="7286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833200" y="75754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Lin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52200" y="7713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channe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372400" y="7931160"/>
              <a:ext cx="728640" cy="2890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494440" y="794376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72920" y="8080200"/>
              <a:ext cx="31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04320" y="9002880"/>
              <a:ext cx="73008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796200" y="9015480"/>
              <a:ext cx="3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urfa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802680" y="9153360"/>
              <a:ext cx="32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12240" y="8570880"/>
              <a:ext cx="730080" cy="290520"/>
            </a:xfrm>
            <a:prstGeom prst="rect">
              <a:avLst/>
            </a:prstGeom>
            <a:solidFill>
              <a:srgbClr val="ff9999"/>
            </a:solidFill>
            <a:ln w="39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834280" y="858348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xtra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853360" y="8721720"/>
              <a:ext cx="43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for pad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634480" y="8956800"/>
              <a:ext cx="888840" cy="164880"/>
            </a:xfrm>
            <a:custGeom>
              <a:avLst/>
              <a:gdLst/>
              <a:ahLst/>
              <a:rect l="l" t="t" r="r" b="b"/>
              <a:pathLst>
                <a:path w="560" h="104">
                  <a:moveTo>
                    <a:pt x="90" y="0"/>
                  </a:moveTo>
                  <a:lnTo>
                    <a:pt x="72" y="1"/>
                  </a:lnTo>
                  <a:lnTo>
                    <a:pt x="55" y="4"/>
                  </a:lnTo>
                  <a:lnTo>
                    <a:pt x="39" y="9"/>
                  </a:lnTo>
                  <a:lnTo>
                    <a:pt x="27" y="16"/>
                  </a:lnTo>
                  <a:lnTo>
                    <a:pt x="16" y="22"/>
                  </a:lnTo>
                  <a:lnTo>
                    <a:pt x="7" y="31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63"/>
                  </a:lnTo>
                  <a:lnTo>
                    <a:pt x="7" y="72"/>
                  </a:lnTo>
                  <a:lnTo>
                    <a:pt x="16" y="81"/>
                  </a:lnTo>
                  <a:lnTo>
                    <a:pt x="27" y="89"/>
                  </a:lnTo>
                  <a:lnTo>
                    <a:pt x="39" y="95"/>
                  </a:lnTo>
                  <a:lnTo>
                    <a:pt x="55" y="100"/>
                  </a:lnTo>
                  <a:lnTo>
                    <a:pt x="72" y="103"/>
                  </a:lnTo>
                  <a:lnTo>
                    <a:pt x="90" y="104"/>
                  </a:lnTo>
                  <a:lnTo>
                    <a:pt x="471" y="104"/>
                  </a:lnTo>
                  <a:lnTo>
                    <a:pt x="489" y="103"/>
                  </a:lnTo>
                  <a:lnTo>
                    <a:pt x="506" y="100"/>
                  </a:lnTo>
                  <a:lnTo>
                    <a:pt x="521" y="95"/>
                  </a:lnTo>
                  <a:lnTo>
                    <a:pt x="535" y="89"/>
                  </a:lnTo>
                  <a:lnTo>
                    <a:pt x="545" y="81"/>
                  </a:lnTo>
                  <a:lnTo>
                    <a:pt x="553" y="72"/>
                  </a:lnTo>
                  <a:lnTo>
                    <a:pt x="558" y="63"/>
                  </a:lnTo>
                  <a:lnTo>
                    <a:pt x="560" y="51"/>
                  </a:lnTo>
                  <a:lnTo>
                    <a:pt x="558" y="41"/>
                  </a:lnTo>
                  <a:lnTo>
                    <a:pt x="553" y="31"/>
                  </a:lnTo>
                  <a:lnTo>
                    <a:pt x="545" y="22"/>
                  </a:lnTo>
                  <a:lnTo>
                    <a:pt x="535" y="16"/>
                  </a:lnTo>
                  <a:lnTo>
                    <a:pt x="521" y="9"/>
                  </a:lnTo>
                  <a:lnTo>
                    <a:pt x="506" y="4"/>
                  </a:lnTo>
                  <a:lnTo>
                    <a:pt x="489" y="1"/>
                  </a:lnTo>
                  <a:lnTo>
                    <a:pt x="471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801160" y="8953560"/>
              <a:ext cx="554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 Unicode MS"/>
                </a:rPr>
                <a:t>Downstream o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955600" y="9039240"/>
              <a:ext cx="258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 Unicode MS"/>
                </a:rPr>
                <a:t>Buttal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0346840" y="9685440"/>
              <a:ext cx="2476800" cy="342720"/>
              <a:chOff x="20346840" y="9685440"/>
              <a:chExt cx="2476800" cy="342720"/>
            </a:xfrm>
          </p:grpSpPr>
          <p:sp>
            <p:nvSpPr>
              <p:cNvPr id="245" name=""/>
              <p:cNvSpPr/>
              <p:nvPr/>
            </p:nvSpPr>
            <p:spPr>
              <a:xfrm>
                <a:off x="20346840" y="9685440"/>
                <a:ext cx="2476800" cy="342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346840" y="9685440"/>
                <a:ext cx="2476800" cy="42480"/>
              </a:xfrm>
              <a:custGeom>
                <a:avLst/>
                <a:gdLst/>
                <a:ahLst/>
                <a:rect l="l" t="t" r="r" b="b"/>
                <a:pathLst>
                  <a:path w="1560" h="27">
                    <a:moveTo>
                      <a:pt x="0" y="0"/>
                    </a:moveTo>
                    <a:lnTo>
                      <a:pt x="24" y="27"/>
                    </a:lnTo>
                    <a:lnTo>
                      <a:pt x="1536" y="27"/>
                    </a:lnTo>
                    <a:lnTo>
                      <a:pt x="15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346840" y="9685440"/>
                <a:ext cx="3816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0" y="0"/>
                    </a:moveTo>
                    <a:lnTo>
                      <a:pt x="0" y="216"/>
                    </a:lnTo>
                    <a:lnTo>
                      <a:pt x="24" y="189"/>
                    </a:lnTo>
                    <a:lnTo>
                      <a:pt x="24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346840" y="9985320"/>
                <a:ext cx="2476800" cy="42480"/>
              </a:xfrm>
              <a:custGeom>
                <a:avLst/>
                <a:gdLst/>
                <a:ahLst/>
                <a:rect l="l" t="t" r="r" b="b"/>
                <a:pathLst>
                  <a:path w="1560" h="27">
                    <a:moveTo>
                      <a:pt x="0" y="27"/>
                    </a:moveTo>
                    <a:lnTo>
                      <a:pt x="1560" y="27"/>
                    </a:lnTo>
                    <a:lnTo>
                      <a:pt x="1536" y="0"/>
                    </a:lnTo>
                    <a:lnTo>
                      <a:pt x="2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85480" y="9685440"/>
                <a:ext cx="3816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24" y="216"/>
                    </a:moveTo>
                    <a:lnTo>
                      <a:pt x="24" y="0"/>
                    </a:lnTo>
                    <a:lnTo>
                      <a:pt x="0" y="27"/>
                    </a:lnTo>
                    <a:lnTo>
                      <a:pt x="0" y="189"/>
                    </a:lnTo>
                    <a:lnTo>
                      <a:pt x="24" y="216"/>
                    </a:lnTo>
                    <a:close/>
                  </a:path>
                </a:pathLst>
              </a:custGeom>
              <a:solidFill>
                <a:srgbClr val="99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0346840" y="9685440"/>
                <a:ext cx="2476800" cy="342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385000" y="9727920"/>
                <a:ext cx="2400480" cy="2570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0346840" y="9685440"/>
                <a:ext cx="38160" cy="42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20346840" y="9985320"/>
                <a:ext cx="38160" cy="42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22785480" y="9985320"/>
                <a:ext cx="38160" cy="42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22785480" y="9685440"/>
                <a:ext cx="38160" cy="42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20284560" y="9771120"/>
              <a:ext cx="268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 Unicode MS"/>
                </a:rPr>
                <a:t>Paddy farmers downstream of Butta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646320" y="8304120"/>
              <a:ext cx="728640" cy="292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737400" y="838692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New Sys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646320" y="9360000"/>
              <a:ext cx="7286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797520" y="937404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Renov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858720" y="951084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lag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697160" y="8251920"/>
              <a:ext cx="7304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918560" y="8265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823520" y="8404200"/>
              <a:ext cx="46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harves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697160" y="8883720"/>
              <a:ext cx="730440" cy="290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838640" y="8896320"/>
              <a:ext cx="43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Townsh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911720" y="903276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upp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768880" y="9750600"/>
              <a:ext cx="73008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947440" y="976464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urs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983080" y="990288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upp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646320" y="8883720"/>
              <a:ext cx="728640" cy="290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05080" y="8896320"/>
              <a:ext cx="39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Boreho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859080" y="903276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supp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640200" y="9894960"/>
              <a:ext cx="7286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904080" y="9909000"/>
              <a:ext cx="19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782040" y="1004724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Reservoi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789400" y="10585440"/>
              <a:ext cx="7304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9760" y="10599840"/>
              <a:ext cx="35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fflu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019800" y="107362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pon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738560" y="9433080"/>
              <a:ext cx="7286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930080" y="9515520"/>
              <a:ext cx="33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Lag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738560" y="9860040"/>
              <a:ext cx="728640" cy="293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867800" y="9875880"/>
              <a:ext cx="45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Reservoi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912080" y="1001232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capac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38560" y="10441080"/>
              <a:ext cx="7286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996680" y="104551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Dr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882920" y="10591920"/>
              <a:ext cx="42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irrig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651520" y="8282160"/>
              <a:ext cx="728640" cy="290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721000" y="8362800"/>
              <a:ext cx="56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Enforc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6373520" y="9504360"/>
              <a:ext cx="364680" cy="109440"/>
              <a:chOff x="16373520" y="9504360"/>
              <a:chExt cx="364680" cy="109440"/>
            </a:xfrm>
          </p:grpSpPr>
          <p:sp>
            <p:nvSpPr>
              <p:cNvPr id="291" name=""/>
              <p:cNvSpPr/>
              <p:nvPr/>
            </p:nvSpPr>
            <p:spPr>
              <a:xfrm>
                <a:off x="16373520" y="9505800"/>
                <a:ext cx="268200" cy="536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628760" y="9504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69"/>
                    </a:moveTo>
                    <a:lnTo>
                      <a:pt x="69" y="48"/>
                    </a:lnTo>
                    <a:lnTo>
                      <a:pt x="11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8519840" y="10441080"/>
              <a:ext cx="295920" cy="291600"/>
              <a:chOff x="18519840" y="10441080"/>
              <a:chExt cx="295920" cy="29160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18590760" y="10441080"/>
                <a:ext cx="225000" cy="2203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19840" y="10615320"/>
                <a:ext cx="110880" cy="1173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27" y="0"/>
                    </a:moveTo>
                    <a:lnTo>
                      <a:pt x="0" y="74"/>
                    </a:lnTo>
                    <a:lnTo>
                      <a:pt x="70" y="5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8388080" y="9433080"/>
              <a:ext cx="433440" cy="1008000"/>
              <a:chOff x="18388080" y="9433080"/>
              <a:chExt cx="433440" cy="1008000"/>
            </a:xfrm>
          </p:grpSpPr>
          <p:sp>
            <p:nvSpPr>
              <p:cNvPr id="297" name=""/>
              <p:cNvSpPr/>
              <p:nvPr/>
            </p:nvSpPr>
            <p:spPr>
              <a:xfrm>
                <a:off x="18388080" y="9433080"/>
                <a:ext cx="385920" cy="9111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726480" y="10315800"/>
                <a:ext cx="95040" cy="125280"/>
              </a:xfrm>
              <a:custGeom>
                <a:avLst/>
                <a:gdLst/>
                <a:ahLst/>
                <a:rect l="l" t="t" r="r" b="b"/>
                <a:pathLst>
                  <a:path w="60" h="79">
                    <a:moveTo>
                      <a:pt x="0" y="30"/>
                    </a:moveTo>
                    <a:lnTo>
                      <a:pt x="58" y="79"/>
                    </a:lnTo>
                    <a:lnTo>
                      <a:pt x="6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6367040" y="9960120"/>
              <a:ext cx="371520" cy="112680"/>
              <a:chOff x="16367040" y="9960120"/>
              <a:chExt cx="371520" cy="112680"/>
            </a:xfrm>
          </p:grpSpPr>
          <p:sp>
            <p:nvSpPr>
              <p:cNvPr id="300" name=""/>
              <p:cNvSpPr/>
              <p:nvPr/>
            </p:nvSpPr>
            <p:spPr>
              <a:xfrm flipV="1">
                <a:off x="16367040" y="10015200"/>
                <a:ext cx="272880" cy="25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6632000" y="9960120"/>
                <a:ext cx="106560" cy="112680"/>
              </a:xfrm>
              <a:custGeom>
                <a:avLst/>
                <a:gdLst/>
                <a:ahLst/>
                <a:rect l="l" t="t" r="r" b="b"/>
                <a:pathLst>
                  <a:path w="67" h="71">
                    <a:moveTo>
                      <a:pt x="5" y="71"/>
                    </a:moveTo>
                    <a:lnTo>
                      <a:pt x="67" y="31"/>
                    </a:lnTo>
                    <a:lnTo>
                      <a:pt x="0" y="0"/>
                    </a:lnTo>
                    <a:lnTo>
                      <a:pt x="5" y="71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6373520" y="8972640"/>
              <a:ext cx="325440" cy="112680"/>
              <a:chOff x="16373520" y="8972640"/>
              <a:chExt cx="325440" cy="112680"/>
            </a:xfrm>
          </p:grpSpPr>
          <p:sp>
            <p:nvSpPr>
              <p:cNvPr id="303" name=""/>
              <p:cNvSpPr/>
              <p:nvPr/>
            </p:nvSpPr>
            <p:spPr>
              <a:xfrm>
                <a:off x="16373520" y="9028440"/>
                <a:ext cx="225720" cy="1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596000" y="8972640"/>
                <a:ext cx="102960" cy="1126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0" y="71"/>
                    </a:moveTo>
                    <a:lnTo>
                      <a:pt x="65" y="35"/>
                    </a:lnTo>
                    <a:lnTo>
                      <a:pt x="0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6373520" y="8361360"/>
              <a:ext cx="325440" cy="109440"/>
              <a:chOff x="16373520" y="8361360"/>
              <a:chExt cx="325440" cy="10944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16373520" y="8413560"/>
                <a:ext cx="227160" cy="36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589520" y="8361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9" y="69"/>
                    </a:moveTo>
                    <a:lnTo>
                      <a:pt x="69" y="24"/>
                    </a:lnTo>
                    <a:lnTo>
                      <a:pt x="0" y="0"/>
                    </a:lnTo>
                    <a:lnTo>
                      <a:pt x="9" y="69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7011800" y="8542440"/>
              <a:ext cx="102960" cy="342360"/>
              <a:chOff x="17011800" y="8542440"/>
              <a:chExt cx="102960" cy="342360"/>
            </a:xfrm>
          </p:grpSpPr>
          <p:sp>
            <p:nvSpPr>
              <p:cNvPr id="309" name=""/>
              <p:cNvSpPr/>
              <p:nvPr/>
            </p:nvSpPr>
            <p:spPr>
              <a:xfrm>
                <a:off x="17062200" y="8542440"/>
                <a:ext cx="1440" cy="2329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011800" y="8772480"/>
                <a:ext cx="10296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0" y="0"/>
                    </a:moveTo>
                    <a:lnTo>
                      <a:pt x="32" y="71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7030880" y="9174240"/>
              <a:ext cx="101520" cy="258840"/>
              <a:chOff x="17030880" y="9174240"/>
              <a:chExt cx="101520" cy="258840"/>
            </a:xfrm>
          </p:grpSpPr>
          <p:sp>
            <p:nvSpPr>
              <p:cNvPr id="312" name=""/>
              <p:cNvSpPr/>
              <p:nvPr/>
            </p:nvSpPr>
            <p:spPr>
              <a:xfrm flipH="1" flipV="1">
                <a:off x="17080200" y="9277560"/>
                <a:ext cx="22320" cy="1555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030880" y="9174240"/>
                <a:ext cx="101520" cy="119160"/>
              </a:xfrm>
              <a:custGeom>
                <a:avLst/>
                <a:gdLst/>
                <a:ahLst/>
                <a:rect l="l" t="t" r="r" b="b"/>
                <a:pathLst>
                  <a:path w="64" h="75">
                    <a:moveTo>
                      <a:pt x="64" y="64"/>
                    </a:moveTo>
                    <a:lnTo>
                      <a:pt x="20" y="0"/>
                    </a:lnTo>
                    <a:lnTo>
                      <a:pt x="0" y="75"/>
                    </a:lnTo>
                    <a:lnTo>
                      <a:pt x="64" y="64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7426160" y="9015480"/>
              <a:ext cx="577440" cy="250920"/>
              <a:chOff x="17426160" y="9015480"/>
              <a:chExt cx="577440" cy="250920"/>
            </a:xfrm>
          </p:grpSpPr>
          <p:sp>
            <p:nvSpPr>
              <p:cNvPr id="315" name=""/>
              <p:cNvSpPr/>
              <p:nvPr/>
            </p:nvSpPr>
            <p:spPr>
              <a:xfrm flipH="1" flipV="1">
                <a:off x="17517960" y="9066240"/>
                <a:ext cx="485640" cy="2001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426160" y="9015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74" y="0"/>
                    </a:moveTo>
                    <a:lnTo>
                      <a:pt x="0" y="8"/>
                    </a:lnTo>
                    <a:lnTo>
                      <a:pt x="50" y="6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7465760" y="9880560"/>
              <a:ext cx="304200" cy="126360"/>
              <a:chOff x="17465760" y="9880560"/>
              <a:chExt cx="304200" cy="12636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17465760" y="9930960"/>
                <a:ext cx="209160" cy="759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656200" y="9880560"/>
                <a:ext cx="113760" cy="10620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20" y="67"/>
                    </a:moveTo>
                    <a:lnTo>
                      <a:pt x="72" y="11"/>
                    </a:lnTo>
                    <a:lnTo>
                      <a:pt x="0" y="0"/>
                    </a:lnTo>
                    <a:lnTo>
                      <a:pt x="20" y="67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7102160" y="10026720"/>
              <a:ext cx="1031760" cy="414360"/>
              <a:chOff x="17102160" y="10026720"/>
              <a:chExt cx="1031760" cy="41436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17102160" y="10077480"/>
                <a:ext cx="939600" cy="3636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021240" y="10026720"/>
                <a:ext cx="112680" cy="106560"/>
              </a:xfrm>
              <a:custGeom>
                <a:avLst/>
                <a:gdLst/>
                <a:ahLst/>
                <a:rect l="l" t="t" r="r" b="b"/>
                <a:pathLst>
                  <a:path w="71" h="67">
                    <a:moveTo>
                      <a:pt x="21" y="67"/>
                    </a:moveTo>
                    <a:lnTo>
                      <a:pt x="71" y="9"/>
                    </a:lnTo>
                    <a:lnTo>
                      <a:pt x="0" y="0"/>
                    </a:lnTo>
                    <a:lnTo>
                      <a:pt x="21" y="67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087840" y="10040760"/>
              <a:ext cx="103320" cy="543960"/>
              <a:chOff x="18087840" y="10040760"/>
              <a:chExt cx="103320" cy="543960"/>
            </a:xfrm>
          </p:grpSpPr>
          <p:sp>
            <p:nvSpPr>
              <p:cNvPr id="324" name=""/>
              <p:cNvSpPr/>
              <p:nvPr/>
            </p:nvSpPr>
            <p:spPr>
              <a:xfrm flipH="1" flipV="1">
                <a:off x="18138600" y="10146600"/>
                <a:ext cx="15840" cy="4381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087840" y="10040760"/>
                <a:ext cx="103320" cy="11592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65" y="70"/>
                    </a:moveTo>
                    <a:lnTo>
                      <a:pt x="29" y="0"/>
                    </a:lnTo>
                    <a:lnTo>
                      <a:pt x="0" y="73"/>
                    </a:lnTo>
                    <a:lnTo>
                      <a:pt x="65" y="7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18015120" y="8570880"/>
              <a:ext cx="374040" cy="531720"/>
              <a:chOff x="18015120" y="8570880"/>
              <a:chExt cx="374040" cy="531720"/>
            </a:xfrm>
          </p:grpSpPr>
          <p:sp>
            <p:nvSpPr>
              <p:cNvPr id="327" name=""/>
              <p:cNvSpPr/>
              <p:nvPr/>
            </p:nvSpPr>
            <p:spPr>
              <a:xfrm>
                <a:off x="18015120" y="8570880"/>
                <a:ext cx="313920" cy="4460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284760" y="8976960"/>
                <a:ext cx="104400" cy="125640"/>
              </a:xfrm>
              <a:custGeom>
                <a:avLst/>
                <a:gdLst/>
                <a:ahLst/>
                <a:rect l="l" t="t" r="r" b="b"/>
                <a:pathLst>
                  <a:path w="66" h="79">
                    <a:moveTo>
                      <a:pt x="0" y="44"/>
                    </a:moveTo>
                    <a:lnTo>
                      <a:pt x="66" y="79"/>
                    </a:lnTo>
                    <a:lnTo>
                      <a:pt x="51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8003960" y="9266400"/>
              <a:ext cx="151920" cy="485640"/>
              <a:chOff x="18003960" y="9266400"/>
              <a:chExt cx="151920" cy="485640"/>
            </a:xfrm>
          </p:grpSpPr>
          <p:sp>
            <p:nvSpPr>
              <p:cNvPr id="330" name=""/>
              <p:cNvSpPr/>
              <p:nvPr/>
            </p:nvSpPr>
            <p:spPr>
              <a:xfrm>
                <a:off x="18003960" y="9266400"/>
                <a:ext cx="101160" cy="3808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056160" y="9626760"/>
                <a:ext cx="99720" cy="125280"/>
              </a:xfrm>
              <a:custGeom>
                <a:avLst/>
                <a:gdLst/>
                <a:ahLst/>
                <a:rect l="l" t="t" r="r" b="b"/>
                <a:pathLst>
                  <a:path w="63" h="79">
                    <a:moveTo>
                      <a:pt x="0" y="19"/>
                    </a:moveTo>
                    <a:lnTo>
                      <a:pt x="49" y="79"/>
                    </a:lnTo>
                    <a:lnTo>
                      <a:pt x="6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16457760" y="5735520"/>
              <a:ext cx="280080" cy="111240"/>
              <a:chOff x="16457760" y="5735520"/>
              <a:chExt cx="280080" cy="111240"/>
            </a:xfrm>
          </p:grpSpPr>
          <p:sp>
            <p:nvSpPr>
              <p:cNvPr id="333" name=""/>
              <p:cNvSpPr/>
              <p:nvPr/>
            </p:nvSpPr>
            <p:spPr>
              <a:xfrm flipH="1">
                <a:off x="16552440" y="5780160"/>
                <a:ext cx="1854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457760" y="5735520"/>
                <a:ext cx="104400" cy="111240"/>
              </a:xfrm>
              <a:custGeom>
                <a:avLst/>
                <a:gdLst/>
                <a:ahLst/>
                <a:rect l="l" t="t" r="r" b="b"/>
                <a:pathLst>
                  <a:path w="66" h="70">
                    <a:moveTo>
                      <a:pt x="63" y="0"/>
                    </a:moveTo>
                    <a:lnTo>
                      <a:pt x="0" y="39"/>
                    </a:lnTo>
                    <a:lnTo>
                      <a:pt x="66" y="7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7051400" y="5924520"/>
              <a:ext cx="102960" cy="125280"/>
              <a:chOff x="17051400" y="5924520"/>
              <a:chExt cx="102960" cy="125280"/>
            </a:xfrm>
          </p:grpSpPr>
          <p:sp>
            <p:nvSpPr>
              <p:cNvPr id="336" name=""/>
              <p:cNvSpPr/>
              <p:nvPr/>
            </p:nvSpPr>
            <p:spPr>
              <a:xfrm>
                <a:off x="17102160" y="5924520"/>
                <a:ext cx="1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051400" y="5938920"/>
                <a:ext cx="102960" cy="11088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2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7051400" y="6337440"/>
              <a:ext cx="102960" cy="166680"/>
              <a:chOff x="17051400" y="6337440"/>
              <a:chExt cx="102960" cy="166680"/>
            </a:xfrm>
          </p:grpSpPr>
          <p:sp>
            <p:nvSpPr>
              <p:cNvPr id="339" name=""/>
              <p:cNvSpPr/>
              <p:nvPr/>
            </p:nvSpPr>
            <p:spPr>
              <a:xfrm>
                <a:off x="17102160" y="6337440"/>
                <a:ext cx="10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51400" y="639288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2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7051400" y="6792840"/>
              <a:ext cx="102960" cy="249120"/>
              <a:chOff x="17051400" y="6792840"/>
              <a:chExt cx="102960" cy="249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17102160" y="6899040"/>
                <a:ext cx="108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051400" y="6792840"/>
                <a:ext cx="102960" cy="1126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71"/>
                    </a:moveTo>
                    <a:lnTo>
                      <a:pt x="32" y="0"/>
                    </a:lnTo>
                    <a:lnTo>
                      <a:pt x="0" y="71"/>
                    </a:lnTo>
                    <a:lnTo>
                      <a:pt x="65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6000560" y="7124760"/>
              <a:ext cx="102960" cy="372600"/>
              <a:chOff x="16000560" y="7124760"/>
              <a:chExt cx="102960" cy="372600"/>
            </a:xfrm>
          </p:grpSpPr>
          <p:sp>
            <p:nvSpPr>
              <p:cNvPr id="345" name=""/>
              <p:cNvSpPr/>
              <p:nvPr/>
            </p:nvSpPr>
            <p:spPr>
              <a:xfrm flipV="1">
                <a:off x="16050960" y="7230600"/>
                <a:ext cx="144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000560" y="7124760"/>
                <a:ext cx="102960" cy="1126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71"/>
                    </a:moveTo>
                    <a:lnTo>
                      <a:pt x="32" y="0"/>
                    </a:lnTo>
                    <a:lnTo>
                      <a:pt x="0" y="71"/>
                    </a:lnTo>
                    <a:lnTo>
                      <a:pt x="65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6414920" y="6765840"/>
              <a:ext cx="686880" cy="214560"/>
              <a:chOff x="16414920" y="6765840"/>
              <a:chExt cx="686880" cy="214560"/>
            </a:xfrm>
          </p:grpSpPr>
          <p:sp>
            <p:nvSpPr>
              <p:cNvPr id="348" name=""/>
              <p:cNvSpPr/>
              <p:nvPr/>
            </p:nvSpPr>
            <p:spPr>
              <a:xfrm flipV="1">
                <a:off x="16414920" y="6819840"/>
                <a:ext cx="591840" cy="16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990920" y="6765840"/>
                <a:ext cx="110880" cy="10980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15" y="69"/>
                    </a:moveTo>
                    <a:lnTo>
                      <a:pt x="70" y="17"/>
                    </a:lnTo>
                    <a:lnTo>
                      <a:pt x="0" y="0"/>
                    </a:lnTo>
                    <a:lnTo>
                      <a:pt x="15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6414920" y="6400800"/>
              <a:ext cx="323280" cy="249120"/>
              <a:chOff x="16414920" y="6400800"/>
              <a:chExt cx="323280" cy="249120"/>
            </a:xfrm>
          </p:grpSpPr>
          <p:sp>
            <p:nvSpPr>
              <p:cNvPr id="351" name=""/>
              <p:cNvSpPr/>
              <p:nvPr/>
            </p:nvSpPr>
            <p:spPr>
              <a:xfrm>
                <a:off x="16414920" y="6400800"/>
                <a:ext cx="24264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625880" y="653724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59"/>
                    </a:moveTo>
                    <a:lnTo>
                      <a:pt x="71" y="71"/>
                    </a:lnTo>
                    <a:lnTo>
                      <a:pt x="37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7465760" y="6168960"/>
              <a:ext cx="366120" cy="111240"/>
              <a:chOff x="17465760" y="6168960"/>
              <a:chExt cx="366120" cy="111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7465760" y="6192720"/>
                <a:ext cx="2664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722800" y="6168960"/>
                <a:ext cx="10908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0" y="70"/>
                    </a:moveTo>
                    <a:lnTo>
                      <a:pt x="69" y="42"/>
                    </a:lnTo>
                    <a:lnTo>
                      <a:pt x="7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17465760" y="6632640"/>
              <a:ext cx="345600" cy="139320"/>
              <a:chOff x="17465760" y="6632640"/>
              <a:chExt cx="345600" cy="139320"/>
            </a:xfrm>
          </p:grpSpPr>
          <p:sp>
            <p:nvSpPr>
              <p:cNvPr id="357" name=""/>
              <p:cNvSpPr/>
              <p:nvPr/>
            </p:nvSpPr>
            <p:spPr>
              <a:xfrm flipH="1" flipV="1">
                <a:off x="17559360" y="6683040"/>
                <a:ext cx="25200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465760" y="6632640"/>
                <a:ext cx="114120" cy="10620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72" y="0"/>
                    </a:moveTo>
                    <a:lnTo>
                      <a:pt x="0" y="11"/>
                    </a:lnTo>
                    <a:lnTo>
                      <a:pt x="52" y="6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8153000" y="6939000"/>
              <a:ext cx="102960" cy="474120"/>
              <a:chOff x="18153000" y="6939000"/>
              <a:chExt cx="102960" cy="474120"/>
            </a:xfrm>
          </p:grpSpPr>
          <p:sp>
            <p:nvSpPr>
              <p:cNvPr id="360" name=""/>
              <p:cNvSpPr/>
              <p:nvPr/>
            </p:nvSpPr>
            <p:spPr>
              <a:xfrm flipH="1" flipV="1">
                <a:off x="18203760" y="7044840"/>
                <a:ext cx="31680" cy="36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153000" y="6939000"/>
                <a:ext cx="102960" cy="117360"/>
              </a:xfrm>
              <a:custGeom>
                <a:avLst/>
                <a:gdLst/>
                <a:ahLst/>
                <a:rect l="l" t="t" r="r" b="b"/>
                <a:pathLst>
                  <a:path w="65" h="74">
                    <a:moveTo>
                      <a:pt x="65" y="67"/>
                    </a:moveTo>
                    <a:lnTo>
                      <a:pt x="27" y="0"/>
                    </a:lnTo>
                    <a:lnTo>
                      <a:pt x="0" y="74"/>
                    </a:lnTo>
                    <a:lnTo>
                      <a:pt x="65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8143640" y="6378480"/>
              <a:ext cx="102960" cy="228600"/>
              <a:chOff x="18143640" y="6378480"/>
              <a:chExt cx="102960" cy="228600"/>
            </a:xfrm>
          </p:grpSpPr>
          <p:sp>
            <p:nvSpPr>
              <p:cNvPr id="363" name=""/>
              <p:cNvSpPr/>
              <p:nvPr/>
            </p:nvSpPr>
            <p:spPr>
              <a:xfrm>
                <a:off x="18194040" y="6378480"/>
                <a:ext cx="144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143640" y="6496200"/>
                <a:ext cx="102960" cy="11088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3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8143640" y="5925960"/>
              <a:ext cx="102960" cy="167040"/>
              <a:chOff x="18143640" y="5925960"/>
              <a:chExt cx="102960" cy="167040"/>
            </a:xfrm>
          </p:grpSpPr>
          <p:sp>
            <p:nvSpPr>
              <p:cNvPr id="366" name=""/>
              <p:cNvSpPr/>
              <p:nvPr/>
            </p:nvSpPr>
            <p:spPr>
              <a:xfrm>
                <a:off x="18194040" y="5925960"/>
                <a:ext cx="1440" cy="5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143640" y="598176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3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8577080" y="6093000"/>
              <a:ext cx="148680" cy="679320"/>
              <a:chOff x="18577080" y="6093000"/>
              <a:chExt cx="148680" cy="679320"/>
            </a:xfrm>
          </p:grpSpPr>
          <p:sp>
            <p:nvSpPr>
              <p:cNvPr id="369" name=""/>
              <p:cNvSpPr/>
              <p:nvPr/>
            </p:nvSpPr>
            <p:spPr>
              <a:xfrm flipV="1">
                <a:off x="18577080" y="6197760"/>
                <a:ext cx="9828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8624240" y="6093000"/>
                <a:ext cx="101520" cy="12060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76"/>
                    </a:moveTo>
                    <a:lnTo>
                      <a:pt x="44" y="0"/>
                    </a:lnTo>
                    <a:lnTo>
                      <a:pt x="0" y="63"/>
                    </a:lnTo>
                    <a:lnTo>
                      <a:pt x="64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18369000" y="6353280"/>
              <a:ext cx="770040" cy="2748960"/>
              <a:chOff x="18369000" y="6353280"/>
              <a:chExt cx="770040" cy="2748960"/>
            </a:xfrm>
          </p:grpSpPr>
          <p:sp>
            <p:nvSpPr>
              <p:cNvPr id="372" name=""/>
              <p:cNvSpPr/>
              <p:nvPr/>
            </p:nvSpPr>
            <p:spPr>
              <a:xfrm flipH="1">
                <a:off x="18416880" y="6353280"/>
                <a:ext cx="722160" cy="264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369000" y="8976960"/>
                <a:ext cx="98640" cy="125280"/>
              </a:xfrm>
              <a:custGeom>
                <a:avLst/>
                <a:gdLst/>
                <a:ahLst/>
                <a:rect l="l" t="t" r="r" b="b"/>
                <a:pathLst>
                  <a:path w="62" h="79">
                    <a:moveTo>
                      <a:pt x="0" y="0"/>
                    </a:moveTo>
                    <a:lnTo>
                      <a:pt x="13" y="79"/>
                    </a:lnTo>
                    <a:lnTo>
                      <a:pt x="6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8967320" y="6353280"/>
              <a:ext cx="171000" cy="2045880"/>
              <a:chOff x="18967320" y="6353280"/>
              <a:chExt cx="171000" cy="2045880"/>
            </a:xfrm>
          </p:grpSpPr>
          <p:sp>
            <p:nvSpPr>
              <p:cNvPr id="375" name=""/>
              <p:cNvSpPr/>
              <p:nvPr/>
            </p:nvSpPr>
            <p:spPr>
              <a:xfrm flipH="1">
                <a:off x="19017720" y="6353280"/>
                <a:ext cx="120600" cy="19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967320" y="8283600"/>
                <a:ext cx="103320" cy="115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0" y="0"/>
                    </a:moveTo>
                    <a:lnTo>
                      <a:pt x="28" y="73"/>
                    </a:lnTo>
                    <a:lnTo>
                      <a:pt x="6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9573920" y="7040520"/>
              <a:ext cx="103320" cy="1936440"/>
              <a:chOff x="19573920" y="7040520"/>
              <a:chExt cx="103320" cy="1936440"/>
            </a:xfrm>
          </p:grpSpPr>
          <p:sp>
            <p:nvSpPr>
              <p:cNvPr id="378" name=""/>
              <p:cNvSpPr/>
              <p:nvPr/>
            </p:nvSpPr>
            <p:spPr>
              <a:xfrm>
                <a:off x="19624680" y="7040520"/>
                <a:ext cx="1440" cy="18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573920" y="8867880"/>
                <a:ext cx="103320" cy="10908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0" y="0"/>
                    </a:moveTo>
                    <a:lnTo>
                      <a:pt x="33" y="69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9340640" y="8593200"/>
              <a:ext cx="285120" cy="384120"/>
              <a:chOff x="19340640" y="8593200"/>
              <a:chExt cx="285120" cy="384120"/>
            </a:xfrm>
          </p:grpSpPr>
          <p:sp>
            <p:nvSpPr>
              <p:cNvPr id="381" name=""/>
              <p:cNvSpPr/>
              <p:nvPr/>
            </p:nvSpPr>
            <p:spPr>
              <a:xfrm>
                <a:off x="19340640" y="8593200"/>
                <a:ext cx="22392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520280" y="8856720"/>
                <a:ext cx="105480" cy="120600"/>
              </a:xfrm>
              <a:custGeom>
                <a:avLst/>
                <a:gdLst/>
                <a:ahLst/>
                <a:rect l="l" t="t" r="r" b="b"/>
                <a:pathLst>
                  <a:path w="67" h="76">
                    <a:moveTo>
                      <a:pt x="0" y="44"/>
                    </a:moveTo>
                    <a:lnTo>
                      <a:pt x="67" y="76"/>
                    </a:lnTo>
                    <a:lnTo>
                      <a:pt x="5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0073960" y="6829560"/>
              <a:ext cx="495360" cy="252360"/>
              <a:chOff x="20073960" y="6829560"/>
              <a:chExt cx="495360" cy="252360"/>
            </a:xfrm>
          </p:grpSpPr>
          <p:sp>
            <p:nvSpPr>
              <p:cNvPr id="384" name=""/>
              <p:cNvSpPr/>
              <p:nvPr/>
            </p:nvSpPr>
            <p:spPr>
              <a:xfrm flipH="1" flipV="1">
                <a:off x="20161080" y="6880320"/>
                <a:ext cx="408240" cy="201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073960" y="6829560"/>
                <a:ext cx="115920" cy="1047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73" y="0"/>
                    </a:moveTo>
                    <a:lnTo>
                      <a:pt x="0" y="4"/>
                    </a:lnTo>
                    <a:lnTo>
                      <a:pt x="45" y="6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9626120" y="7042320"/>
              <a:ext cx="447840" cy="485280"/>
              <a:chOff x="19626120" y="7042320"/>
              <a:chExt cx="447840" cy="485280"/>
            </a:xfrm>
          </p:grpSpPr>
          <p:sp>
            <p:nvSpPr>
              <p:cNvPr id="387" name=""/>
              <p:cNvSpPr/>
              <p:nvPr/>
            </p:nvSpPr>
            <p:spPr>
              <a:xfrm flipH="1" flipV="1">
                <a:off x="19693080" y="7114680"/>
                <a:ext cx="38088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626120" y="7042320"/>
                <a:ext cx="108000" cy="11736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68" y="25"/>
                    </a:moveTo>
                    <a:lnTo>
                      <a:pt x="0" y="0"/>
                    </a:lnTo>
                    <a:lnTo>
                      <a:pt x="22" y="74"/>
                    </a:lnTo>
                    <a:lnTo>
                      <a:pt x="6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915200" y="7886880"/>
              <a:ext cx="158760" cy="2963160"/>
              <a:chOff x="19915200" y="7886880"/>
              <a:chExt cx="158760" cy="2963160"/>
            </a:xfrm>
          </p:grpSpPr>
          <p:sp>
            <p:nvSpPr>
              <p:cNvPr id="390" name=""/>
              <p:cNvSpPr/>
              <p:nvPr/>
            </p:nvSpPr>
            <p:spPr>
              <a:xfrm flipH="1">
                <a:off x="19965960" y="7886880"/>
                <a:ext cx="108000" cy="28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915200" y="10734480"/>
                <a:ext cx="103320" cy="115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0" y="0"/>
                    </a:moveTo>
                    <a:lnTo>
                      <a:pt x="30" y="73"/>
                    </a:lnTo>
                    <a:lnTo>
                      <a:pt x="6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19940760" y="9172440"/>
              <a:ext cx="838080" cy="1789200"/>
              <a:chOff x="19940760" y="9172440"/>
              <a:chExt cx="838080" cy="1789200"/>
            </a:xfrm>
          </p:grpSpPr>
          <p:sp>
            <p:nvSpPr>
              <p:cNvPr id="393" name=""/>
              <p:cNvSpPr/>
              <p:nvPr/>
            </p:nvSpPr>
            <p:spPr>
              <a:xfrm>
                <a:off x="19940760" y="9172440"/>
                <a:ext cx="793440" cy="16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685240" y="10834560"/>
                <a:ext cx="93600" cy="127080"/>
              </a:xfrm>
              <a:custGeom>
                <a:avLst/>
                <a:gdLst/>
                <a:ahLst/>
                <a:rect l="l" t="t" r="r" b="b"/>
                <a:pathLst>
                  <a:path w="59" h="80">
                    <a:moveTo>
                      <a:pt x="0" y="32"/>
                    </a:moveTo>
                    <a:lnTo>
                      <a:pt x="59" y="80"/>
                    </a:lnTo>
                    <a:lnTo>
                      <a:pt x="5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19011960" y="8786880"/>
              <a:ext cx="950400" cy="2063160"/>
              <a:chOff x="19011960" y="8786880"/>
              <a:chExt cx="950400" cy="2063160"/>
            </a:xfrm>
          </p:grpSpPr>
          <p:sp>
            <p:nvSpPr>
              <p:cNvPr id="396" name=""/>
              <p:cNvSpPr/>
              <p:nvPr/>
            </p:nvSpPr>
            <p:spPr>
              <a:xfrm>
                <a:off x="19011960" y="8786880"/>
                <a:ext cx="906480" cy="19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869120" y="10723320"/>
                <a:ext cx="93240" cy="126720"/>
              </a:xfrm>
              <a:custGeom>
                <a:avLst/>
                <a:gdLst/>
                <a:ahLst/>
                <a:rect l="l" t="t" r="r" b="b"/>
                <a:pathLst>
                  <a:path w="59" h="80">
                    <a:moveTo>
                      <a:pt x="0" y="33"/>
                    </a:moveTo>
                    <a:lnTo>
                      <a:pt x="59" y="80"/>
                    </a:lnTo>
                    <a:lnTo>
                      <a:pt x="58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1159720" y="10363320"/>
              <a:ext cx="1270080" cy="429840"/>
              <a:chOff x="21159720" y="10363320"/>
              <a:chExt cx="1270080" cy="429840"/>
            </a:xfrm>
          </p:grpSpPr>
          <p:sp>
            <p:nvSpPr>
              <p:cNvPr id="399" name=""/>
              <p:cNvSpPr/>
              <p:nvPr/>
            </p:nvSpPr>
            <p:spPr>
              <a:xfrm flipV="1">
                <a:off x="21159720" y="10415520"/>
                <a:ext cx="1176480" cy="377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317120" y="1036332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18" y="68"/>
                    </a:moveTo>
                    <a:lnTo>
                      <a:pt x="71" y="13"/>
                    </a:lnTo>
                    <a:lnTo>
                      <a:pt x="0" y="0"/>
                    </a:lnTo>
                    <a:lnTo>
                      <a:pt x="18" y="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1545640" y="10936440"/>
              <a:ext cx="910800" cy="313920"/>
              <a:chOff x="21545640" y="10936440"/>
              <a:chExt cx="910800" cy="313920"/>
            </a:xfrm>
          </p:grpSpPr>
          <p:sp>
            <p:nvSpPr>
              <p:cNvPr id="402" name=""/>
              <p:cNvSpPr/>
              <p:nvPr/>
            </p:nvSpPr>
            <p:spPr>
              <a:xfrm flipH="1" flipV="1">
                <a:off x="21638880" y="10990080"/>
                <a:ext cx="817560" cy="260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545640" y="1093644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71" y="0"/>
                    </a:moveTo>
                    <a:lnTo>
                      <a:pt x="0" y="16"/>
                    </a:lnTo>
                    <a:lnTo>
                      <a:pt x="53" y="6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2448880" y="5211720"/>
              <a:ext cx="971640" cy="6038640"/>
              <a:chOff x="22448880" y="5211720"/>
              <a:chExt cx="971640" cy="6038640"/>
            </a:xfrm>
          </p:grpSpPr>
          <p:sp>
            <p:nvSpPr>
              <p:cNvPr id="405" name=""/>
              <p:cNvSpPr/>
              <p:nvPr/>
            </p:nvSpPr>
            <p:spPr>
              <a:xfrm>
                <a:off x="22547160" y="5266800"/>
                <a:ext cx="873360" cy="5983560"/>
              </a:xfrm>
              <a:custGeom>
                <a:avLst/>
                <a:gdLst/>
                <a:ahLst/>
                <a:rect l="l" t="t" r="r" b="b"/>
                <a:pathLst>
                  <a:path w="550" h="3770">
                    <a:moveTo>
                      <a:pt x="401" y="3770"/>
                    </a:moveTo>
                    <a:lnTo>
                      <a:pt x="550" y="3770"/>
                    </a:lnTo>
                    <a:lnTo>
                      <a:pt x="55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448880" y="5211720"/>
                <a:ext cx="10332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0"/>
                    </a:moveTo>
                    <a:lnTo>
                      <a:pt x="0" y="36"/>
                    </a:lnTo>
                    <a:lnTo>
                      <a:pt x="65" y="7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2448880" y="5267160"/>
              <a:ext cx="942840" cy="5173560"/>
              <a:chOff x="22448880" y="5267160"/>
              <a:chExt cx="942840" cy="5173560"/>
            </a:xfrm>
          </p:grpSpPr>
          <p:sp>
            <p:nvSpPr>
              <p:cNvPr id="408" name=""/>
              <p:cNvSpPr/>
              <p:nvPr/>
            </p:nvSpPr>
            <p:spPr>
              <a:xfrm>
                <a:off x="22448880" y="5267160"/>
                <a:ext cx="942840" cy="5116680"/>
              </a:xfrm>
              <a:custGeom>
                <a:avLst/>
                <a:gdLst/>
                <a:ahLst/>
                <a:rect l="l" t="t" r="r" b="b"/>
                <a:pathLst>
                  <a:path w="594" h="3224">
                    <a:moveTo>
                      <a:pt x="0" y="0"/>
                    </a:moveTo>
                    <a:lnTo>
                      <a:pt x="594" y="0"/>
                    </a:lnTo>
                    <a:lnTo>
                      <a:pt x="594" y="3224"/>
                    </a:lnTo>
                    <a:lnTo>
                      <a:pt x="508" y="3224"/>
                    </a:ln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157000" y="10328400"/>
                <a:ext cx="10296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0"/>
                    </a:moveTo>
                    <a:lnTo>
                      <a:pt x="0" y="35"/>
                    </a:lnTo>
                    <a:lnTo>
                      <a:pt x="65" y="7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2747320" y="10530000"/>
              <a:ext cx="103320" cy="574200"/>
              <a:chOff x="22747320" y="10530000"/>
              <a:chExt cx="103320" cy="574200"/>
            </a:xfrm>
          </p:grpSpPr>
          <p:sp>
            <p:nvSpPr>
              <p:cNvPr id="411" name=""/>
              <p:cNvSpPr/>
              <p:nvPr/>
            </p:nvSpPr>
            <p:spPr>
              <a:xfrm flipH="1" flipV="1">
                <a:off x="22798080" y="10634400"/>
                <a:ext cx="22320" cy="4698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747320" y="10530000"/>
                <a:ext cx="103320" cy="114480"/>
              </a:xfrm>
              <a:custGeom>
                <a:avLst/>
                <a:gdLst/>
                <a:ahLst/>
                <a:rect l="l" t="t" r="r" b="b"/>
                <a:pathLst>
                  <a:path w="65" h="72">
                    <a:moveTo>
                      <a:pt x="65" y="68"/>
                    </a:moveTo>
                    <a:lnTo>
                      <a:pt x="29" y="0"/>
                    </a:lnTo>
                    <a:lnTo>
                      <a:pt x="0" y="72"/>
                    </a:lnTo>
                    <a:lnTo>
                      <a:pt x="65" y="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0518560" y="6256440"/>
              <a:ext cx="102960" cy="825480"/>
              <a:chOff x="20518560" y="6256440"/>
              <a:chExt cx="102960" cy="825480"/>
            </a:xfrm>
          </p:grpSpPr>
          <p:sp>
            <p:nvSpPr>
              <p:cNvPr id="414" name=""/>
              <p:cNvSpPr/>
              <p:nvPr/>
            </p:nvSpPr>
            <p:spPr>
              <a:xfrm>
                <a:off x="20569320" y="6256440"/>
                <a:ext cx="1440" cy="717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518560" y="697068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2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0568960" y="6111720"/>
              <a:ext cx="551160" cy="970200"/>
              <a:chOff x="20568960" y="6111720"/>
              <a:chExt cx="551160" cy="97020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20568960" y="6202440"/>
                <a:ext cx="500040" cy="879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1021840" y="6111720"/>
                <a:ext cx="98280" cy="125640"/>
              </a:xfrm>
              <a:custGeom>
                <a:avLst/>
                <a:gdLst/>
                <a:ahLst/>
                <a:rect l="l" t="t" r="r" b="b"/>
                <a:pathLst>
                  <a:path w="62" h="79">
                    <a:moveTo>
                      <a:pt x="55" y="79"/>
                    </a:moveTo>
                    <a:lnTo>
                      <a:pt x="62" y="0"/>
                    </a:lnTo>
                    <a:lnTo>
                      <a:pt x="0" y="41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1523320" y="6307200"/>
              <a:ext cx="96840" cy="237960"/>
              <a:chOff x="21523320" y="6307200"/>
              <a:chExt cx="96840" cy="23796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21523320" y="6405480"/>
                <a:ext cx="47520" cy="139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1523320" y="6307200"/>
                <a:ext cx="96840" cy="125280"/>
              </a:xfrm>
              <a:custGeom>
                <a:avLst/>
                <a:gdLst/>
                <a:ahLst/>
                <a:rect l="l" t="t" r="r" b="b"/>
                <a:pathLst>
                  <a:path w="61" h="79">
                    <a:moveTo>
                      <a:pt x="61" y="79"/>
                    </a:moveTo>
                    <a:lnTo>
                      <a:pt x="53" y="0"/>
                    </a:lnTo>
                    <a:lnTo>
                      <a:pt x="0" y="53"/>
                    </a:lnTo>
                    <a:lnTo>
                      <a:pt x="61" y="7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21521880" y="6835680"/>
              <a:ext cx="98280" cy="246240"/>
              <a:chOff x="21521880" y="6835680"/>
              <a:chExt cx="98280" cy="246240"/>
            </a:xfrm>
          </p:grpSpPr>
          <p:sp>
            <p:nvSpPr>
              <p:cNvPr id="423" name=""/>
              <p:cNvSpPr/>
              <p:nvPr/>
            </p:nvSpPr>
            <p:spPr>
              <a:xfrm>
                <a:off x="21523320" y="6835680"/>
                <a:ext cx="47520" cy="1461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1521880" y="6958080"/>
                <a:ext cx="98280" cy="123840"/>
              </a:xfrm>
              <a:custGeom>
                <a:avLst/>
                <a:gdLst/>
                <a:ahLst/>
                <a:rect l="l" t="t" r="r" b="b"/>
                <a:pathLst>
                  <a:path w="62" h="78">
                    <a:moveTo>
                      <a:pt x="0" y="24"/>
                    </a:moveTo>
                    <a:lnTo>
                      <a:pt x="54" y="78"/>
                    </a:lnTo>
                    <a:lnTo>
                      <a:pt x="62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1607560" y="6305400"/>
              <a:ext cx="1090440" cy="758880"/>
              <a:chOff x="21607560" y="6305400"/>
              <a:chExt cx="1090440" cy="758880"/>
            </a:xfrm>
          </p:grpSpPr>
          <p:sp>
            <p:nvSpPr>
              <p:cNvPr id="426" name=""/>
              <p:cNvSpPr/>
              <p:nvPr/>
            </p:nvSpPr>
            <p:spPr>
              <a:xfrm>
                <a:off x="21607560" y="6305400"/>
                <a:ext cx="1008000" cy="7020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583880" y="6954840"/>
                <a:ext cx="114120" cy="10944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60"/>
                    </a:moveTo>
                    <a:lnTo>
                      <a:pt x="72" y="69"/>
                    </a:lnTo>
                    <a:lnTo>
                      <a:pt x="35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2647240" y="6378480"/>
              <a:ext cx="103320" cy="685800"/>
              <a:chOff x="22647240" y="6378480"/>
              <a:chExt cx="103320" cy="685800"/>
            </a:xfrm>
          </p:grpSpPr>
          <p:sp>
            <p:nvSpPr>
              <p:cNvPr id="429" name=""/>
              <p:cNvSpPr/>
              <p:nvPr/>
            </p:nvSpPr>
            <p:spPr>
              <a:xfrm>
                <a:off x="22698000" y="6378480"/>
                <a:ext cx="1800" cy="5763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2647240" y="6951600"/>
                <a:ext cx="103320" cy="1126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0" y="0"/>
                    </a:moveTo>
                    <a:lnTo>
                      <a:pt x="32" y="71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0952000" y="7180200"/>
              <a:ext cx="291960" cy="111240"/>
              <a:chOff x="20952000" y="7180200"/>
              <a:chExt cx="291960" cy="111240"/>
            </a:xfrm>
          </p:grpSpPr>
          <p:sp>
            <p:nvSpPr>
              <p:cNvPr id="432" name=""/>
              <p:cNvSpPr/>
              <p:nvPr/>
            </p:nvSpPr>
            <p:spPr>
              <a:xfrm flipV="1">
                <a:off x="20952000" y="7234200"/>
                <a:ext cx="191880" cy="144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1137400" y="7180200"/>
                <a:ext cx="106560" cy="11124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4" y="70"/>
                    </a:moveTo>
                    <a:lnTo>
                      <a:pt x="67" y="30"/>
                    </a:lnTo>
                    <a:lnTo>
                      <a:pt x="0" y="0"/>
                    </a:lnTo>
                    <a:lnTo>
                      <a:pt x="4" y="7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1969360" y="7156440"/>
              <a:ext cx="365040" cy="112680"/>
              <a:chOff x="21969360" y="7156440"/>
              <a:chExt cx="365040" cy="11268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21969360" y="7211880"/>
                <a:ext cx="265320" cy="15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228200" y="7156440"/>
                <a:ext cx="106200" cy="112680"/>
              </a:xfrm>
              <a:custGeom>
                <a:avLst/>
                <a:gdLst/>
                <a:ahLst/>
                <a:rect l="l" t="t" r="r" b="b"/>
                <a:pathLst>
                  <a:path w="67" h="71">
                    <a:moveTo>
                      <a:pt x="3" y="71"/>
                    </a:moveTo>
                    <a:lnTo>
                      <a:pt x="67" y="31"/>
                    </a:lnTo>
                    <a:lnTo>
                      <a:pt x="0" y="0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0736000" y="8218440"/>
              <a:ext cx="341280" cy="331560"/>
              <a:chOff x="20736000" y="8218440"/>
              <a:chExt cx="341280" cy="331560"/>
            </a:xfrm>
          </p:grpSpPr>
          <p:sp>
            <p:nvSpPr>
              <p:cNvPr id="438" name=""/>
              <p:cNvSpPr/>
              <p:nvPr/>
            </p:nvSpPr>
            <p:spPr>
              <a:xfrm>
                <a:off x="20736000" y="8218440"/>
                <a:ext cx="268200" cy="261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967840" y="843408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69" h="73">
                    <a:moveTo>
                      <a:pt x="0" y="52"/>
                    </a:moveTo>
                    <a:lnTo>
                      <a:pt x="69" y="73"/>
                    </a:lnTo>
                    <a:lnTo>
                      <a:pt x="42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1077280" y="8346960"/>
              <a:ext cx="506520" cy="202680"/>
              <a:chOff x="21077280" y="8346960"/>
              <a:chExt cx="506520" cy="202680"/>
            </a:xfrm>
          </p:grpSpPr>
          <p:sp>
            <p:nvSpPr>
              <p:cNvPr id="441" name=""/>
              <p:cNvSpPr/>
              <p:nvPr/>
            </p:nvSpPr>
            <p:spPr>
              <a:xfrm flipV="1">
                <a:off x="21077280" y="8397360"/>
                <a:ext cx="4125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1469320" y="8346960"/>
                <a:ext cx="114480" cy="10620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21" y="67"/>
                    </a:moveTo>
                    <a:lnTo>
                      <a:pt x="72" y="11"/>
                    </a:lnTo>
                    <a:lnTo>
                      <a:pt x="0" y="0"/>
                    </a:lnTo>
                    <a:lnTo>
                      <a:pt x="21" y="6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1313800" y="7707240"/>
              <a:ext cx="635040" cy="510840"/>
              <a:chOff x="21313800" y="7707240"/>
              <a:chExt cx="635040" cy="510840"/>
            </a:xfrm>
          </p:grpSpPr>
          <p:sp>
            <p:nvSpPr>
              <p:cNvPr id="444" name=""/>
              <p:cNvSpPr/>
              <p:nvPr/>
            </p:nvSpPr>
            <p:spPr>
              <a:xfrm>
                <a:off x="21313800" y="7707240"/>
                <a:ext cx="554040" cy="447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832920" y="8107560"/>
                <a:ext cx="115920" cy="110520"/>
              </a:xfrm>
              <a:custGeom>
                <a:avLst/>
                <a:gdLst/>
                <a:ahLst/>
                <a:rect l="l" t="t" r="r" b="b"/>
                <a:pathLst>
                  <a:path w="73" h="70">
                    <a:moveTo>
                      <a:pt x="0" y="56"/>
                    </a:moveTo>
                    <a:lnTo>
                      <a:pt x="73" y="70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902760" y="7851600"/>
              <a:ext cx="103320" cy="366480"/>
              <a:chOff x="21902760" y="7851600"/>
              <a:chExt cx="103320" cy="366480"/>
            </a:xfrm>
          </p:grpSpPr>
          <p:sp>
            <p:nvSpPr>
              <p:cNvPr id="447" name=""/>
              <p:cNvSpPr/>
              <p:nvPr/>
            </p:nvSpPr>
            <p:spPr>
              <a:xfrm flipH="1">
                <a:off x="21953520" y="7851600"/>
                <a:ext cx="15840" cy="259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1902760" y="8104320"/>
                <a:ext cx="103320" cy="113760"/>
              </a:xfrm>
              <a:custGeom>
                <a:avLst/>
                <a:gdLst/>
                <a:ahLst/>
                <a:rect l="l" t="t" r="r" b="b"/>
                <a:pathLst>
                  <a:path w="65" h="72">
                    <a:moveTo>
                      <a:pt x="0" y="0"/>
                    </a:moveTo>
                    <a:lnTo>
                      <a:pt x="29" y="72"/>
                    </a:lnTo>
                    <a:lnTo>
                      <a:pt x="6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21462840" y="9266400"/>
              <a:ext cx="508320" cy="171360"/>
              <a:chOff x="21462840" y="9266400"/>
              <a:chExt cx="508320" cy="17136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21462840" y="9320400"/>
                <a:ext cx="411480" cy="117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1858120" y="9266400"/>
                <a:ext cx="113040" cy="10944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16" y="69"/>
                    </a:moveTo>
                    <a:lnTo>
                      <a:pt x="71" y="16"/>
                    </a:lnTo>
                    <a:lnTo>
                      <a:pt x="0" y="0"/>
                    </a:lnTo>
                    <a:lnTo>
                      <a:pt x="16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0073960" y="7888320"/>
              <a:ext cx="617040" cy="826200"/>
              <a:chOff x="20073960" y="7888320"/>
              <a:chExt cx="617040" cy="826200"/>
            </a:xfrm>
          </p:grpSpPr>
          <p:sp>
            <p:nvSpPr>
              <p:cNvPr id="453" name=""/>
              <p:cNvSpPr/>
              <p:nvPr/>
            </p:nvSpPr>
            <p:spPr>
              <a:xfrm flipH="1" flipV="1">
                <a:off x="20135520" y="7966800"/>
                <a:ext cx="555480" cy="74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0073960" y="7888320"/>
                <a:ext cx="106200" cy="120240"/>
              </a:xfrm>
              <a:custGeom>
                <a:avLst/>
                <a:gdLst/>
                <a:ahLst/>
                <a:rect l="l" t="t" r="r" b="b"/>
                <a:pathLst>
                  <a:path w="67" h="76">
                    <a:moveTo>
                      <a:pt x="67" y="32"/>
                    </a:moveTo>
                    <a:lnTo>
                      <a:pt x="0" y="0"/>
                    </a:lnTo>
                    <a:lnTo>
                      <a:pt x="17" y="76"/>
                    </a:lnTo>
                    <a:lnTo>
                      <a:pt x="6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21901320" y="8507520"/>
              <a:ext cx="102960" cy="495360"/>
              <a:chOff x="21901320" y="8507520"/>
              <a:chExt cx="102960" cy="495360"/>
            </a:xfrm>
          </p:grpSpPr>
          <p:sp>
            <p:nvSpPr>
              <p:cNvPr id="456" name=""/>
              <p:cNvSpPr/>
              <p:nvPr/>
            </p:nvSpPr>
            <p:spPr>
              <a:xfrm flipH="1" flipV="1">
                <a:off x="21952080" y="8614080"/>
                <a:ext cx="17280" cy="388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901320" y="8507520"/>
                <a:ext cx="102960" cy="11592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65" y="69"/>
                    </a:moveTo>
                    <a:lnTo>
                      <a:pt x="30" y="0"/>
                    </a:lnTo>
                    <a:lnTo>
                      <a:pt x="0" y="73"/>
                    </a:lnTo>
                    <a:lnTo>
                      <a:pt x="65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1948840" y="8507520"/>
              <a:ext cx="976320" cy="569520"/>
              <a:chOff x="21948840" y="8507520"/>
              <a:chExt cx="976320" cy="569520"/>
            </a:xfrm>
          </p:grpSpPr>
          <p:sp>
            <p:nvSpPr>
              <p:cNvPr id="459" name=""/>
              <p:cNvSpPr/>
              <p:nvPr/>
            </p:nvSpPr>
            <p:spPr>
              <a:xfrm flipH="1" flipV="1">
                <a:off x="22033080" y="8554680"/>
                <a:ext cx="892080" cy="52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948840" y="8507520"/>
                <a:ext cx="114120" cy="103320"/>
              </a:xfrm>
              <a:custGeom>
                <a:avLst/>
                <a:gdLst/>
                <a:ahLst/>
                <a:rect l="l" t="t" r="r" b="b"/>
                <a:pathLst>
                  <a:path w="72" h="65">
                    <a:moveTo>
                      <a:pt x="72" y="2"/>
                    </a:moveTo>
                    <a:lnTo>
                      <a:pt x="0" y="0"/>
                    </a:lnTo>
                    <a:lnTo>
                      <a:pt x="42" y="65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2874400" y="8508960"/>
              <a:ext cx="102960" cy="568080"/>
              <a:chOff x="22874400" y="8508960"/>
              <a:chExt cx="102960" cy="568080"/>
            </a:xfrm>
          </p:grpSpPr>
          <p:sp>
            <p:nvSpPr>
              <p:cNvPr id="462" name=""/>
              <p:cNvSpPr/>
              <p:nvPr/>
            </p:nvSpPr>
            <p:spPr>
              <a:xfrm>
                <a:off x="22925160" y="8508960"/>
                <a:ext cx="1440" cy="461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2874400" y="8967600"/>
                <a:ext cx="102960" cy="10944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0" y="0"/>
                    </a:moveTo>
                    <a:lnTo>
                      <a:pt x="33" y="69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2855320" y="7931160"/>
              <a:ext cx="102960" cy="286920"/>
              <a:chOff x="22855320" y="7931160"/>
              <a:chExt cx="102960" cy="286920"/>
            </a:xfrm>
          </p:grpSpPr>
          <p:sp>
            <p:nvSpPr>
              <p:cNvPr id="465" name=""/>
              <p:cNvSpPr/>
              <p:nvPr/>
            </p:nvSpPr>
            <p:spPr>
              <a:xfrm flipH="1" flipV="1">
                <a:off x="22905720" y="8036640"/>
                <a:ext cx="19080" cy="18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55320" y="7931160"/>
                <a:ext cx="102960" cy="118080"/>
              </a:xfrm>
              <a:custGeom>
                <a:avLst/>
                <a:gdLst/>
                <a:ahLst/>
                <a:rect l="l" t="t" r="r" b="b"/>
                <a:pathLst>
                  <a:path w="65" h="75">
                    <a:moveTo>
                      <a:pt x="65" y="67"/>
                    </a:moveTo>
                    <a:lnTo>
                      <a:pt x="25" y="0"/>
                    </a:lnTo>
                    <a:lnTo>
                      <a:pt x="0" y="75"/>
                    </a:lnTo>
                    <a:lnTo>
                      <a:pt x="65" y="6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18456120" y="4635360"/>
              <a:ext cx="2175120" cy="3398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585000" y="4700520"/>
              <a:ext cx="224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MENIK GANGA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255720" y="11128320"/>
              <a:ext cx="8622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275880" y="11177640"/>
              <a:ext cx="81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 Unicode MS"/>
                </a:rPr>
                <a:t>Figur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936760" y="4495680"/>
              <a:ext cx="8883720" cy="7191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308600" y="8977320"/>
              <a:ext cx="633600" cy="390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355760" y="9059760"/>
              <a:ext cx="55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audal pa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uso ru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583280" y="10848960"/>
              <a:ext cx="758880" cy="390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689840" y="10895040"/>
              <a:ext cx="54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au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Katerag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204280" y="7102440"/>
              <a:ext cx="730080" cy="293760"/>
            </a:xfrm>
            <a:prstGeom prst="rect">
              <a:avLst/>
            </a:prstGeom>
            <a:solidFill>
              <a:srgbClr val="ccffcc"/>
            </a:solidFill>
            <a:ln w="39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192040" y="7118280"/>
              <a:ext cx="73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bastec Munc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674000" y="7527960"/>
              <a:ext cx="803160" cy="36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800360" y="7575480"/>
              <a:ext cx="51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audal t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680040" y="8397720"/>
              <a:ext cx="662040" cy="390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745920" y="8456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audal tra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finc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176840" y="6477120"/>
              <a:ext cx="897120" cy="565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84200" y="6553080"/>
              <a:ext cx="515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audal t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(detallad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830800" y="6091200"/>
              <a:ext cx="728640" cy="289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958960" y="6103800"/>
              <a:ext cx="45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stado d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cequ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30800" y="5635800"/>
              <a:ext cx="728640" cy="291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859600" y="5667480"/>
              <a:ext cx="6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Manten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 acequ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870400" y="7413480"/>
              <a:ext cx="731880" cy="292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938800" y="7423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ontrol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830800" y="6627960"/>
              <a:ext cx="728640" cy="291960"/>
            </a:xfrm>
            <a:prstGeom prst="rect">
              <a:avLst/>
            </a:prstGeom>
            <a:solidFill>
              <a:srgbClr val="ffff99"/>
            </a:solidFill>
            <a:ln w="39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868960" y="6629400"/>
              <a:ext cx="63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para 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729120" y="565164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825960" y="567072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salo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gricult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38560" y="604836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796160" y="606096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ileg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38560" y="5635800"/>
              <a:ext cx="728640" cy="290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790040" y="5649840"/>
              <a:ext cx="65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umplimien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 la l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738560" y="650412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840800" y="6508800"/>
              <a:ext cx="46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gua pa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687720" y="625644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799320" y="6340320"/>
              <a:ext cx="45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rrozales</a:t>
              </a: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738560" y="704232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801200" y="705492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evest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 canales</a:t>
              </a: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687720" y="749772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751800" y="751032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onstr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 depósi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687720" y="6835680"/>
              <a:ext cx="728640" cy="290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694200" y="6848640"/>
              <a:ext cx="74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lmacena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superfic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679960" y="7081920"/>
              <a:ext cx="1143000" cy="164880"/>
            </a:xfrm>
            <a:custGeom>
              <a:avLst/>
              <a:gdLst/>
              <a:ahLst/>
              <a:rect l="l" t="t" r="r" b="b"/>
              <a:pathLst>
                <a:path w="561" h="104">
                  <a:moveTo>
                    <a:pt x="91" y="0"/>
                  </a:moveTo>
                  <a:lnTo>
                    <a:pt x="73" y="1"/>
                  </a:lnTo>
                  <a:lnTo>
                    <a:pt x="56" y="4"/>
                  </a:lnTo>
                  <a:lnTo>
                    <a:pt x="41" y="9"/>
                  </a:lnTo>
                  <a:lnTo>
                    <a:pt x="27" y="16"/>
                  </a:lnTo>
                  <a:lnTo>
                    <a:pt x="16" y="22"/>
                  </a:lnTo>
                  <a:lnTo>
                    <a:pt x="8" y="31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2" y="63"/>
                  </a:lnTo>
                  <a:lnTo>
                    <a:pt x="8" y="72"/>
                  </a:lnTo>
                  <a:lnTo>
                    <a:pt x="16" y="81"/>
                  </a:lnTo>
                  <a:lnTo>
                    <a:pt x="27" y="89"/>
                  </a:lnTo>
                  <a:lnTo>
                    <a:pt x="41" y="95"/>
                  </a:lnTo>
                  <a:lnTo>
                    <a:pt x="56" y="100"/>
                  </a:lnTo>
                  <a:lnTo>
                    <a:pt x="73" y="103"/>
                  </a:lnTo>
                  <a:lnTo>
                    <a:pt x="91" y="104"/>
                  </a:lnTo>
                  <a:lnTo>
                    <a:pt x="471" y="104"/>
                  </a:lnTo>
                  <a:lnTo>
                    <a:pt x="489" y="103"/>
                  </a:lnTo>
                  <a:lnTo>
                    <a:pt x="506" y="100"/>
                  </a:lnTo>
                  <a:lnTo>
                    <a:pt x="521" y="95"/>
                  </a:lnTo>
                  <a:lnTo>
                    <a:pt x="535" y="89"/>
                  </a:lnTo>
                  <a:lnTo>
                    <a:pt x="546" y="81"/>
                  </a:lnTo>
                  <a:lnTo>
                    <a:pt x="554" y="72"/>
                  </a:lnTo>
                  <a:lnTo>
                    <a:pt x="559" y="63"/>
                  </a:lnTo>
                  <a:lnTo>
                    <a:pt x="561" y="52"/>
                  </a:lnTo>
                  <a:lnTo>
                    <a:pt x="559" y="41"/>
                  </a:lnTo>
                  <a:lnTo>
                    <a:pt x="554" y="31"/>
                  </a:lnTo>
                  <a:lnTo>
                    <a:pt x="546" y="22"/>
                  </a:lnTo>
                  <a:lnTo>
                    <a:pt x="535" y="16"/>
                  </a:lnTo>
                  <a:lnTo>
                    <a:pt x="521" y="9"/>
                  </a:lnTo>
                  <a:lnTo>
                    <a:pt x="506" y="4"/>
                  </a:lnTo>
                  <a:lnTo>
                    <a:pt x="489" y="1"/>
                  </a:lnTo>
                  <a:lnTo>
                    <a:pt x="47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596080" y="7122960"/>
              <a:ext cx="1283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 Unicode MS"/>
                </a:rPr>
                <a:t>Aguas arriba de las fincas de azúca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694440" y="5827680"/>
              <a:ext cx="890640" cy="5288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820080" y="5891040"/>
              <a:ext cx="651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aud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tras 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(aguas arrib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024480" y="9121680"/>
              <a:ext cx="728640" cy="290520"/>
            </a:xfrm>
            <a:prstGeom prst="rect">
              <a:avLst/>
            </a:prstGeom>
            <a:solidFill>
              <a:srgbClr val="ffcc99"/>
            </a:solidFill>
            <a:ln w="39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076320" y="9120240"/>
              <a:ext cx="63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para las finc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816480" y="10296360"/>
              <a:ext cx="727200" cy="290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856440" y="1032660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bastec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stiler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5470280" y="5029200"/>
              <a:ext cx="2971440" cy="342720"/>
              <a:chOff x="15470280" y="5029200"/>
              <a:chExt cx="2971440" cy="342720"/>
            </a:xfrm>
          </p:grpSpPr>
          <p:sp>
            <p:nvSpPr>
              <p:cNvPr id="517" name=""/>
              <p:cNvSpPr/>
              <p:nvPr/>
            </p:nvSpPr>
            <p:spPr>
              <a:xfrm>
                <a:off x="15470280" y="5029200"/>
                <a:ext cx="2971440" cy="3427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5470280" y="5029200"/>
                <a:ext cx="2971440" cy="42840"/>
              </a:xfrm>
              <a:custGeom>
                <a:avLst/>
                <a:gdLst/>
                <a:ahLst/>
                <a:rect l="l" t="t" r="r" b="b"/>
                <a:pathLst>
                  <a:path w="1653" h="27">
                    <a:moveTo>
                      <a:pt x="0" y="0"/>
                    </a:moveTo>
                    <a:lnTo>
                      <a:pt x="24" y="27"/>
                    </a:lnTo>
                    <a:lnTo>
                      <a:pt x="1629" y="27"/>
                    </a:lnTo>
                    <a:lnTo>
                      <a:pt x="16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5470280" y="5029200"/>
                <a:ext cx="4320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0" y="0"/>
                    </a:moveTo>
                    <a:lnTo>
                      <a:pt x="0" y="216"/>
                    </a:lnTo>
                    <a:lnTo>
                      <a:pt x="24" y="189"/>
                    </a:lnTo>
                    <a:lnTo>
                      <a:pt x="24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5470280" y="5329080"/>
                <a:ext cx="2971440" cy="42840"/>
              </a:xfrm>
              <a:custGeom>
                <a:avLst/>
                <a:gdLst/>
                <a:ahLst/>
                <a:rect l="l" t="t" r="r" b="b"/>
                <a:pathLst>
                  <a:path w="1653" h="27">
                    <a:moveTo>
                      <a:pt x="0" y="27"/>
                    </a:moveTo>
                    <a:lnTo>
                      <a:pt x="1653" y="27"/>
                    </a:lnTo>
                    <a:lnTo>
                      <a:pt x="1629" y="0"/>
                    </a:lnTo>
                    <a:lnTo>
                      <a:pt x="2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c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98520" y="5029200"/>
                <a:ext cx="4320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24" y="216"/>
                    </a:moveTo>
                    <a:lnTo>
                      <a:pt x="24" y="0"/>
                    </a:lnTo>
                    <a:lnTo>
                      <a:pt x="0" y="27"/>
                    </a:lnTo>
                    <a:lnTo>
                      <a:pt x="0" y="189"/>
                    </a:lnTo>
                    <a:lnTo>
                      <a:pt x="24" y="216"/>
                    </a:lnTo>
                    <a:close/>
                  </a:path>
                </a:pathLst>
              </a:custGeom>
              <a:solidFill>
                <a:srgbClr val="99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5470280" y="5029200"/>
                <a:ext cx="2971440" cy="342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5513480" y="5072040"/>
                <a:ext cx="2885040" cy="2570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470280" y="5029200"/>
                <a:ext cx="43200" cy="42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15470280" y="5328720"/>
                <a:ext cx="43200" cy="42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18398520" y="5328720"/>
                <a:ext cx="43200" cy="42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18398520" y="5029200"/>
                <a:ext cx="43200" cy="42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5333120" y="5105520"/>
              <a:ext cx="321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 Unicode MS"/>
                </a:rPr>
                <a:t>Arroceros aguas arriba de las fincas de azúc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15243120" y="10460160"/>
              <a:ext cx="1012680" cy="342720"/>
              <a:chOff x="15243120" y="10460160"/>
              <a:chExt cx="1012680" cy="342720"/>
            </a:xfrm>
          </p:grpSpPr>
          <p:sp>
            <p:nvSpPr>
              <p:cNvPr id="530" name=""/>
              <p:cNvSpPr/>
              <p:nvPr/>
            </p:nvSpPr>
            <p:spPr>
              <a:xfrm>
                <a:off x="15243120" y="10460160"/>
                <a:ext cx="1012680" cy="3427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5243120" y="10460160"/>
                <a:ext cx="1012680" cy="42480"/>
              </a:xfrm>
              <a:custGeom>
                <a:avLst/>
                <a:gdLst/>
                <a:ahLst/>
                <a:rect l="l" t="t" r="r" b="b"/>
                <a:pathLst>
                  <a:path w="638" h="27">
                    <a:moveTo>
                      <a:pt x="0" y="0"/>
                    </a:moveTo>
                    <a:lnTo>
                      <a:pt x="25" y="27"/>
                    </a:lnTo>
                    <a:lnTo>
                      <a:pt x="613" y="27"/>
                    </a:lnTo>
                    <a:lnTo>
                      <a:pt x="6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243120" y="10460160"/>
                <a:ext cx="39600" cy="342720"/>
              </a:xfrm>
              <a:custGeom>
                <a:avLst/>
                <a:gdLst/>
                <a:ahLst/>
                <a:rect l="l" t="t" r="r" b="b"/>
                <a:pathLst>
                  <a:path w="25" h="216">
                    <a:moveTo>
                      <a:pt x="0" y="0"/>
                    </a:moveTo>
                    <a:lnTo>
                      <a:pt x="0" y="216"/>
                    </a:lnTo>
                    <a:lnTo>
                      <a:pt x="25" y="189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1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243120" y="10760040"/>
                <a:ext cx="1012680" cy="42480"/>
              </a:xfrm>
              <a:custGeom>
                <a:avLst/>
                <a:gdLst/>
                <a:ahLst/>
                <a:rect l="l" t="t" r="r" b="b"/>
                <a:pathLst>
                  <a:path w="638" h="27">
                    <a:moveTo>
                      <a:pt x="0" y="27"/>
                    </a:moveTo>
                    <a:lnTo>
                      <a:pt x="638" y="27"/>
                    </a:lnTo>
                    <a:lnTo>
                      <a:pt x="613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a4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6216200" y="10460160"/>
                <a:ext cx="39600" cy="342720"/>
              </a:xfrm>
              <a:custGeom>
                <a:avLst/>
                <a:gdLst/>
                <a:ahLst/>
                <a:rect l="l" t="t" r="r" b="b"/>
                <a:pathLst>
                  <a:path w="25" h="216">
                    <a:moveTo>
                      <a:pt x="25" y="216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189"/>
                    </a:lnTo>
                    <a:lnTo>
                      <a:pt x="25" y="216"/>
                    </a:lnTo>
                    <a:close/>
                  </a:path>
                </a:pathLst>
              </a:custGeom>
              <a:solidFill>
                <a:srgbClr val="997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5243120" y="10460160"/>
                <a:ext cx="1012680" cy="34272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5282720" y="10502640"/>
                <a:ext cx="933480" cy="25704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5243120" y="10460160"/>
                <a:ext cx="39600" cy="42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15243120" y="10760040"/>
                <a:ext cx="39600" cy="42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16216200" y="10760040"/>
                <a:ext cx="39600" cy="42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16216200" y="10460160"/>
                <a:ext cx="39600" cy="42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15243120" y="1054404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 Unicode MS"/>
                </a:rPr>
                <a:t>Fincas de azúc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332960" y="7061040"/>
              <a:ext cx="831960" cy="292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407120" y="708660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bastec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unicip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107520" y="5943600"/>
              <a:ext cx="974520" cy="390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246120" y="6002280"/>
              <a:ext cx="681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Tratamient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las agu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242160" y="7081920"/>
              <a:ext cx="729000" cy="291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6000" y="7099200"/>
              <a:ext cx="67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fectiv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l trata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954880" y="6545160"/>
              <a:ext cx="990720" cy="292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046680" y="655308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endimiento poz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 la ciu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116800" y="5967360"/>
              <a:ext cx="914400" cy="290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172960" y="5991120"/>
              <a:ext cx="840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apacidad bomb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y depósi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332960" y="5967360"/>
              <a:ext cx="730080" cy="412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405680" y="5973840"/>
              <a:ext cx="602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Mane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stratégic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la 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717000" y="5122800"/>
              <a:ext cx="685800" cy="290520"/>
            </a:xfrm>
            <a:prstGeom prst="rect">
              <a:avLst/>
            </a:prstGeom>
            <a:solidFill>
              <a:srgbClr val="99ccff"/>
            </a:solidFill>
            <a:ln w="39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819600" y="5135400"/>
              <a:ext cx="48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Ru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796120" y="10814040"/>
              <a:ext cx="728640" cy="291960"/>
            </a:xfrm>
            <a:prstGeom prst="rect">
              <a:avLst/>
            </a:prstGeom>
            <a:solidFill>
              <a:srgbClr val="99ccff"/>
            </a:solidFill>
            <a:ln w="39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0866320" y="1082988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ur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429800" y="10239480"/>
              <a:ext cx="728640" cy="290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448520" y="1026936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bastec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u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56800" y="11104560"/>
              <a:ext cx="728640" cy="291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475880" y="11123640"/>
              <a:ext cx="7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Nuevo con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sde poz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19735920" y="5295960"/>
              <a:ext cx="1733040" cy="342720"/>
              <a:chOff x="19735920" y="5295960"/>
              <a:chExt cx="1733040" cy="342720"/>
            </a:xfrm>
          </p:grpSpPr>
          <p:sp>
            <p:nvSpPr>
              <p:cNvPr id="563" name=""/>
              <p:cNvSpPr/>
              <p:nvPr/>
            </p:nvSpPr>
            <p:spPr>
              <a:xfrm>
                <a:off x="19735920" y="5295960"/>
                <a:ext cx="1733040" cy="3427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9735920" y="5295960"/>
                <a:ext cx="1733040" cy="42840"/>
              </a:xfrm>
              <a:custGeom>
                <a:avLst/>
                <a:gdLst/>
                <a:ahLst/>
                <a:rect l="l" t="t" r="r" b="b"/>
                <a:pathLst>
                  <a:path w="797" h="27">
                    <a:moveTo>
                      <a:pt x="0" y="0"/>
                    </a:moveTo>
                    <a:lnTo>
                      <a:pt x="25" y="27"/>
                    </a:lnTo>
                    <a:lnTo>
                      <a:pt x="773" y="27"/>
                    </a:lnTo>
                    <a:lnTo>
                      <a:pt x="79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f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735920" y="5295960"/>
                <a:ext cx="54000" cy="342720"/>
              </a:xfrm>
              <a:custGeom>
                <a:avLst/>
                <a:gdLst/>
                <a:ahLst/>
                <a:rect l="l" t="t" r="r" b="b"/>
                <a:pathLst>
                  <a:path w="25" h="216">
                    <a:moveTo>
                      <a:pt x="0" y="0"/>
                    </a:moveTo>
                    <a:lnTo>
                      <a:pt x="0" y="216"/>
                    </a:lnTo>
                    <a:lnTo>
                      <a:pt x="25" y="189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735920" y="5595840"/>
                <a:ext cx="1733040" cy="42840"/>
              </a:xfrm>
              <a:custGeom>
                <a:avLst/>
                <a:gdLst/>
                <a:ahLst/>
                <a:rect l="l" t="t" r="r" b="b"/>
                <a:pathLst>
                  <a:path w="797" h="27">
                    <a:moveTo>
                      <a:pt x="0" y="27"/>
                    </a:moveTo>
                    <a:lnTo>
                      <a:pt x="797" y="27"/>
                    </a:lnTo>
                    <a:lnTo>
                      <a:pt x="773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4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1416760" y="5295960"/>
                <a:ext cx="5220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24" y="216"/>
                    </a:moveTo>
                    <a:lnTo>
                      <a:pt x="24" y="0"/>
                    </a:lnTo>
                    <a:lnTo>
                      <a:pt x="0" y="27"/>
                    </a:lnTo>
                    <a:lnTo>
                      <a:pt x="0" y="189"/>
                    </a:lnTo>
                    <a:lnTo>
                      <a:pt x="24" y="216"/>
                    </a:lnTo>
                    <a:close/>
                  </a:path>
                </a:pathLst>
              </a:custGeom>
              <a:solidFill>
                <a:srgbClr val="7a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9735920" y="5295960"/>
                <a:ext cx="1733040" cy="3427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789920" y="5338800"/>
                <a:ext cx="1626480" cy="2570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735920" y="5295960"/>
                <a:ext cx="54000" cy="42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9735920" y="5595480"/>
                <a:ext cx="54000" cy="42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21416400" y="5595480"/>
                <a:ext cx="52200" cy="42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21416400" y="5295960"/>
                <a:ext cx="52200" cy="42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9682280" y="5381640"/>
              <a:ext cx="186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 Unicode MS"/>
                </a:rPr>
                <a:t>Abastecimiento </a:t>
              </a:r>
              <a:r>
                <a:rPr b="1" lang="es-ES" sz="1100" spc="-1" strike="noStrike">
                  <a:solidFill>
                    <a:srgbClr val="000000"/>
                  </a:solidFill>
                  <a:latin typeface="Arial Unicode MS"/>
                </a:rPr>
                <a:t>Municipa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701160" y="5468760"/>
              <a:ext cx="890640" cy="167040"/>
            </a:xfrm>
            <a:custGeom>
              <a:avLst/>
              <a:gdLst/>
              <a:ahLst/>
              <a:rect l="l" t="t" r="r" b="b"/>
              <a:pathLst>
                <a:path w="561" h="105">
                  <a:moveTo>
                    <a:pt x="91" y="0"/>
                  </a:moveTo>
                  <a:lnTo>
                    <a:pt x="72" y="1"/>
                  </a:lnTo>
                  <a:lnTo>
                    <a:pt x="55" y="5"/>
                  </a:lnTo>
                  <a:lnTo>
                    <a:pt x="40" y="9"/>
                  </a:lnTo>
                  <a:lnTo>
                    <a:pt x="27" y="16"/>
                  </a:lnTo>
                  <a:lnTo>
                    <a:pt x="15" y="23"/>
                  </a:lnTo>
                  <a:lnTo>
                    <a:pt x="7" y="32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3"/>
                  </a:lnTo>
                  <a:lnTo>
                    <a:pt x="7" y="72"/>
                  </a:lnTo>
                  <a:lnTo>
                    <a:pt x="15" y="81"/>
                  </a:lnTo>
                  <a:lnTo>
                    <a:pt x="27" y="89"/>
                  </a:lnTo>
                  <a:lnTo>
                    <a:pt x="40" y="96"/>
                  </a:lnTo>
                  <a:lnTo>
                    <a:pt x="55" y="100"/>
                  </a:lnTo>
                  <a:lnTo>
                    <a:pt x="72" y="104"/>
                  </a:lnTo>
                  <a:lnTo>
                    <a:pt x="91" y="105"/>
                  </a:lnTo>
                  <a:lnTo>
                    <a:pt x="470" y="105"/>
                  </a:lnTo>
                  <a:lnTo>
                    <a:pt x="489" y="104"/>
                  </a:lnTo>
                  <a:lnTo>
                    <a:pt x="505" y="100"/>
                  </a:lnTo>
                  <a:lnTo>
                    <a:pt x="521" y="96"/>
                  </a:lnTo>
                  <a:lnTo>
                    <a:pt x="534" y="89"/>
                  </a:lnTo>
                  <a:lnTo>
                    <a:pt x="545" y="81"/>
                  </a:lnTo>
                  <a:lnTo>
                    <a:pt x="554" y="72"/>
                  </a:lnTo>
                  <a:lnTo>
                    <a:pt x="559" y="63"/>
                  </a:lnTo>
                  <a:lnTo>
                    <a:pt x="561" y="52"/>
                  </a:lnTo>
                  <a:lnTo>
                    <a:pt x="559" y="42"/>
                  </a:lnTo>
                  <a:lnTo>
                    <a:pt x="554" y="32"/>
                  </a:lnTo>
                  <a:lnTo>
                    <a:pt x="545" y="23"/>
                  </a:lnTo>
                  <a:lnTo>
                    <a:pt x="534" y="16"/>
                  </a:lnTo>
                  <a:lnTo>
                    <a:pt x="521" y="9"/>
                  </a:lnTo>
                  <a:lnTo>
                    <a:pt x="505" y="5"/>
                  </a:lnTo>
                  <a:lnTo>
                    <a:pt x="489" y="1"/>
                  </a:lnTo>
                  <a:lnTo>
                    <a:pt x="470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756960" y="5454720"/>
              <a:ext cx="7977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 Unicode MS"/>
                </a:rPr>
                <a:t>Aguas arriba de fin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 Unicode MS"/>
                </a:rPr>
                <a:t>y Buttal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732760" y="11304720"/>
              <a:ext cx="890640" cy="166680"/>
            </a:xfrm>
            <a:custGeom>
              <a:avLst/>
              <a:gdLst/>
              <a:ahLst/>
              <a:rect l="l" t="t" r="r" b="b"/>
              <a:pathLst>
                <a:path w="561" h="105">
                  <a:moveTo>
                    <a:pt x="91" y="0"/>
                  </a:moveTo>
                  <a:lnTo>
                    <a:pt x="72" y="2"/>
                  </a:lnTo>
                  <a:lnTo>
                    <a:pt x="56" y="5"/>
                  </a:lnTo>
                  <a:lnTo>
                    <a:pt x="40" y="9"/>
                  </a:lnTo>
                  <a:lnTo>
                    <a:pt x="27" y="16"/>
                  </a:lnTo>
                  <a:lnTo>
                    <a:pt x="16" y="23"/>
                  </a:lnTo>
                  <a:lnTo>
                    <a:pt x="7" y="32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3"/>
                  </a:lnTo>
                  <a:lnTo>
                    <a:pt x="7" y="72"/>
                  </a:lnTo>
                  <a:lnTo>
                    <a:pt x="16" y="81"/>
                  </a:lnTo>
                  <a:lnTo>
                    <a:pt x="27" y="89"/>
                  </a:lnTo>
                  <a:lnTo>
                    <a:pt x="40" y="96"/>
                  </a:lnTo>
                  <a:lnTo>
                    <a:pt x="56" y="100"/>
                  </a:lnTo>
                  <a:lnTo>
                    <a:pt x="72" y="104"/>
                  </a:lnTo>
                  <a:lnTo>
                    <a:pt x="91" y="105"/>
                  </a:lnTo>
                  <a:lnTo>
                    <a:pt x="470" y="105"/>
                  </a:lnTo>
                  <a:lnTo>
                    <a:pt x="489" y="104"/>
                  </a:lnTo>
                  <a:lnTo>
                    <a:pt x="506" y="100"/>
                  </a:lnTo>
                  <a:lnTo>
                    <a:pt x="521" y="96"/>
                  </a:lnTo>
                  <a:lnTo>
                    <a:pt x="534" y="89"/>
                  </a:lnTo>
                  <a:lnTo>
                    <a:pt x="546" y="81"/>
                  </a:lnTo>
                  <a:lnTo>
                    <a:pt x="554" y="72"/>
                  </a:lnTo>
                  <a:lnTo>
                    <a:pt x="559" y="63"/>
                  </a:lnTo>
                  <a:lnTo>
                    <a:pt x="561" y="52"/>
                  </a:lnTo>
                  <a:lnTo>
                    <a:pt x="559" y="42"/>
                  </a:lnTo>
                  <a:lnTo>
                    <a:pt x="554" y="32"/>
                  </a:lnTo>
                  <a:lnTo>
                    <a:pt x="546" y="23"/>
                  </a:lnTo>
                  <a:lnTo>
                    <a:pt x="534" y="16"/>
                  </a:lnTo>
                  <a:lnTo>
                    <a:pt x="521" y="9"/>
                  </a:lnTo>
                  <a:lnTo>
                    <a:pt x="506" y="5"/>
                  </a:lnTo>
                  <a:lnTo>
                    <a:pt x="489" y="2"/>
                  </a:lnTo>
                  <a:lnTo>
                    <a:pt x="470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736000" y="11298240"/>
              <a:ext cx="9457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 Unicode MS"/>
                </a:rPr>
                <a:t>Aguas debajo de las finc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s-ES_tradnl" sz="600" spc="-1" strike="noStrike">
                  <a:solidFill>
                    <a:srgbClr val="000000"/>
                  </a:solidFill>
                  <a:latin typeface="Arial Unicode MS"/>
                </a:rPr>
                <a:t>y Buttal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736000" y="9291600"/>
              <a:ext cx="728640" cy="29196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800080" y="9294840"/>
              <a:ext cx="61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onstrucció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 depósi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531320" y="7642080"/>
              <a:ext cx="7286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623840" y="765180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salo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gricult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561560" y="9077400"/>
              <a:ext cx="7286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662000" y="909792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ileg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561560" y="8218440"/>
              <a:ext cx="728640" cy="2923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600440" y="822816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umpl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 la l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582000" y="8218440"/>
              <a:ext cx="7304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714120" y="8228160"/>
              <a:ext cx="49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gua par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605760" y="7562880"/>
              <a:ext cx="7286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713040" y="7635960"/>
              <a:ext cx="42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586600" y="7562880"/>
              <a:ext cx="72864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649240" y="757548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evest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 ca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372400" y="7931160"/>
              <a:ext cx="728640" cy="2890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458080" y="792468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ontrol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604320" y="9002880"/>
              <a:ext cx="730080" cy="290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618720" y="9021600"/>
              <a:ext cx="74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lmacena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superfic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712240" y="8570880"/>
              <a:ext cx="730080" cy="290520"/>
            </a:xfrm>
            <a:prstGeom prst="rect">
              <a:avLst/>
            </a:prstGeom>
            <a:solidFill>
              <a:srgbClr val="ff9999"/>
            </a:solidFill>
            <a:ln w="39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772720" y="8574120"/>
              <a:ext cx="63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para 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634480" y="8956800"/>
              <a:ext cx="888840" cy="164880"/>
            </a:xfrm>
            <a:custGeom>
              <a:avLst/>
              <a:gdLst/>
              <a:ahLst/>
              <a:rect l="l" t="t" r="r" b="b"/>
              <a:pathLst>
                <a:path w="560" h="104">
                  <a:moveTo>
                    <a:pt x="90" y="0"/>
                  </a:moveTo>
                  <a:lnTo>
                    <a:pt x="72" y="1"/>
                  </a:lnTo>
                  <a:lnTo>
                    <a:pt x="55" y="4"/>
                  </a:lnTo>
                  <a:lnTo>
                    <a:pt x="39" y="9"/>
                  </a:lnTo>
                  <a:lnTo>
                    <a:pt x="27" y="16"/>
                  </a:lnTo>
                  <a:lnTo>
                    <a:pt x="16" y="22"/>
                  </a:lnTo>
                  <a:lnTo>
                    <a:pt x="7" y="31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63"/>
                  </a:lnTo>
                  <a:lnTo>
                    <a:pt x="7" y="72"/>
                  </a:lnTo>
                  <a:lnTo>
                    <a:pt x="16" y="81"/>
                  </a:lnTo>
                  <a:lnTo>
                    <a:pt x="27" y="89"/>
                  </a:lnTo>
                  <a:lnTo>
                    <a:pt x="39" y="95"/>
                  </a:lnTo>
                  <a:lnTo>
                    <a:pt x="55" y="100"/>
                  </a:lnTo>
                  <a:lnTo>
                    <a:pt x="72" y="103"/>
                  </a:lnTo>
                  <a:lnTo>
                    <a:pt x="90" y="104"/>
                  </a:lnTo>
                  <a:lnTo>
                    <a:pt x="471" y="104"/>
                  </a:lnTo>
                  <a:lnTo>
                    <a:pt x="489" y="103"/>
                  </a:lnTo>
                  <a:lnTo>
                    <a:pt x="506" y="100"/>
                  </a:lnTo>
                  <a:lnTo>
                    <a:pt x="521" y="95"/>
                  </a:lnTo>
                  <a:lnTo>
                    <a:pt x="535" y="89"/>
                  </a:lnTo>
                  <a:lnTo>
                    <a:pt x="545" y="81"/>
                  </a:lnTo>
                  <a:lnTo>
                    <a:pt x="553" y="72"/>
                  </a:lnTo>
                  <a:lnTo>
                    <a:pt x="558" y="63"/>
                  </a:lnTo>
                  <a:lnTo>
                    <a:pt x="560" y="51"/>
                  </a:lnTo>
                  <a:lnTo>
                    <a:pt x="558" y="41"/>
                  </a:lnTo>
                  <a:lnTo>
                    <a:pt x="553" y="31"/>
                  </a:lnTo>
                  <a:lnTo>
                    <a:pt x="545" y="22"/>
                  </a:lnTo>
                  <a:lnTo>
                    <a:pt x="535" y="16"/>
                  </a:lnTo>
                  <a:lnTo>
                    <a:pt x="521" y="9"/>
                  </a:lnTo>
                  <a:lnTo>
                    <a:pt x="506" y="4"/>
                  </a:lnTo>
                  <a:lnTo>
                    <a:pt x="489" y="1"/>
                  </a:lnTo>
                  <a:lnTo>
                    <a:pt x="471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820240" y="8940960"/>
              <a:ext cx="5508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 Unicode MS"/>
                </a:rPr>
                <a:t>Aguas abajo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 Unicode MS"/>
                </a:rPr>
                <a:t>Buttal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0346840" y="9685440"/>
              <a:ext cx="2476800" cy="342720"/>
              <a:chOff x="20346840" y="9685440"/>
              <a:chExt cx="2476800" cy="342720"/>
            </a:xfrm>
          </p:grpSpPr>
          <p:sp>
            <p:nvSpPr>
              <p:cNvPr id="602" name=""/>
              <p:cNvSpPr/>
              <p:nvPr/>
            </p:nvSpPr>
            <p:spPr>
              <a:xfrm>
                <a:off x="20346840" y="9685440"/>
                <a:ext cx="2476800" cy="3427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346840" y="9685440"/>
                <a:ext cx="2476800" cy="42480"/>
              </a:xfrm>
              <a:custGeom>
                <a:avLst/>
                <a:gdLst/>
                <a:ahLst/>
                <a:rect l="l" t="t" r="r" b="b"/>
                <a:pathLst>
                  <a:path w="1560" h="27">
                    <a:moveTo>
                      <a:pt x="0" y="0"/>
                    </a:moveTo>
                    <a:lnTo>
                      <a:pt x="24" y="27"/>
                    </a:lnTo>
                    <a:lnTo>
                      <a:pt x="1536" y="27"/>
                    </a:lnTo>
                    <a:lnTo>
                      <a:pt x="15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346840" y="9685440"/>
                <a:ext cx="3816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0" y="0"/>
                    </a:moveTo>
                    <a:lnTo>
                      <a:pt x="0" y="216"/>
                    </a:lnTo>
                    <a:lnTo>
                      <a:pt x="24" y="189"/>
                    </a:lnTo>
                    <a:lnTo>
                      <a:pt x="24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346840" y="9985320"/>
                <a:ext cx="2476800" cy="42480"/>
              </a:xfrm>
              <a:custGeom>
                <a:avLst/>
                <a:gdLst/>
                <a:ahLst/>
                <a:rect l="l" t="t" r="r" b="b"/>
                <a:pathLst>
                  <a:path w="1560" h="27">
                    <a:moveTo>
                      <a:pt x="0" y="27"/>
                    </a:moveTo>
                    <a:lnTo>
                      <a:pt x="1560" y="27"/>
                    </a:lnTo>
                    <a:lnTo>
                      <a:pt x="1536" y="0"/>
                    </a:lnTo>
                    <a:lnTo>
                      <a:pt x="2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785480" y="9685440"/>
                <a:ext cx="38160" cy="342720"/>
              </a:xfrm>
              <a:custGeom>
                <a:avLst/>
                <a:gdLst/>
                <a:ahLst/>
                <a:rect l="l" t="t" r="r" b="b"/>
                <a:pathLst>
                  <a:path w="24" h="216">
                    <a:moveTo>
                      <a:pt x="24" y="216"/>
                    </a:moveTo>
                    <a:lnTo>
                      <a:pt x="24" y="0"/>
                    </a:lnTo>
                    <a:lnTo>
                      <a:pt x="0" y="27"/>
                    </a:lnTo>
                    <a:lnTo>
                      <a:pt x="0" y="189"/>
                    </a:lnTo>
                    <a:lnTo>
                      <a:pt x="24" y="216"/>
                    </a:lnTo>
                    <a:close/>
                  </a:path>
                </a:pathLst>
              </a:custGeom>
              <a:solidFill>
                <a:srgbClr val="99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0346840" y="9685440"/>
                <a:ext cx="2476800" cy="342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0385000" y="9727920"/>
                <a:ext cx="2400480" cy="2570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346840" y="9685440"/>
                <a:ext cx="38160" cy="42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0346840" y="9985320"/>
                <a:ext cx="38160" cy="42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22785480" y="9985320"/>
                <a:ext cx="38160" cy="42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2785480" y="9685440"/>
                <a:ext cx="38160" cy="42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0394720" y="9771120"/>
              <a:ext cx="233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 Unicode MS"/>
                </a:rPr>
                <a:t>Arroceros aguas abajo de Butta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5646320" y="8304120"/>
              <a:ext cx="728640" cy="292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663240" y="8380440"/>
              <a:ext cx="63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Nuevo siste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5646320" y="9360000"/>
              <a:ext cx="7286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5750000" y="9371160"/>
              <a:ext cx="52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ehabilita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l la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697160" y="8251920"/>
              <a:ext cx="7304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93640" y="8264520"/>
              <a:ext cx="51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iego de  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osech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697160" y="8883720"/>
              <a:ext cx="730440" cy="290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728480" y="89042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bastec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municip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768880" y="9750600"/>
              <a:ext cx="73008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801640" y="976788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bastec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del viv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646320" y="8883720"/>
              <a:ext cx="728640" cy="290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695280" y="889776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basteci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subterrán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640200" y="9894960"/>
              <a:ext cx="7286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798600" y="9904320"/>
              <a:ext cx="45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Nuev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eservor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789400" y="10585440"/>
              <a:ext cx="7304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907840" y="10590120"/>
              <a:ext cx="50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mbalse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fluen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738560" y="9433080"/>
              <a:ext cx="7286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973280" y="9515520"/>
              <a:ext cx="22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La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738560" y="9860040"/>
              <a:ext cx="728640" cy="293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801560" y="9860040"/>
              <a:ext cx="63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apacidad 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eservorio</a:t>
              </a:r>
              <a:r>
                <a:rPr b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738560" y="10441080"/>
              <a:ext cx="728640" cy="291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865640" y="10437840"/>
              <a:ext cx="43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Riego p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got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651520" y="8282160"/>
              <a:ext cx="728640" cy="290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766720" y="8362800"/>
              <a:ext cx="43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Ejec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16373520" y="9504360"/>
              <a:ext cx="364680" cy="109440"/>
              <a:chOff x="16373520" y="9504360"/>
              <a:chExt cx="364680" cy="109440"/>
            </a:xfrm>
          </p:grpSpPr>
          <p:sp>
            <p:nvSpPr>
              <p:cNvPr id="639" name=""/>
              <p:cNvSpPr/>
              <p:nvPr/>
            </p:nvSpPr>
            <p:spPr>
              <a:xfrm>
                <a:off x="16373520" y="9505800"/>
                <a:ext cx="268200" cy="536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6628760" y="9504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69"/>
                    </a:moveTo>
                    <a:lnTo>
                      <a:pt x="69" y="48"/>
                    </a:lnTo>
                    <a:lnTo>
                      <a:pt x="11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18519840" y="10441080"/>
              <a:ext cx="295920" cy="291600"/>
              <a:chOff x="18519840" y="10441080"/>
              <a:chExt cx="295920" cy="291600"/>
            </a:xfrm>
          </p:grpSpPr>
          <p:sp>
            <p:nvSpPr>
              <p:cNvPr id="642" name=""/>
              <p:cNvSpPr/>
              <p:nvPr/>
            </p:nvSpPr>
            <p:spPr>
              <a:xfrm flipH="1">
                <a:off x="18590760" y="10441080"/>
                <a:ext cx="225000" cy="2203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8519840" y="10615320"/>
                <a:ext cx="110880" cy="1173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27" y="0"/>
                    </a:moveTo>
                    <a:lnTo>
                      <a:pt x="0" y="74"/>
                    </a:lnTo>
                    <a:lnTo>
                      <a:pt x="70" y="5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18388080" y="9433080"/>
              <a:ext cx="433440" cy="1008000"/>
              <a:chOff x="18388080" y="9433080"/>
              <a:chExt cx="433440" cy="1008000"/>
            </a:xfrm>
          </p:grpSpPr>
          <p:sp>
            <p:nvSpPr>
              <p:cNvPr id="645" name=""/>
              <p:cNvSpPr/>
              <p:nvPr/>
            </p:nvSpPr>
            <p:spPr>
              <a:xfrm>
                <a:off x="18388080" y="9433080"/>
                <a:ext cx="385920" cy="9111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8726480" y="10315800"/>
                <a:ext cx="95040" cy="125280"/>
              </a:xfrm>
              <a:custGeom>
                <a:avLst/>
                <a:gdLst/>
                <a:ahLst/>
                <a:rect l="l" t="t" r="r" b="b"/>
                <a:pathLst>
                  <a:path w="60" h="79">
                    <a:moveTo>
                      <a:pt x="0" y="30"/>
                    </a:moveTo>
                    <a:lnTo>
                      <a:pt x="58" y="79"/>
                    </a:lnTo>
                    <a:lnTo>
                      <a:pt x="6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6367040" y="9960120"/>
              <a:ext cx="371520" cy="112680"/>
              <a:chOff x="16367040" y="9960120"/>
              <a:chExt cx="371520" cy="11268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16367040" y="10015200"/>
                <a:ext cx="272880" cy="25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6632000" y="9960120"/>
                <a:ext cx="106560" cy="112680"/>
              </a:xfrm>
              <a:custGeom>
                <a:avLst/>
                <a:gdLst/>
                <a:ahLst/>
                <a:rect l="l" t="t" r="r" b="b"/>
                <a:pathLst>
                  <a:path w="67" h="71">
                    <a:moveTo>
                      <a:pt x="5" y="71"/>
                    </a:moveTo>
                    <a:lnTo>
                      <a:pt x="67" y="31"/>
                    </a:lnTo>
                    <a:lnTo>
                      <a:pt x="0" y="0"/>
                    </a:lnTo>
                    <a:lnTo>
                      <a:pt x="5" y="71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6373520" y="8972640"/>
              <a:ext cx="325440" cy="112680"/>
              <a:chOff x="16373520" y="8972640"/>
              <a:chExt cx="325440" cy="112680"/>
            </a:xfrm>
          </p:grpSpPr>
          <p:sp>
            <p:nvSpPr>
              <p:cNvPr id="651" name=""/>
              <p:cNvSpPr/>
              <p:nvPr/>
            </p:nvSpPr>
            <p:spPr>
              <a:xfrm>
                <a:off x="16373520" y="9028440"/>
                <a:ext cx="225720" cy="1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596000" y="8972640"/>
                <a:ext cx="102960" cy="1126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0" y="71"/>
                    </a:moveTo>
                    <a:lnTo>
                      <a:pt x="65" y="35"/>
                    </a:lnTo>
                    <a:lnTo>
                      <a:pt x="0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6373520" y="8361360"/>
              <a:ext cx="325440" cy="109440"/>
              <a:chOff x="16373520" y="8361360"/>
              <a:chExt cx="325440" cy="109440"/>
            </a:xfrm>
          </p:grpSpPr>
          <p:sp>
            <p:nvSpPr>
              <p:cNvPr id="654" name=""/>
              <p:cNvSpPr/>
              <p:nvPr/>
            </p:nvSpPr>
            <p:spPr>
              <a:xfrm flipV="1">
                <a:off x="16373520" y="8413560"/>
                <a:ext cx="227160" cy="36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6589520" y="8361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9" y="69"/>
                    </a:moveTo>
                    <a:lnTo>
                      <a:pt x="69" y="24"/>
                    </a:lnTo>
                    <a:lnTo>
                      <a:pt x="0" y="0"/>
                    </a:lnTo>
                    <a:lnTo>
                      <a:pt x="9" y="69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17011800" y="8542440"/>
              <a:ext cx="102960" cy="342360"/>
              <a:chOff x="17011800" y="8542440"/>
              <a:chExt cx="102960" cy="34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17062200" y="8542440"/>
                <a:ext cx="1440" cy="2329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7011800" y="8772480"/>
                <a:ext cx="10296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0" y="0"/>
                    </a:moveTo>
                    <a:lnTo>
                      <a:pt x="32" y="71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17030880" y="9174240"/>
              <a:ext cx="101520" cy="258840"/>
              <a:chOff x="17030880" y="9174240"/>
              <a:chExt cx="101520" cy="258840"/>
            </a:xfrm>
          </p:grpSpPr>
          <p:sp>
            <p:nvSpPr>
              <p:cNvPr id="660" name=""/>
              <p:cNvSpPr/>
              <p:nvPr/>
            </p:nvSpPr>
            <p:spPr>
              <a:xfrm flipH="1" flipV="1">
                <a:off x="17080200" y="9277560"/>
                <a:ext cx="22320" cy="1555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7030880" y="9174240"/>
                <a:ext cx="101520" cy="119160"/>
              </a:xfrm>
              <a:custGeom>
                <a:avLst/>
                <a:gdLst/>
                <a:ahLst/>
                <a:rect l="l" t="t" r="r" b="b"/>
                <a:pathLst>
                  <a:path w="64" h="75">
                    <a:moveTo>
                      <a:pt x="64" y="64"/>
                    </a:moveTo>
                    <a:lnTo>
                      <a:pt x="20" y="0"/>
                    </a:lnTo>
                    <a:lnTo>
                      <a:pt x="0" y="75"/>
                    </a:lnTo>
                    <a:lnTo>
                      <a:pt x="64" y="64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17426160" y="9015480"/>
              <a:ext cx="577440" cy="250920"/>
              <a:chOff x="17426160" y="9015480"/>
              <a:chExt cx="577440" cy="250920"/>
            </a:xfrm>
          </p:grpSpPr>
          <p:sp>
            <p:nvSpPr>
              <p:cNvPr id="663" name=""/>
              <p:cNvSpPr/>
              <p:nvPr/>
            </p:nvSpPr>
            <p:spPr>
              <a:xfrm flipH="1" flipV="1">
                <a:off x="17517960" y="9066240"/>
                <a:ext cx="485640" cy="2001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7426160" y="9015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74" y="0"/>
                    </a:moveTo>
                    <a:lnTo>
                      <a:pt x="0" y="8"/>
                    </a:lnTo>
                    <a:lnTo>
                      <a:pt x="50" y="6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17465760" y="9880560"/>
              <a:ext cx="304200" cy="126360"/>
              <a:chOff x="17465760" y="9880560"/>
              <a:chExt cx="304200" cy="12636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17465760" y="9930960"/>
                <a:ext cx="209160" cy="759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7656200" y="9880560"/>
                <a:ext cx="113760" cy="10620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20" y="67"/>
                    </a:moveTo>
                    <a:lnTo>
                      <a:pt x="72" y="11"/>
                    </a:lnTo>
                    <a:lnTo>
                      <a:pt x="0" y="0"/>
                    </a:lnTo>
                    <a:lnTo>
                      <a:pt x="20" y="67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7102160" y="10026720"/>
              <a:ext cx="1031760" cy="414360"/>
              <a:chOff x="17102160" y="10026720"/>
              <a:chExt cx="1031760" cy="4143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17102160" y="10077480"/>
                <a:ext cx="939600" cy="3636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021240" y="10026720"/>
                <a:ext cx="112680" cy="106560"/>
              </a:xfrm>
              <a:custGeom>
                <a:avLst/>
                <a:gdLst/>
                <a:ahLst/>
                <a:rect l="l" t="t" r="r" b="b"/>
                <a:pathLst>
                  <a:path w="71" h="67">
                    <a:moveTo>
                      <a:pt x="21" y="67"/>
                    </a:moveTo>
                    <a:lnTo>
                      <a:pt x="71" y="9"/>
                    </a:lnTo>
                    <a:lnTo>
                      <a:pt x="0" y="0"/>
                    </a:lnTo>
                    <a:lnTo>
                      <a:pt x="21" y="67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8087840" y="10040760"/>
              <a:ext cx="103320" cy="543960"/>
              <a:chOff x="18087840" y="10040760"/>
              <a:chExt cx="103320" cy="543960"/>
            </a:xfrm>
          </p:grpSpPr>
          <p:sp>
            <p:nvSpPr>
              <p:cNvPr id="672" name=""/>
              <p:cNvSpPr/>
              <p:nvPr/>
            </p:nvSpPr>
            <p:spPr>
              <a:xfrm flipH="1" flipV="1">
                <a:off x="18138600" y="10146600"/>
                <a:ext cx="15840" cy="43812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8087840" y="10040760"/>
                <a:ext cx="103320" cy="11592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65" y="70"/>
                    </a:moveTo>
                    <a:lnTo>
                      <a:pt x="29" y="0"/>
                    </a:lnTo>
                    <a:lnTo>
                      <a:pt x="0" y="73"/>
                    </a:lnTo>
                    <a:lnTo>
                      <a:pt x="65" y="7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8015120" y="8570880"/>
              <a:ext cx="374040" cy="531720"/>
              <a:chOff x="18015120" y="8570880"/>
              <a:chExt cx="374040" cy="531720"/>
            </a:xfrm>
          </p:grpSpPr>
          <p:sp>
            <p:nvSpPr>
              <p:cNvPr id="675" name=""/>
              <p:cNvSpPr/>
              <p:nvPr/>
            </p:nvSpPr>
            <p:spPr>
              <a:xfrm>
                <a:off x="18015120" y="8570880"/>
                <a:ext cx="313920" cy="4460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284760" y="8976960"/>
                <a:ext cx="104400" cy="125640"/>
              </a:xfrm>
              <a:custGeom>
                <a:avLst/>
                <a:gdLst/>
                <a:ahLst/>
                <a:rect l="l" t="t" r="r" b="b"/>
                <a:pathLst>
                  <a:path w="66" h="79">
                    <a:moveTo>
                      <a:pt x="0" y="44"/>
                    </a:moveTo>
                    <a:lnTo>
                      <a:pt x="66" y="79"/>
                    </a:lnTo>
                    <a:lnTo>
                      <a:pt x="51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8003960" y="9266400"/>
              <a:ext cx="151920" cy="485640"/>
              <a:chOff x="18003960" y="9266400"/>
              <a:chExt cx="151920" cy="485640"/>
            </a:xfrm>
          </p:grpSpPr>
          <p:sp>
            <p:nvSpPr>
              <p:cNvPr id="678" name=""/>
              <p:cNvSpPr/>
              <p:nvPr/>
            </p:nvSpPr>
            <p:spPr>
              <a:xfrm>
                <a:off x="18003960" y="9266400"/>
                <a:ext cx="101160" cy="3808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8056160" y="9626760"/>
                <a:ext cx="99720" cy="125280"/>
              </a:xfrm>
              <a:custGeom>
                <a:avLst/>
                <a:gdLst/>
                <a:ahLst/>
                <a:rect l="l" t="t" r="r" b="b"/>
                <a:pathLst>
                  <a:path w="63" h="79">
                    <a:moveTo>
                      <a:pt x="0" y="19"/>
                    </a:moveTo>
                    <a:lnTo>
                      <a:pt x="49" y="79"/>
                    </a:lnTo>
                    <a:lnTo>
                      <a:pt x="6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457760" y="5735520"/>
              <a:ext cx="280080" cy="111240"/>
              <a:chOff x="16457760" y="5735520"/>
              <a:chExt cx="280080" cy="111240"/>
            </a:xfrm>
          </p:grpSpPr>
          <p:sp>
            <p:nvSpPr>
              <p:cNvPr id="681" name=""/>
              <p:cNvSpPr/>
              <p:nvPr/>
            </p:nvSpPr>
            <p:spPr>
              <a:xfrm flipH="1">
                <a:off x="16552440" y="5780160"/>
                <a:ext cx="1854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457760" y="5735520"/>
                <a:ext cx="104400" cy="111240"/>
              </a:xfrm>
              <a:custGeom>
                <a:avLst/>
                <a:gdLst/>
                <a:ahLst/>
                <a:rect l="l" t="t" r="r" b="b"/>
                <a:pathLst>
                  <a:path w="66" h="70">
                    <a:moveTo>
                      <a:pt x="63" y="0"/>
                    </a:moveTo>
                    <a:lnTo>
                      <a:pt x="0" y="39"/>
                    </a:lnTo>
                    <a:lnTo>
                      <a:pt x="66" y="7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17051400" y="5924520"/>
              <a:ext cx="102960" cy="125280"/>
              <a:chOff x="17051400" y="5924520"/>
              <a:chExt cx="102960" cy="125280"/>
            </a:xfrm>
          </p:grpSpPr>
          <p:sp>
            <p:nvSpPr>
              <p:cNvPr id="684" name=""/>
              <p:cNvSpPr/>
              <p:nvPr/>
            </p:nvSpPr>
            <p:spPr>
              <a:xfrm>
                <a:off x="17102160" y="5924520"/>
                <a:ext cx="1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051400" y="5938920"/>
                <a:ext cx="102960" cy="11088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2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17051400" y="6337440"/>
              <a:ext cx="102960" cy="166680"/>
              <a:chOff x="17051400" y="6337440"/>
              <a:chExt cx="102960" cy="166680"/>
            </a:xfrm>
          </p:grpSpPr>
          <p:sp>
            <p:nvSpPr>
              <p:cNvPr id="687" name=""/>
              <p:cNvSpPr/>
              <p:nvPr/>
            </p:nvSpPr>
            <p:spPr>
              <a:xfrm>
                <a:off x="17102160" y="6337440"/>
                <a:ext cx="10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7051400" y="639288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2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17051400" y="6792840"/>
              <a:ext cx="102960" cy="249120"/>
              <a:chOff x="17051400" y="6792840"/>
              <a:chExt cx="102960" cy="24912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17102160" y="6899040"/>
                <a:ext cx="108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051400" y="6792840"/>
                <a:ext cx="102960" cy="1126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71"/>
                    </a:moveTo>
                    <a:lnTo>
                      <a:pt x="32" y="0"/>
                    </a:lnTo>
                    <a:lnTo>
                      <a:pt x="0" y="71"/>
                    </a:lnTo>
                    <a:lnTo>
                      <a:pt x="65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16000560" y="7124760"/>
              <a:ext cx="102960" cy="372600"/>
              <a:chOff x="16000560" y="7124760"/>
              <a:chExt cx="102960" cy="372600"/>
            </a:xfrm>
          </p:grpSpPr>
          <p:sp>
            <p:nvSpPr>
              <p:cNvPr id="693" name=""/>
              <p:cNvSpPr/>
              <p:nvPr/>
            </p:nvSpPr>
            <p:spPr>
              <a:xfrm flipV="1">
                <a:off x="16050960" y="7230600"/>
                <a:ext cx="144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000560" y="7124760"/>
                <a:ext cx="102960" cy="1126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71"/>
                    </a:moveTo>
                    <a:lnTo>
                      <a:pt x="32" y="0"/>
                    </a:lnTo>
                    <a:lnTo>
                      <a:pt x="0" y="71"/>
                    </a:lnTo>
                    <a:lnTo>
                      <a:pt x="65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16414920" y="6765840"/>
              <a:ext cx="686880" cy="214560"/>
              <a:chOff x="16414920" y="6765840"/>
              <a:chExt cx="686880" cy="214560"/>
            </a:xfrm>
          </p:grpSpPr>
          <p:sp>
            <p:nvSpPr>
              <p:cNvPr id="696" name=""/>
              <p:cNvSpPr/>
              <p:nvPr/>
            </p:nvSpPr>
            <p:spPr>
              <a:xfrm flipV="1">
                <a:off x="16414920" y="6819840"/>
                <a:ext cx="591840" cy="16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990920" y="6765840"/>
                <a:ext cx="110880" cy="10980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15" y="69"/>
                    </a:moveTo>
                    <a:lnTo>
                      <a:pt x="70" y="17"/>
                    </a:lnTo>
                    <a:lnTo>
                      <a:pt x="0" y="0"/>
                    </a:lnTo>
                    <a:lnTo>
                      <a:pt x="15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6414920" y="6400800"/>
              <a:ext cx="323280" cy="249120"/>
              <a:chOff x="16414920" y="6400800"/>
              <a:chExt cx="323280" cy="249120"/>
            </a:xfrm>
          </p:grpSpPr>
          <p:sp>
            <p:nvSpPr>
              <p:cNvPr id="699" name=""/>
              <p:cNvSpPr/>
              <p:nvPr/>
            </p:nvSpPr>
            <p:spPr>
              <a:xfrm>
                <a:off x="16414920" y="6400800"/>
                <a:ext cx="24264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625880" y="653724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59"/>
                    </a:moveTo>
                    <a:lnTo>
                      <a:pt x="71" y="71"/>
                    </a:lnTo>
                    <a:lnTo>
                      <a:pt x="37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7465760" y="6168960"/>
              <a:ext cx="366120" cy="111240"/>
              <a:chOff x="17465760" y="6168960"/>
              <a:chExt cx="366120" cy="111240"/>
            </a:xfrm>
          </p:grpSpPr>
          <p:sp>
            <p:nvSpPr>
              <p:cNvPr id="702" name=""/>
              <p:cNvSpPr/>
              <p:nvPr/>
            </p:nvSpPr>
            <p:spPr>
              <a:xfrm>
                <a:off x="17465760" y="6192720"/>
                <a:ext cx="2664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7722800" y="6168960"/>
                <a:ext cx="109080" cy="11124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0" y="70"/>
                    </a:moveTo>
                    <a:lnTo>
                      <a:pt x="69" y="42"/>
                    </a:lnTo>
                    <a:lnTo>
                      <a:pt x="7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7465760" y="6632640"/>
              <a:ext cx="345600" cy="139320"/>
              <a:chOff x="17465760" y="6632640"/>
              <a:chExt cx="345600" cy="13932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17559360" y="6683040"/>
                <a:ext cx="25200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7465760" y="6632640"/>
                <a:ext cx="114120" cy="10620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72" y="0"/>
                    </a:moveTo>
                    <a:lnTo>
                      <a:pt x="0" y="11"/>
                    </a:lnTo>
                    <a:lnTo>
                      <a:pt x="52" y="6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18153000" y="6939000"/>
              <a:ext cx="102960" cy="474120"/>
              <a:chOff x="18153000" y="6939000"/>
              <a:chExt cx="102960" cy="474120"/>
            </a:xfrm>
          </p:grpSpPr>
          <p:sp>
            <p:nvSpPr>
              <p:cNvPr id="708" name=""/>
              <p:cNvSpPr/>
              <p:nvPr/>
            </p:nvSpPr>
            <p:spPr>
              <a:xfrm flipH="1" flipV="1">
                <a:off x="18203760" y="7044840"/>
                <a:ext cx="31680" cy="36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153000" y="6939000"/>
                <a:ext cx="102960" cy="117360"/>
              </a:xfrm>
              <a:custGeom>
                <a:avLst/>
                <a:gdLst/>
                <a:ahLst/>
                <a:rect l="l" t="t" r="r" b="b"/>
                <a:pathLst>
                  <a:path w="65" h="74">
                    <a:moveTo>
                      <a:pt x="65" y="67"/>
                    </a:moveTo>
                    <a:lnTo>
                      <a:pt x="27" y="0"/>
                    </a:lnTo>
                    <a:lnTo>
                      <a:pt x="0" y="74"/>
                    </a:lnTo>
                    <a:lnTo>
                      <a:pt x="65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8143640" y="6378480"/>
              <a:ext cx="102960" cy="228600"/>
              <a:chOff x="18143640" y="6378480"/>
              <a:chExt cx="102960" cy="228600"/>
            </a:xfrm>
          </p:grpSpPr>
          <p:sp>
            <p:nvSpPr>
              <p:cNvPr id="711" name=""/>
              <p:cNvSpPr/>
              <p:nvPr/>
            </p:nvSpPr>
            <p:spPr>
              <a:xfrm>
                <a:off x="18194040" y="6378480"/>
                <a:ext cx="144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143640" y="6496200"/>
                <a:ext cx="102960" cy="11088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3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18143640" y="5925960"/>
              <a:ext cx="102960" cy="167040"/>
              <a:chOff x="18143640" y="5925960"/>
              <a:chExt cx="102960" cy="167040"/>
            </a:xfrm>
          </p:grpSpPr>
          <p:sp>
            <p:nvSpPr>
              <p:cNvPr id="714" name=""/>
              <p:cNvSpPr/>
              <p:nvPr/>
            </p:nvSpPr>
            <p:spPr>
              <a:xfrm>
                <a:off x="18194040" y="5925960"/>
                <a:ext cx="1440" cy="5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8143640" y="598176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3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18577080" y="6093000"/>
              <a:ext cx="148680" cy="679320"/>
              <a:chOff x="18577080" y="6093000"/>
              <a:chExt cx="148680" cy="679320"/>
            </a:xfrm>
          </p:grpSpPr>
          <p:sp>
            <p:nvSpPr>
              <p:cNvPr id="717" name=""/>
              <p:cNvSpPr/>
              <p:nvPr/>
            </p:nvSpPr>
            <p:spPr>
              <a:xfrm flipV="1">
                <a:off x="18577080" y="6197760"/>
                <a:ext cx="9828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624240" y="6093000"/>
                <a:ext cx="101520" cy="12060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76"/>
                    </a:moveTo>
                    <a:lnTo>
                      <a:pt x="44" y="0"/>
                    </a:lnTo>
                    <a:lnTo>
                      <a:pt x="0" y="63"/>
                    </a:lnTo>
                    <a:lnTo>
                      <a:pt x="64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18369000" y="6353280"/>
              <a:ext cx="770040" cy="2748960"/>
              <a:chOff x="18369000" y="6353280"/>
              <a:chExt cx="770040" cy="2748960"/>
            </a:xfrm>
          </p:grpSpPr>
          <p:sp>
            <p:nvSpPr>
              <p:cNvPr id="720" name=""/>
              <p:cNvSpPr/>
              <p:nvPr/>
            </p:nvSpPr>
            <p:spPr>
              <a:xfrm flipH="1">
                <a:off x="18416880" y="6353280"/>
                <a:ext cx="722160" cy="264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8369000" y="8976960"/>
                <a:ext cx="98640" cy="125280"/>
              </a:xfrm>
              <a:custGeom>
                <a:avLst/>
                <a:gdLst/>
                <a:ahLst/>
                <a:rect l="l" t="t" r="r" b="b"/>
                <a:pathLst>
                  <a:path w="62" h="79">
                    <a:moveTo>
                      <a:pt x="0" y="0"/>
                    </a:moveTo>
                    <a:lnTo>
                      <a:pt x="13" y="79"/>
                    </a:lnTo>
                    <a:lnTo>
                      <a:pt x="6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18967320" y="6353280"/>
              <a:ext cx="171000" cy="2045880"/>
              <a:chOff x="18967320" y="6353280"/>
              <a:chExt cx="171000" cy="2045880"/>
            </a:xfrm>
          </p:grpSpPr>
          <p:sp>
            <p:nvSpPr>
              <p:cNvPr id="723" name=""/>
              <p:cNvSpPr/>
              <p:nvPr/>
            </p:nvSpPr>
            <p:spPr>
              <a:xfrm flipH="1">
                <a:off x="19017720" y="6353280"/>
                <a:ext cx="120600" cy="19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8967320" y="8283600"/>
                <a:ext cx="103320" cy="115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0" y="0"/>
                    </a:moveTo>
                    <a:lnTo>
                      <a:pt x="28" y="73"/>
                    </a:lnTo>
                    <a:lnTo>
                      <a:pt x="6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19573920" y="7040520"/>
              <a:ext cx="103320" cy="1936440"/>
              <a:chOff x="19573920" y="7040520"/>
              <a:chExt cx="103320" cy="1936440"/>
            </a:xfrm>
          </p:grpSpPr>
          <p:sp>
            <p:nvSpPr>
              <p:cNvPr id="726" name=""/>
              <p:cNvSpPr/>
              <p:nvPr/>
            </p:nvSpPr>
            <p:spPr>
              <a:xfrm>
                <a:off x="19624680" y="7040520"/>
                <a:ext cx="1440" cy="18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9573920" y="8867880"/>
                <a:ext cx="103320" cy="10908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0" y="0"/>
                    </a:moveTo>
                    <a:lnTo>
                      <a:pt x="33" y="69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19340640" y="8593200"/>
              <a:ext cx="285120" cy="384120"/>
              <a:chOff x="19340640" y="8593200"/>
              <a:chExt cx="285120" cy="384120"/>
            </a:xfrm>
          </p:grpSpPr>
          <p:sp>
            <p:nvSpPr>
              <p:cNvPr id="729" name=""/>
              <p:cNvSpPr/>
              <p:nvPr/>
            </p:nvSpPr>
            <p:spPr>
              <a:xfrm>
                <a:off x="19340640" y="8593200"/>
                <a:ext cx="22392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9520280" y="8856720"/>
                <a:ext cx="105480" cy="120600"/>
              </a:xfrm>
              <a:custGeom>
                <a:avLst/>
                <a:gdLst/>
                <a:ahLst/>
                <a:rect l="l" t="t" r="r" b="b"/>
                <a:pathLst>
                  <a:path w="67" h="76">
                    <a:moveTo>
                      <a:pt x="0" y="44"/>
                    </a:moveTo>
                    <a:lnTo>
                      <a:pt x="67" y="76"/>
                    </a:lnTo>
                    <a:lnTo>
                      <a:pt x="5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20073960" y="6829560"/>
              <a:ext cx="495360" cy="252360"/>
              <a:chOff x="20073960" y="6829560"/>
              <a:chExt cx="495360" cy="252360"/>
            </a:xfrm>
          </p:grpSpPr>
          <p:sp>
            <p:nvSpPr>
              <p:cNvPr id="732" name=""/>
              <p:cNvSpPr/>
              <p:nvPr/>
            </p:nvSpPr>
            <p:spPr>
              <a:xfrm flipH="1" flipV="1">
                <a:off x="20161080" y="6880320"/>
                <a:ext cx="408240" cy="201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0073960" y="6829560"/>
                <a:ext cx="115920" cy="1047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73" y="0"/>
                    </a:moveTo>
                    <a:lnTo>
                      <a:pt x="0" y="4"/>
                    </a:lnTo>
                    <a:lnTo>
                      <a:pt x="45" y="6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19626120" y="7042320"/>
              <a:ext cx="447840" cy="485280"/>
              <a:chOff x="19626120" y="7042320"/>
              <a:chExt cx="447840" cy="485280"/>
            </a:xfrm>
          </p:grpSpPr>
          <p:sp>
            <p:nvSpPr>
              <p:cNvPr id="735" name=""/>
              <p:cNvSpPr/>
              <p:nvPr/>
            </p:nvSpPr>
            <p:spPr>
              <a:xfrm flipH="1" flipV="1">
                <a:off x="19693080" y="7114680"/>
                <a:ext cx="380880" cy="41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9626120" y="7042320"/>
                <a:ext cx="108000" cy="11736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68" y="25"/>
                    </a:moveTo>
                    <a:lnTo>
                      <a:pt x="0" y="0"/>
                    </a:lnTo>
                    <a:lnTo>
                      <a:pt x="22" y="74"/>
                    </a:lnTo>
                    <a:lnTo>
                      <a:pt x="6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19915200" y="7886880"/>
              <a:ext cx="158760" cy="2963160"/>
              <a:chOff x="19915200" y="7886880"/>
              <a:chExt cx="158760" cy="2963160"/>
            </a:xfrm>
          </p:grpSpPr>
          <p:sp>
            <p:nvSpPr>
              <p:cNvPr id="738" name=""/>
              <p:cNvSpPr/>
              <p:nvPr/>
            </p:nvSpPr>
            <p:spPr>
              <a:xfrm flipH="1">
                <a:off x="19965960" y="7886880"/>
                <a:ext cx="108000" cy="28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915200" y="10734480"/>
                <a:ext cx="103320" cy="115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0" y="0"/>
                    </a:moveTo>
                    <a:lnTo>
                      <a:pt x="30" y="73"/>
                    </a:lnTo>
                    <a:lnTo>
                      <a:pt x="6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19940760" y="9172440"/>
              <a:ext cx="838080" cy="1789200"/>
              <a:chOff x="19940760" y="9172440"/>
              <a:chExt cx="838080" cy="1789200"/>
            </a:xfrm>
          </p:grpSpPr>
          <p:sp>
            <p:nvSpPr>
              <p:cNvPr id="741" name=""/>
              <p:cNvSpPr/>
              <p:nvPr/>
            </p:nvSpPr>
            <p:spPr>
              <a:xfrm>
                <a:off x="19940760" y="9172440"/>
                <a:ext cx="793440" cy="16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0685240" y="10834560"/>
                <a:ext cx="93600" cy="127080"/>
              </a:xfrm>
              <a:custGeom>
                <a:avLst/>
                <a:gdLst/>
                <a:ahLst/>
                <a:rect l="l" t="t" r="r" b="b"/>
                <a:pathLst>
                  <a:path w="59" h="80">
                    <a:moveTo>
                      <a:pt x="0" y="32"/>
                    </a:moveTo>
                    <a:lnTo>
                      <a:pt x="59" y="80"/>
                    </a:lnTo>
                    <a:lnTo>
                      <a:pt x="5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19011960" y="8786880"/>
              <a:ext cx="950400" cy="2063160"/>
              <a:chOff x="19011960" y="8786880"/>
              <a:chExt cx="950400" cy="2063160"/>
            </a:xfrm>
          </p:grpSpPr>
          <p:sp>
            <p:nvSpPr>
              <p:cNvPr id="744" name=""/>
              <p:cNvSpPr/>
              <p:nvPr/>
            </p:nvSpPr>
            <p:spPr>
              <a:xfrm>
                <a:off x="19011960" y="8786880"/>
                <a:ext cx="906480" cy="19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869120" y="10723320"/>
                <a:ext cx="93240" cy="126720"/>
              </a:xfrm>
              <a:custGeom>
                <a:avLst/>
                <a:gdLst/>
                <a:ahLst/>
                <a:rect l="l" t="t" r="r" b="b"/>
                <a:pathLst>
                  <a:path w="59" h="80">
                    <a:moveTo>
                      <a:pt x="0" y="33"/>
                    </a:moveTo>
                    <a:lnTo>
                      <a:pt x="59" y="80"/>
                    </a:lnTo>
                    <a:lnTo>
                      <a:pt x="58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21159720" y="10363320"/>
              <a:ext cx="1270080" cy="429840"/>
              <a:chOff x="21159720" y="10363320"/>
              <a:chExt cx="1270080" cy="429840"/>
            </a:xfrm>
          </p:grpSpPr>
          <p:sp>
            <p:nvSpPr>
              <p:cNvPr id="747" name=""/>
              <p:cNvSpPr/>
              <p:nvPr/>
            </p:nvSpPr>
            <p:spPr>
              <a:xfrm flipV="1">
                <a:off x="21159720" y="10415520"/>
                <a:ext cx="1176480" cy="377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317120" y="1036332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18" y="68"/>
                    </a:moveTo>
                    <a:lnTo>
                      <a:pt x="71" y="13"/>
                    </a:lnTo>
                    <a:lnTo>
                      <a:pt x="0" y="0"/>
                    </a:lnTo>
                    <a:lnTo>
                      <a:pt x="18" y="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21545640" y="10936440"/>
              <a:ext cx="910800" cy="313920"/>
              <a:chOff x="21545640" y="10936440"/>
              <a:chExt cx="910800" cy="313920"/>
            </a:xfrm>
          </p:grpSpPr>
          <p:sp>
            <p:nvSpPr>
              <p:cNvPr id="750" name=""/>
              <p:cNvSpPr/>
              <p:nvPr/>
            </p:nvSpPr>
            <p:spPr>
              <a:xfrm flipH="1" flipV="1">
                <a:off x="21638880" y="10990080"/>
                <a:ext cx="817560" cy="260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545640" y="1093644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71" y="0"/>
                    </a:moveTo>
                    <a:lnTo>
                      <a:pt x="0" y="16"/>
                    </a:lnTo>
                    <a:lnTo>
                      <a:pt x="53" y="6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22448880" y="5211720"/>
              <a:ext cx="971640" cy="6038640"/>
              <a:chOff x="22448880" y="5211720"/>
              <a:chExt cx="971640" cy="6038640"/>
            </a:xfrm>
          </p:grpSpPr>
          <p:sp>
            <p:nvSpPr>
              <p:cNvPr id="753" name=""/>
              <p:cNvSpPr/>
              <p:nvPr/>
            </p:nvSpPr>
            <p:spPr>
              <a:xfrm>
                <a:off x="22547160" y="5266800"/>
                <a:ext cx="873360" cy="5983560"/>
              </a:xfrm>
              <a:custGeom>
                <a:avLst/>
                <a:gdLst/>
                <a:ahLst/>
                <a:rect l="l" t="t" r="r" b="b"/>
                <a:pathLst>
                  <a:path w="550" h="3770">
                    <a:moveTo>
                      <a:pt x="401" y="3770"/>
                    </a:moveTo>
                    <a:lnTo>
                      <a:pt x="550" y="3770"/>
                    </a:lnTo>
                    <a:lnTo>
                      <a:pt x="55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2448880" y="5211720"/>
                <a:ext cx="10332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0"/>
                    </a:moveTo>
                    <a:lnTo>
                      <a:pt x="0" y="36"/>
                    </a:lnTo>
                    <a:lnTo>
                      <a:pt x="65" y="7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22448880" y="5267160"/>
              <a:ext cx="942840" cy="5173560"/>
              <a:chOff x="22448880" y="5267160"/>
              <a:chExt cx="942840" cy="5173560"/>
            </a:xfrm>
          </p:grpSpPr>
          <p:sp>
            <p:nvSpPr>
              <p:cNvPr id="756" name=""/>
              <p:cNvSpPr/>
              <p:nvPr/>
            </p:nvSpPr>
            <p:spPr>
              <a:xfrm>
                <a:off x="22448880" y="5267160"/>
                <a:ext cx="942840" cy="5116680"/>
              </a:xfrm>
              <a:custGeom>
                <a:avLst/>
                <a:gdLst/>
                <a:ahLst/>
                <a:rect l="l" t="t" r="r" b="b"/>
                <a:pathLst>
                  <a:path w="594" h="3224">
                    <a:moveTo>
                      <a:pt x="0" y="0"/>
                    </a:moveTo>
                    <a:lnTo>
                      <a:pt x="594" y="0"/>
                    </a:lnTo>
                    <a:lnTo>
                      <a:pt x="594" y="3224"/>
                    </a:lnTo>
                    <a:lnTo>
                      <a:pt x="508" y="3224"/>
                    </a:ln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3157000" y="10328400"/>
                <a:ext cx="10296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65" y="0"/>
                    </a:moveTo>
                    <a:lnTo>
                      <a:pt x="0" y="35"/>
                    </a:lnTo>
                    <a:lnTo>
                      <a:pt x="65" y="7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2747320" y="10530000"/>
              <a:ext cx="103320" cy="574200"/>
              <a:chOff x="22747320" y="10530000"/>
              <a:chExt cx="103320" cy="574200"/>
            </a:xfrm>
          </p:grpSpPr>
          <p:sp>
            <p:nvSpPr>
              <p:cNvPr id="759" name=""/>
              <p:cNvSpPr/>
              <p:nvPr/>
            </p:nvSpPr>
            <p:spPr>
              <a:xfrm flipH="1" flipV="1">
                <a:off x="22798080" y="10634400"/>
                <a:ext cx="22320" cy="4698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2747320" y="10530000"/>
                <a:ext cx="103320" cy="114480"/>
              </a:xfrm>
              <a:custGeom>
                <a:avLst/>
                <a:gdLst/>
                <a:ahLst/>
                <a:rect l="l" t="t" r="r" b="b"/>
                <a:pathLst>
                  <a:path w="65" h="72">
                    <a:moveTo>
                      <a:pt x="65" y="68"/>
                    </a:moveTo>
                    <a:lnTo>
                      <a:pt x="29" y="0"/>
                    </a:lnTo>
                    <a:lnTo>
                      <a:pt x="0" y="72"/>
                    </a:lnTo>
                    <a:lnTo>
                      <a:pt x="65" y="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20518560" y="6256440"/>
              <a:ext cx="102960" cy="825480"/>
              <a:chOff x="20518560" y="6256440"/>
              <a:chExt cx="102960" cy="825480"/>
            </a:xfrm>
          </p:grpSpPr>
          <p:sp>
            <p:nvSpPr>
              <p:cNvPr id="762" name=""/>
              <p:cNvSpPr/>
              <p:nvPr/>
            </p:nvSpPr>
            <p:spPr>
              <a:xfrm>
                <a:off x="20569320" y="6256440"/>
                <a:ext cx="1440" cy="717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0518560" y="697068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0" y="0"/>
                    </a:moveTo>
                    <a:lnTo>
                      <a:pt x="32" y="70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20568960" y="6111720"/>
              <a:ext cx="551160" cy="970200"/>
              <a:chOff x="20568960" y="6111720"/>
              <a:chExt cx="551160" cy="970200"/>
            </a:xfrm>
          </p:grpSpPr>
          <p:sp>
            <p:nvSpPr>
              <p:cNvPr id="765" name=""/>
              <p:cNvSpPr/>
              <p:nvPr/>
            </p:nvSpPr>
            <p:spPr>
              <a:xfrm flipH="1">
                <a:off x="20568960" y="6202440"/>
                <a:ext cx="500040" cy="879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1021840" y="6111720"/>
                <a:ext cx="98280" cy="125640"/>
              </a:xfrm>
              <a:custGeom>
                <a:avLst/>
                <a:gdLst/>
                <a:ahLst/>
                <a:rect l="l" t="t" r="r" b="b"/>
                <a:pathLst>
                  <a:path w="62" h="79">
                    <a:moveTo>
                      <a:pt x="55" y="79"/>
                    </a:moveTo>
                    <a:lnTo>
                      <a:pt x="62" y="0"/>
                    </a:lnTo>
                    <a:lnTo>
                      <a:pt x="0" y="41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21523320" y="6307200"/>
              <a:ext cx="96840" cy="237960"/>
              <a:chOff x="21523320" y="6307200"/>
              <a:chExt cx="96840" cy="237960"/>
            </a:xfrm>
          </p:grpSpPr>
          <p:sp>
            <p:nvSpPr>
              <p:cNvPr id="768" name=""/>
              <p:cNvSpPr/>
              <p:nvPr/>
            </p:nvSpPr>
            <p:spPr>
              <a:xfrm flipV="1">
                <a:off x="21523320" y="6405480"/>
                <a:ext cx="47520" cy="139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1523320" y="6307200"/>
                <a:ext cx="96840" cy="125280"/>
              </a:xfrm>
              <a:custGeom>
                <a:avLst/>
                <a:gdLst/>
                <a:ahLst/>
                <a:rect l="l" t="t" r="r" b="b"/>
                <a:pathLst>
                  <a:path w="61" h="79">
                    <a:moveTo>
                      <a:pt x="61" y="79"/>
                    </a:moveTo>
                    <a:lnTo>
                      <a:pt x="53" y="0"/>
                    </a:lnTo>
                    <a:lnTo>
                      <a:pt x="0" y="53"/>
                    </a:lnTo>
                    <a:lnTo>
                      <a:pt x="61" y="7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21521880" y="6835680"/>
              <a:ext cx="98280" cy="246240"/>
              <a:chOff x="21521880" y="6835680"/>
              <a:chExt cx="98280" cy="246240"/>
            </a:xfrm>
          </p:grpSpPr>
          <p:sp>
            <p:nvSpPr>
              <p:cNvPr id="771" name=""/>
              <p:cNvSpPr/>
              <p:nvPr/>
            </p:nvSpPr>
            <p:spPr>
              <a:xfrm>
                <a:off x="21523320" y="6835680"/>
                <a:ext cx="47520" cy="1461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1521880" y="6958080"/>
                <a:ext cx="98280" cy="123840"/>
              </a:xfrm>
              <a:custGeom>
                <a:avLst/>
                <a:gdLst/>
                <a:ahLst/>
                <a:rect l="l" t="t" r="r" b="b"/>
                <a:pathLst>
                  <a:path w="62" h="78">
                    <a:moveTo>
                      <a:pt x="0" y="24"/>
                    </a:moveTo>
                    <a:lnTo>
                      <a:pt x="54" y="78"/>
                    </a:lnTo>
                    <a:lnTo>
                      <a:pt x="62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21607560" y="6305400"/>
              <a:ext cx="1090440" cy="758880"/>
              <a:chOff x="21607560" y="6305400"/>
              <a:chExt cx="1090440" cy="758880"/>
            </a:xfrm>
          </p:grpSpPr>
          <p:sp>
            <p:nvSpPr>
              <p:cNvPr id="774" name=""/>
              <p:cNvSpPr/>
              <p:nvPr/>
            </p:nvSpPr>
            <p:spPr>
              <a:xfrm>
                <a:off x="21607560" y="6305400"/>
                <a:ext cx="1008000" cy="7020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583880" y="6954840"/>
                <a:ext cx="114120" cy="10944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0" y="60"/>
                    </a:moveTo>
                    <a:lnTo>
                      <a:pt x="72" y="69"/>
                    </a:lnTo>
                    <a:lnTo>
                      <a:pt x="35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22647240" y="6378480"/>
              <a:ext cx="103320" cy="685800"/>
              <a:chOff x="22647240" y="6378480"/>
              <a:chExt cx="103320" cy="685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2698000" y="6378480"/>
                <a:ext cx="1800" cy="5763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647240" y="6951600"/>
                <a:ext cx="103320" cy="1126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0" y="0"/>
                    </a:moveTo>
                    <a:lnTo>
                      <a:pt x="32" y="71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20952000" y="7180200"/>
              <a:ext cx="291960" cy="111240"/>
              <a:chOff x="20952000" y="7180200"/>
              <a:chExt cx="291960" cy="111240"/>
            </a:xfrm>
          </p:grpSpPr>
          <p:sp>
            <p:nvSpPr>
              <p:cNvPr id="780" name=""/>
              <p:cNvSpPr/>
              <p:nvPr/>
            </p:nvSpPr>
            <p:spPr>
              <a:xfrm flipV="1">
                <a:off x="20952000" y="7234200"/>
                <a:ext cx="191880" cy="144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1137400" y="7180200"/>
                <a:ext cx="106560" cy="11124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4" y="70"/>
                    </a:moveTo>
                    <a:lnTo>
                      <a:pt x="67" y="30"/>
                    </a:lnTo>
                    <a:lnTo>
                      <a:pt x="0" y="0"/>
                    </a:lnTo>
                    <a:lnTo>
                      <a:pt x="4" y="7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1969360" y="7156440"/>
              <a:ext cx="365040" cy="112680"/>
              <a:chOff x="21969360" y="7156440"/>
              <a:chExt cx="365040" cy="11268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21969360" y="7211880"/>
                <a:ext cx="265320" cy="15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228200" y="7156440"/>
                <a:ext cx="106200" cy="112680"/>
              </a:xfrm>
              <a:custGeom>
                <a:avLst/>
                <a:gdLst/>
                <a:ahLst/>
                <a:rect l="l" t="t" r="r" b="b"/>
                <a:pathLst>
                  <a:path w="67" h="71">
                    <a:moveTo>
                      <a:pt x="3" y="71"/>
                    </a:moveTo>
                    <a:lnTo>
                      <a:pt x="67" y="31"/>
                    </a:lnTo>
                    <a:lnTo>
                      <a:pt x="0" y="0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20736000" y="8218440"/>
              <a:ext cx="341280" cy="331560"/>
              <a:chOff x="20736000" y="8218440"/>
              <a:chExt cx="341280" cy="331560"/>
            </a:xfrm>
          </p:grpSpPr>
          <p:sp>
            <p:nvSpPr>
              <p:cNvPr id="786" name=""/>
              <p:cNvSpPr/>
              <p:nvPr/>
            </p:nvSpPr>
            <p:spPr>
              <a:xfrm>
                <a:off x="20736000" y="8218440"/>
                <a:ext cx="268200" cy="261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0967840" y="843408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69" h="73">
                    <a:moveTo>
                      <a:pt x="0" y="52"/>
                    </a:moveTo>
                    <a:lnTo>
                      <a:pt x="69" y="73"/>
                    </a:lnTo>
                    <a:lnTo>
                      <a:pt x="42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21077280" y="8346960"/>
              <a:ext cx="506520" cy="202680"/>
              <a:chOff x="21077280" y="8346960"/>
              <a:chExt cx="506520" cy="20268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21077280" y="8397360"/>
                <a:ext cx="4125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1469320" y="8346960"/>
                <a:ext cx="114480" cy="10620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21" y="67"/>
                    </a:moveTo>
                    <a:lnTo>
                      <a:pt x="72" y="11"/>
                    </a:lnTo>
                    <a:lnTo>
                      <a:pt x="0" y="0"/>
                    </a:lnTo>
                    <a:lnTo>
                      <a:pt x="21" y="6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21313800" y="7707240"/>
              <a:ext cx="635040" cy="510840"/>
              <a:chOff x="21313800" y="7707240"/>
              <a:chExt cx="635040" cy="510840"/>
            </a:xfrm>
          </p:grpSpPr>
          <p:sp>
            <p:nvSpPr>
              <p:cNvPr id="792" name=""/>
              <p:cNvSpPr/>
              <p:nvPr/>
            </p:nvSpPr>
            <p:spPr>
              <a:xfrm>
                <a:off x="21313800" y="7707240"/>
                <a:ext cx="554040" cy="447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1832920" y="8107560"/>
                <a:ext cx="115920" cy="110520"/>
              </a:xfrm>
              <a:custGeom>
                <a:avLst/>
                <a:gdLst/>
                <a:ahLst/>
                <a:rect l="l" t="t" r="r" b="b"/>
                <a:pathLst>
                  <a:path w="73" h="70">
                    <a:moveTo>
                      <a:pt x="0" y="56"/>
                    </a:moveTo>
                    <a:lnTo>
                      <a:pt x="73" y="70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21902760" y="7851600"/>
              <a:ext cx="103320" cy="366480"/>
              <a:chOff x="21902760" y="7851600"/>
              <a:chExt cx="103320" cy="366480"/>
            </a:xfrm>
          </p:grpSpPr>
          <p:sp>
            <p:nvSpPr>
              <p:cNvPr id="795" name=""/>
              <p:cNvSpPr/>
              <p:nvPr/>
            </p:nvSpPr>
            <p:spPr>
              <a:xfrm flipH="1">
                <a:off x="21953520" y="7851600"/>
                <a:ext cx="15840" cy="259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1902760" y="8104320"/>
                <a:ext cx="103320" cy="113760"/>
              </a:xfrm>
              <a:custGeom>
                <a:avLst/>
                <a:gdLst/>
                <a:ahLst/>
                <a:rect l="l" t="t" r="r" b="b"/>
                <a:pathLst>
                  <a:path w="65" h="72">
                    <a:moveTo>
                      <a:pt x="0" y="0"/>
                    </a:moveTo>
                    <a:lnTo>
                      <a:pt x="29" y="72"/>
                    </a:lnTo>
                    <a:lnTo>
                      <a:pt x="6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21462840" y="9266400"/>
              <a:ext cx="508320" cy="171360"/>
              <a:chOff x="21462840" y="9266400"/>
              <a:chExt cx="508320" cy="171360"/>
            </a:xfrm>
          </p:grpSpPr>
          <p:sp>
            <p:nvSpPr>
              <p:cNvPr id="798" name=""/>
              <p:cNvSpPr/>
              <p:nvPr/>
            </p:nvSpPr>
            <p:spPr>
              <a:xfrm flipV="1">
                <a:off x="21462840" y="9320400"/>
                <a:ext cx="411480" cy="117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1858120" y="9266400"/>
                <a:ext cx="113040" cy="10944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16" y="69"/>
                    </a:moveTo>
                    <a:lnTo>
                      <a:pt x="71" y="16"/>
                    </a:lnTo>
                    <a:lnTo>
                      <a:pt x="0" y="0"/>
                    </a:lnTo>
                    <a:lnTo>
                      <a:pt x="16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20073960" y="7888320"/>
              <a:ext cx="617040" cy="826200"/>
              <a:chOff x="20073960" y="7888320"/>
              <a:chExt cx="617040" cy="826200"/>
            </a:xfrm>
          </p:grpSpPr>
          <p:sp>
            <p:nvSpPr>
              <p:cNvPr id="801" name=""/>
              <p:cNvSpPr/>
              <p:nvPr/>
            </p:nvSpPr>
            <p:spPr>
              <a:xfrm flipH="1" flipV="1">
                <a:off x="20135520" y="7966800"/>
                <a:ext cx="555480" cy="74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0073960" y="7888320"/>
                <a:ext cx="106200" cy="120240"/>
              </a:xfrm>
              <a:custGeom>
                <a:avLst/>
                <a:gdLst/>
                <a:ahLst/>
                <a:rect l="l" t="t" r="r" b="b"/>
                <a:pathLst>
                  <a:path w="67" h="76">
                    <a:moveTo>
                      <a:pt x="67" y="32"/>
                    </a:moveTo>
                    <a:lnTo>
                      <a:pt x="0" y="0"/>
                    </a:lnTo>
                    <a:lnTo>
                      <a:pt x="17" y="76"/>
                    </a:lnTo>
                    <a:lnTo>
                      <a:pt x="6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1901320" y="8507520"/>
              <a:ext cx="102960" cy="495360"/>
              <a:chOff x="21901320" y="8507520"/>
              <a:chExt cx="102960" cy="495360"/>
            </a:xfrm>
          </p:grpSpPr>
          <p:sp>
            <p:nvSpPr>
              <p:cNvPr id="804" name=""/>
              <p:cNvSpPr/>
              <p:nvPr/>
            </p:nvSpPr>
            <p:spPr>
              <a:xfrm flipH="1" flipV="1">
                <a:off x="21952080" y="8614080"/>
                <a:ext cx="17280" cy="388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1901320" y="8507520"/>
                <a:ext cx="102960" cy="11592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65" y="69"/>
                    </a:moveTo>
                    <a:lnTo>
                      <a:pt x="30" y="0"/>
                    </a:lnTo>
                    <a:lnTo>
                      <a:pt x="0" y="73"/>
                    </a:lnTo>
                    <a:lnTo>
                      <a:pt x="65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1948840" y="8507520"/>
              <a:ext cx="976320" cy="569520"/>
              <a:chOff x="21948840" y="8507520"/>
              <a:chExt cx="976320" cy="569520"/>
            </a:xfrm>
          </p:grpSpPr>
          <p:sp>
            <p:nvSpPr>
              <p:cNvPr id="807" name=""/>
              <p:cNvSpPr/>
              <p:nvPr/>
            </p:nvSpPr>
            <p:spPr>
              <a:xfrm flipH="1" flipV="1">
                <a:off x="22033080" y="8554680"/>
                <a:ext cx="892080" cy="52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948840" y="8507520"/>
                <a:ext cx="114120" cy="103320"/>
              </a:xfrm>
              <a:custGeom>
                <a:avLst/>
                <a:gdLst/>
                <a:ahLst/>
                <a:rect l="l" t="t" r="r" b="b"/>
                <a:pathLst>
                  <a:path w="72" h="65">
                    <a:moveTo>
                      <a:pt x="72" y="2"/>
                    </a:moveTo>
                    <a:lnTo>
                      <a:pt x="0" y="0"/>
                    </a:lnTo>
                    <a:lnTo>
                      <a:pt x="42" y="65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22874400" y="8508960"/>
              <a:ext cx="102960" cy="568080"/>
              <a:chOff x="22874400" y="8508960"/>
              <a:chExt cx="102960" cy="568080"/>
            </a:xfrm>
          </p:grpSpPr>
          <p:sp>
            <p:nvSpPr>
              <p:cNvPr id="810" name=""/>
              <p:cNvSpPr/>
              <p:nvPr/>
            </p:nvSpPr>
            <p:spPr>
              <a:xfrm>
                <a:off x="22925160" y="8508960"/>
                <a:ext cx="1440" cy="461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2874400" y="8967600"/>
                <a:ext cx="102960" cy="10944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0" y="0"/>
                    </a:moveTo>
                    <a:lnTo>
                      <a:pt x="33" y="69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22855320" y="7931160"/>
              <a:ext cx="102960" cy="286920"/>
              <a:chOff x="22855320" y="7931160"/>
              <a:chExt cx="102960" cy="286920"/>
            </a:xfrm>
          </p:grpSpPr>
          <p:sp>
            <p:nvSpPr>
              <p:cNvPr id="813" name=""/>
              <p:cNvSpPr/>
              <p:nvPr/>
            </p:nvSpPr>
            <p:spPr>
              <a:xfrm flipH="1" flipV="1">
                <a:off x="22905720" y="8036640"/>
                <a:ext cx="19080" cy="18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55320" y="7931160"/>
                <a:ext cx="102960" cy="118080"/>
              </a:xfrm>
              <a:custGeom>
                <a:avLst/>
                <a:gdLst/>
                <a:ahLst/>
                <a:rect l="l" t="t" r="r" b="b"/>
                <a:pathLst>
                  <a:path w="65" h="75">
                    <a:moveTo>
                      <a:pt x="65" y="67"/>
                    </a:moveTo>
                    <a:lnTo>
                      <a:pt x="25" y="0"/>
                    </a:lnTo>
                    <a:lnTo>
                      <a:pt x="0" y="75"/>
                    </a:lnTo>
                    <a:lnTo>
                      <a:pt x="65" y="6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18456120" y="4635360"/>
              <a:ext cx="2422800" cy="3398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557280" y="4700520"/>
              <a:ext cx="224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MENIK GANGA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255720" y="11128320"/>
              <a:ext cx="8622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2282480" y="14614560"/>
            <a:ext cx="16216200" cy="9617040"/>
            <a:chOff x="12282480" y="14614560"/>
            <a:chExt cx="16216200" cy="9617040"/>
          </a:xfrm>
        </p:grpSpPr>
        <p:sp>
          <p:nvSpPr>
            <p:cNvPr id="819" name=""/>
            <p:cNvSpPr/>
            <p:nvPr/>
          </p:nvSpPr>
          <p:spPr>
            <a:xfrm>
              <a:off x="12282480" y="14614560"/>
              <a:ext cx="16216200" cy="9617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330760" y="15948000"/>
              <a:ext cx="1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295840" y="16063920"/>
              <a:ext cx="7128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0"/>
                  </a:moveTo>
                  <a:lnTo>
                    <a:pt x="45" y="0"/>
                  </a:lnTo>
                  <a:lnTo>
                    <a:pt x="22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17330760" y="17186040"/>
              <a:ext cx="144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7295840" y="17081640"/>
              <a:ext cx="7128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45" y="66"/>
                  </a:moveTo>
                  <a:lnTo>
                    <a:pt x="0" y="66"/>
                  </a:lnTo>
                  <a:lnTo>
                    <a:pt x="22" y="0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289120" y="16630560"/>
              <a:ext cx="15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441400" y="16590960"/>
              <a:ext cx="9864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49"/>
                  </a:moveTo>
                  <a:lnTo>
                    <a:pt x="0" y="0"/>
                  </a:lnTo>
                  <a:lnTo>
                    <a:pt x="62" y="2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5297120" y="16975080"/>
              <a:ext cx="1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262200" y="1687032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45" y="66"/>
                  </a:moveTo>
                  <a:lnTo>
                    <a:pt x="0" y="66"/>
                  </a:lnTo>
                  <a:lnTo>
                    <a:pt x="22" y="0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97120" y="15948000"/>
              <a:ext cx="14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262200" y="1628460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0"/>
                  </a:moveTo>
                  <a:lnTo>
                    <a:pt x="45" y="0"/>
                  </a:lnTo>
                  <a:lnTo>
                    <a:pt x="22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16153920" y="16630560"/>
              <a:ext cx="427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056000" y="16590960"/>
              <a:ext cx="9828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62" y="0"/>
                  </a:moveTo>
                  <a:lnTo>
                    <a:pt x="62" y="49"/>
                  </a:lnTo>
                  <a:lnTo>
                    <a:pt x="0" y="2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190840" y="16159320"/>
              <a:ext cx="47304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655960" y="16332120"/>
              <a:ext cx="96840" cy="5724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36"/>
                  </a:moveTo>
                  <a:lnTo>
                    <a:pt x="11" y="0"/>
                  </a:lnTo>
                  <a:lnTo>
                    <a:pt x="61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3584240" y="16975080"/>
              <a:ext cx="1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549320" y="16870320"/>
              <a:ext cx="7128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45" y="66"/>
                  </a:moveTo>
                  <a:lnTo>
                    <a:pt x="0" y="66"/>
                  </a:lnTo>
                  <a:lnTo>
                    <a:pt x="22" y="0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14468040" y="14960520"/>
              <a:ext cx="195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370120" y="14920920"/>
              <a:ext cx="9828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62" y="0"/>
                  </a:moveTo>
                  <a:lnTo>
                    <a:pt x="62" y="49"/>
                  </a:lnTo>
                  <a:lnTo>
                    <a:pt x="0" y="2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297120" y="15200280"/>
              <a:ext cx="14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262200" y="1536372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0"/>
                  </a:moveTo>
                  <a:lnTo>
                    <a:pt x="45" y="0"/>
                  </a:lnTo>
                  <a:lnTo>
                    <a:pt x="22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011360" y="15708240"/>
              <a:ext cx="614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6625880" y="1567008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48"/>
                  </a:moveTo>
                  <a:lnTo>
                    <a:pt x="0" y="0"/>
                  </a:lnTo>
                  <a:lnTo>
                    <a:pt x="62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7330760" y="15200280"/>
              <a:ext cx="14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295840" y="15363720"/>
              <a:ext cx="7128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0"/>
                  </a:moveTo>
                  <a:lnTo>
                    <a:pt x="45" y="0"/>
                  </a:lnTo>
                  <a:lnTo>
                    <a:pt x="22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17714520" y="17945280"/>
              <a:ext cx="1498680" cy="16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643600" y="19539000"/>
              <a:ext cx="88920" cy="8568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34" y="0"/>
                  </a:moveTo>
                  <a:lnTo>
                    <a:pt x="56" y="24"/>
                  </a:lnTo>
                  <a:lnTo>
                    <a:pt x="0" y="5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884720" y="19384920"/>
              <a:ext cx="54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6911720" y="19518480"/>
              <a:ext cx="61920" cy="10620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0" y="13"/>
                  </a:moveTo>
                  <a:lnTo>
                    <a:pt x="34" y="0"/>
                  </a:lnTo>
                  <a:lnTo>
                    <a:pt x="39" y="6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4146200" y="20142360"/>
              <a:ext cx="16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306400" y="20104200"/>
              <a:ext cx="9864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49"/>
                  </a:moveTo>
                  <a:lnTo>
                    <a:pt x="0" y="0"/>
                  </a:lnTo>
                  <a:lnTo>
                    <a:pt x="62" y="2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5136920" y="19634040"/>
              <a:ext cx="144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102000" y="19797840"/>
              <a:ext cx="69840" cy="10476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0" y="0"/>
                  </a:moveTo>
                  <a:lnTo>
                    <a:pt x="44" y="0"/>
                  </a:lnTo>
                  <a:lnTo>
                    <a:pt x="22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15957360" y="20142360"/>
              <a:ext cx="463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859080" y="20104200"/>
              <a:ext cx="9864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62" y="0"/>
                  </a:moveTo>
                  <a:lnTo>
                    <a:pt x="62" y="49"/>
                  </a:lnTo>
                  <a:lnTo>
                    <a:pt x="0" y="2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15136920" y="20488320"/>
              <a:ext cx="1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102000" y="20383560"/>
              <a:ext cx="69840" cy="10476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44" y="66"/>
                  </a:moveTo>
                  <a:lnTo>
                    <a:pt x="0" y="66"/>
                  </a:lnTo>
                  <a:lnTo>
                    <a:pt x="22" y="0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262120" y="19394640"/>
              <a:ext cx="9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4352480" y="1935648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48"/>
                  </a:moveTo>
                  <a:lnTo>
                    <a:pt x="0" y="0"/>
                  </a:lnTo>
                  <a:lnTo>
                    <a:pt x="56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4155560" y="20834280"/>
              <a:ext cx="142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4298480" y="20796120"/>
              <a:ext cx="9864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48"/>
                  </a:moveTo>
                  <a:lnTo>
                    <a:pt x="0" y="0"/>
                  </a:lnTo>
                  <a:lnTo>
                    <a:pt x="62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512960" y="21467880"/>
              <a:ext cx="179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692240" y="2142972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48"/>
                  </a:moveTo>
                  <a:lnTo>
                    <a:pt x="0" y="0"/>
                  </a:lnTo>
                  <a:lnTo>
                    <a:pt x="62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16135200" y="22215600"/>
              <a:ext cx="32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038360" y="22177440"/>
              <a:ext cx="96840" cy="777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1" y="0"/>
                  </a:moveTo>
                  <a:lnTo>
                    <a:pt x="61" y="49"/>
                  </a:lnTo>
                  <a:lnTo>
                    <a:pt x="0" y="2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14690880" y="21736080"/>
              <a:ext cx="63324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314760" y="21707640"/>
              <a:ext cx="98280" cy="568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2" y="36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5082920" y="21467880"/>
              <a:ext cx="98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181200" y="21429720"/>
              <a:ext cx="88920" cy="7632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48"/>
                  </a:moveTo>
                  <a:lnTo>
                    <a:pt x="0" y="0"/>
                  </a:lnTo>
                  <a:lnTo>
                    <a:pt x="56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15617880" y="21783600"/>
              <a:ext cx="15228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743160" y="21707640"/>
              <a:ext cx="81000" cy="95040"/>
            </a:xfrm>
            <a:custGeom>
              <a:avLst/>
              <a:gdLst/>
              <a:ahLst/>
              <a:rect l="l" t="t" r="r" b="b"/>
              <a:pathLst>
                <a:path w="51" h="60">
                  <a:moveTo>
                    <a:pt x="34" y="60"/>
                  </a:moveTo>
                  <a:lnTo>
                    <a:pt x="0" y="36"/>
                  </a:lnTo>
                  <a:lnTo>
                    <a:pt x="51" y="0"/>
                  </a:lnTo>
                  <a:lnTo>
                    <a:pt x="34" y="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16260480" y="20661480"/>
              <a:ext cx="4633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189200" y="2114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34" y="0"/>
                  </a:moveTo>
                  <a:lnTo>
                    <a:pt x="56" y="24"/>
                  </a:lnTo>
                  <a:lnTo>
                    <a:pt x="0" y="5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7170560" y="20661480"/>
              <a:ext cx="144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7135640" y="21871080"/>
              <a:ext cx="7128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0"/>
                  </a:moveTo>
                  <a:lnTo>
                    <a:pt x="45" y="0"/>
                  </a:lnTo>
                  <a:lnTo>
                    <a:pt x="22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202560" y="21697920"/>
              <a:ext cx="131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14040" y="2165976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48"/>
                  </a:moveTo>
                  <a:lnTo>
                    <a:pt x="0" y="0"/>
                  </a:lnTo>
                  <a:lnTo>
                    <a:pt x="62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>
              <a:off x="23601240" y="22234680"/>
              <a:ext cx="46368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556960" y="22148640"/>
              <a:ext cx="71280" cy="10656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45" y="42"/>
                  </a:moveTo>
                  <a:lnTo>
                    <a:pt x="11" y="67"/>
                  </a:lnTo>
                  <a:lnTo>
                    <a:pt x="0" y="0"/>
                  </a:lnTo>
                  <a:lnTo>
                    <a:pt x="45" y="4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271120" y="16640280"/>
              <a:ext cx="180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236200" y="17148240"/>
              <a:ext cx="71640" cy="10620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0" y="0"/>
                  </a:moveTo>
                  <a:lnTo>
                    <a:pt x="45" y="0"/>
                  </a:lnTo>
                  <a:lnTo>
                    <a:pt x="22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792800" y="20431080"/>
              <a:ext cx="419400" cy="74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85200" y="21159720"/>
              <a:ext cx="71280" cy="10656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0" y="24"/>
                  </a:moveTo>
                  <a:lnTo>
                    <a:pt x="34" y="0"/>
                  </a:lnTo>
                  <a:lnTo>
                    <a:pt x="45" y="6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488320" y="17494200"/>
              <a:ext cx="160200" cy="3665520"/>
            </a:xfrm>
            <a:custGeom>
              <a:avLst/>
              <a:gdLst/>
              <a:ahLst/>
              <a:rect l="l" t="t" r="r" b="b"/>
              <a:pathLst>
                <a:path w="18" h="382">
                  <a:moveTo>
                    <a:pt x="18" y="0"/>
                  </a:moveTo>
                  <a:lnTo>
                    <a:pt x="0" y="0"/>
                  </a:lnTo>
                  <a:lnTo>
                    <a:pt x="0" y="3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453400" y="21159720"/>
              <a:ext cx="71280" cy="10656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0" y="0"/>
                  </a:moveTo>
                  <a:lnTo>
                    <a:pt x="45" y="0"/>
                  </a:lnTo>
                  <a:lnTo>
                    <a:pt x="22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21353400" y="18021240"/>
              <a:ext cx="367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1318480" y="1791648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45" y="66"/>
                  </a:moveTo>
                  <a:lnTo>
                    <a:pt x="0" y="66"/>
                  </a:lnTo>
                  <a:lnTo>
                    <a:pt x="22" y="0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22183560" y="17494200"/>
              <a:ext cx="45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085280" y="1745604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62" y="0"/>
                  </a:moveTo>
                  <a:lnTo>
                    <a:pt x="62" y="48"/>
                  </a:lnTo>
                  <a:lnTo>
                    <a:pt x="0" y="2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325120" y="1928808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290200" y="19461240"/>
              <a:ext cx="71280" cy="10620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0" y="0"/>
                  </a:moveTo>
                  <a:lnTo>
                    <a:pt x="45" y="0"/>
                  </a:lnTo>
                  <a:lnTo>
                    <a:pt x="22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5198560" y="20373480"/>
              <a:ext cx="144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5163640" y="20267640"/>
              <a:ext cx="71280" cy="10620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45" y="67"/>
                  </a:moveTo>
                  <a:lnTo>
                    <a:pt x="0" y="67"/>
                  </a:lnTo>
                  <a:lnTo>
                    <a:pt x="22" y="0"/>
                  </a:lnTo>
                  <a:lnTo>
                    <a:pt x="45" y="6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877800" y="19346760"/>
              <a:ext cx="16992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5020720" y="1969128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0" y="12"/>
                  </a:moveTo>
                  <a:lnTo>
                    <a:pt x="33" y="0"/>
                  </a:lnTo>
                  <a:lnTo>
                    <a:pt x="39" y="6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26045640" y="20277000"/>
              <a:ext cx="36540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5957080" y="20248560"/>
              <a:ext cx="96840" cy="5724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0"/>
                  </a:moveTo>
                  <a:lnTo>
                    <a:pt x="50" y="36"/>
                  </a:lnTo>
                  <a:lnTo>
                    <a:pt x="0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4084000" y="20027880"/>
              <a:ext cx="2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42840" y="1998972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48"/>
                  </a:moveTo>
                  <a:lnTo>
                    <a:pt x="0" y="0"/>
                  </a:lnTo>
                  <a:lnTo>
                    <a:pt x="61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25518600" y="19461240"/>
              <a:ext cx="3128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447680" y="19701000"/>
              <a:ext cx="90360" cy="8712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34" y="0"/>
                  </a:moveTo>
                  <a:lnTo>
                    <a:pt x="57" y="37"/>
                  </a:lnTo>
                  <a:lnTo>
                    <a:pt x="0" y="5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25198560" y="2129436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5163640" y="21188520"/>
              <a:ext cx="71280" cy="10620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45" y="67"/>
                  </a:moveTo>
                  <a:lnTo>
                    <a:pt x="0" y="67"/>
                  </a:lnTo>
                  <a:lnTo>
                    <a:pt x="22" y="0"/>
                  </a:lnTo>
                  <a:lnTo>
                    <a:pt x="45" y="6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4180840" y="14941440"/>
              <a:ext cx="3854520" cy="8369280"/>
            </a:xfrm>
            <a:custGeom>
              <a:avLst/>
              <a:gdLst/>
              <a:ahLst/>
              <a:rect l="l" t="t" r="r" b="b"/>
              <a:pathLst>
                <a:path w="432" h="872">
                  <a:moveTo>
                    <a:pt x="0" y="872"/>
                  </a:moveTo>
                  <a:lnTo>
                    <a:pt x="432" y="872"/>
                  </a:lnTo>
                  <a:lnTo>
                    <a:pt x="432" y="26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111000" y="14901840"/>
              <a:ext cx="96840" cy="777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1" y="0"/>
                  </a:moveTo>
                  <a:lnTo>
                    <a:pt x="61" y="49"/>
                  </a:lnTo>
                  <a:lnTo>
                    <a:pt x="0" y="2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125640" y="20037600"/>
              <a:ext cx="144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089280" y="20257920"/>
              <a:ext cx="71280" cy="10512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0"/>
                  </a:moveTo>
                  <a:lnTo>
                    <a:pt x="45" y="0"/>
                  </a:lnTo>
                  <a:lnTo>
                    <a:pt x="23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27125640" y="18875520"/>
              <a:ext cx="144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7089280" y="18770760"/>
              <a:ext cx="7128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45" y="66"/>
                  </a:moveTo>
                  <a:lnTo>
                    <a:pt x="0" y="66"/>
                  </a:lnTo>
                  <a:lnTo>
                    <a:pt x="23" y="0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914080" y="17494200"/>
              <a:ext cx="249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163200" y="17456040"/>
              <a:ext cx="9864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48"/>
                  </a:moveTo>
                  <a:lnTo>
                    <a:pt x="0" y="0"/>
                  </a:lnTo>
                  <a:lnTo>
                    <a:pt x="62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984000" y="16927560"/>
              <a:ext cx="180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949080" y="17148240"/>
              <a:ext cx="71640" cy="10620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0" y="0"/>
                  </a:moveTo>
                  <a:lnTo>
                    <a:pt x="45" y="0"/>
                  </a:lnTo>
                  <a:lnTo>
                    <a:pt x="22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24984000" y="16168320"/>
              <a:ext cx="18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949080" y="1606392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45" y="66"/>
                  </a:moveTo>
                  <a:lnTo>
                    <a:pt x="0" y="66"/>
                  </a:lnTo>
                  <a:lnTo>
                    <a:pt x="22" y="0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3495040" y="16130160"/>
              <a:ext cx="1114560" cy="11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591960" y="16063920"/>
              <a:ext cx="88920" cy="8568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22" y="54"/>
                  </a:moveTo>
                  <a:lnTo>
                    <a:pt x="0" y="30"/>
                  </a:lnTo>
                  <a:lnTo>
                    <a:pt x="56" y="0"/>
                  </a:lnTo>
                  <a:lnTo>
                    <a:pt x="22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706520" y="17494200"/>
              <a:ext cx="11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5822440" y="1745604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48"/>
                  </a:moveTo>
                  <a:lnTo>
                    <a:pt x="0" y="0"/>
                  </a:lnTo>
                  <a:lnTo>
                    <a:pt x="62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269840" y="16063920"/>
              <a:ext cx="1079640" cy="11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6331840" y="171673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0" y="24"/>
                  </a:moveTo>
                  <a:lnTo>
                    <a:pt x="22" y="0"/>
                  </a:lnTo>
                  <a:lnTo>
                    <a:pt x="56" y="5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6642880" y="16581600"/>
              <a:ext cx="180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6607960" y="17148240"/>
              <a:ext cx="71640" cy="10620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0" y="0"/>
                  </a:moveTo>
                  <a:lnTo>
                    <a:pt x="45" y="0"/>
                  </a:lnTo>
                  <a:lnTo>
                    <a:pt x="22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203840" y="19911960"/>
              <a:ext cx="374760" cy="3282840"/>
            </a:xfrm>
            <a:custGeom>
              <a:avLst/>
              <a:gdLst/>
              <a:ahLst/>
              <a:rect l="l" t="t" r="r" b="b"/>
              <a:pathLst>
                <a:path w="42" h="342">
                  <a:moveTo>
                    <a:pt x="36" y="0"/>
                  </a:moveTo>
                  <a:lnTo>
                    <a:pt x="0" y="342"/>
                  </a:lnTo>
                  <a:lnTo>
                    <a:pt x="42" y="3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578600" y="23157000"/>
              <a:ext cx="98640" cy="7596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48"/>
                  </a:moveTo>
                  <a:lnTo>
                    <a:pt x="0" y="0"/>
                  </a:lnTo>
                  <a:lnTo>
                    <a:pt x="62" y="2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291480" y="19970640"/>
              <a:ext cx="268200" cy="3224160"/>
            </a:xfrm>
            <a:custGeom>
              <a:avLst/>
              <a:gdLst/>
              <a:ahLst/>
              <a:rect l="l" t="t" r="r" b="b"/>
              <a:pathLst>
                <a:path w="30" h="336">
                  <a:moveTo>
                    <a:pt x="12" y="0"/>
                  </a:moveTo>
                  <a:lnTo>
                    <a:pt x="30" y="336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93200" y="23157000"/>
              <a:ext cx="98280" cy="7596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62" y="0"/>
                  </a:moveTo>
                  <a:lnTo>
                    <a:pt x="62" y="48"/>
                  </a:lnTo>
                  <a:lnTo>
                    <a:pt x="0" y="2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620240" y="14901840"/>
              <a:ext cx="5681880" cy="8926560"/>
            </a:xfrm>
            <a:custGeom>
              <a:avLst/>
              <a:gdLst/>
              <a:ahLst/>
              <a:rect l="l" t="t" r="r" b="b"/>
              <a:pathLst>
                <a:path w="637" h="930">
                  <a:moveTo>
                    <a:pt x="85" y="0"/>
                  </a:moveTo>
                  <a:lnTo>
                    <a:pt x="637" y="0"/>
                  </a:lnTo>
                  <a:lnTo>
                    <a:pt x="637" y="930"/>
                  </a:lnTo>
                  <a:lnTo>
                    <a:pt x="7" y="930"/>
                  </a:lnTo>
                  <a:lnTo>
                    <a:pt x="0" y="9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593240" y="23550480"/>
              <a:ext cx="54000" cy="10476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34" y="54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34" y="5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22673880" y="22148640"/>
              <a:ext cx="42876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629960" y="22974480"/>
              <a:ext cx="71280" cy="9504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11" y="0"/>
                  </a:moveTo>
                  <a:lnTo>
                    <a:pt x="45" y="12"/>
                  </a:lnTo>
                  <a:lnTo>
                    <a:pt x="0" y="6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23379120" y="23310720"/>
              <a:ext cx="231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280840" y="23271120"/>
              <a:ext cx="9828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62" y="0"/>
                  </a:moveTo>
                  <a:lnTo>
                    <a:pt x="62" y="49"/>
                  </a:lnTo>
                  <a:lnTo>
                    <a:pt x="0" y="2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089640" y="16908480"/>
              <a:ext cx="69516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8775440" y="17148240"/>
              <a:ext cx="9828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36"/>
                  </a:moveTo>
                  <a:lnTo>
                    <a:pt x="12" y="0"/>
                  </a:lnTo>
                  <a:lnTo>
                    <a:pt x="6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19543320" y="17945280"/>
              <a:ext cx="7164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507320" y="19288080"/>
              <a:ext cx="71280" cy="10656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0" y="0"/>
                  </a:moveTo>
                  <a:lnTo>
                    <a:pt x="45" y="0"/>
                  </a:lnTo>
                  <a:lnTo>
                    <a:pt x="23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741800" y="18991440"/>
              <a:ext cx="2239920" cy="336240"/>
            </a:xfrm>
            <a:custGeom>
              <a:avLst/>
              <a:gdLst/>
              <a:ahLst/>
              <a:rect l="l" t="t" r="r" b="b"/>
              <a:pathLst>
                <a:path w="251" h="35">
                  <a:moveTo>
                    <a:pt x="0" y="0"/>
                  </a:moveTo>
                  <a:lnTo>
                    <a:pt x="216" y="0"/>
                  </a:lnTo>
                  <a:lnTo>
                    <a:pt x="251" y="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962640" y="19307160"/>
              <a:ext cx="8100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25"/>
                  </a:moveTo>
                  <a:lnTo>
                    <a:pt x="23" y="0"/>
                  </a:lnTo>
                  <a:lnTo>
                    <a:pt x="51" y="5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2254840" y="19989360"/>
              <a:ext cx="32076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156560" y="19951560"/>
              <a:ext cx="9864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62" y="0"/>
                  </a:moveTo>
                  <a:lnTo>
                    <a:pt x="62" y="48"/>
                  </a:lnTo>
                  <a:lnTo>
                    <a:pt x="0" y="2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581600" y="16178040"/>
              <a:ext cx="1508040" cy="9036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739280" y="16227360"/>
              <a:ext cx="1242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xtracción para 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6590960" y="1636092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6665120" y="1640052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500 to 10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664760" y="1652580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8500 to 9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6664760" y="1664964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7500 to 8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664760" y="1677528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6500 to 7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411400" y="164005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358480" y="165258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358480" y="16649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7358480" y="167752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8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7581680" y="16360920"/>
              <a:ext cx="507960" cy="5378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7714880" y="16370280"/>
              <a:ext cx="1800" cy="51912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7840160" y="16370280"/>
              <a:ext cx="1800" cy="51912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7956080" y="16370280"/>
              <a:ext cx="1800" cy="51912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589600" y="16543440"/>
              <a:ext cx="8892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7589600" y="16668720"/>
              <a:ext cx="21420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589600" y="16792560"/>
              <a:ext cx="18720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7586360" y="16365600"/>
              <a:ext cx="498600" cy="52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590960" y="1688940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6586280" y="16183080"/>
              <a:ext cx="1498680" cy="89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547960" y="16400520"/>
              <a:ext cx="150804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797080" y="16448040"/>
              <a:ext cx="9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gua para 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557320" y="1658160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628960" y="16621200"/>
              <a:ext cx="50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ccep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629680" y="16746480"/>
              <a:ext cx="6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naccep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324840" y="166212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5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5324840" y="167464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546240" y="16581600"/>
              <a:ext cx="509760" cy="2887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681240" y="1659096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805080" y="1659096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5921000" y="1659096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5555960" y="16640280"/>
              <a:ext cx="26820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5555960" y="16764120"/>
              <a:ext cx="22392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5551280" y="16586280"/>
              <a:ext cx="50004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552640" y="16405200"/>
              <a:ext cx="149868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879360" y="16400520"/>
              <a:ext cx="140976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2918240" y="16448040"/>
              <a:ext cx="1357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lmacenamiento superfic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889080" y="16581600"/>
              <a:ext cx="139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2960360" y="16621200"/>
              <a:ext cx="20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962160" y="16746480"/>
              <a:ext cx="48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NoChan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3610880" y="1662120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557960" y="167464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3781160" y="16581600"/>
              <a:ext cx="507960" cy="2887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914360" y="1659096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040000" y="1659096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155560" y="1659096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790520" y="16764120"/>
              <a:ext cx="49068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3785840" y="16586280"/>
              <a:ext cx="49860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2884040" y="16405200"/>
              <a:ext cx="140040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6679880" y="14730480"/>
              <a:ext cx="1301760" cy="469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759800" y="14778000"/>
              <a:ext cx="118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Mantenimiento acequ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6689240" y="14911560"/>
              <a:ext cx="1284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761600" y="1495116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Goo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760880" y="1507644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251920" y="14951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7303400" y="150764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473680" y="14911560"/>
              <a:ext cx="507960" cy="2887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7606880" y="1492092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7732520" y="1492092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7848440" y="1492092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483040" y="14970240"/>
              <a:ext cx="490680" cy="56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488080" y="14955840"/>
              <a:ext cx="480960" cy="8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478360" y="14916240"/>
              <a:ext cx="49860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684560" y="14735160"/>
              <a:ext cx="129240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4663880" y="14730480"/>
              <a:ext cx="1266840" cy="469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742360" y="14778000"/>
              <a:ext cx="1116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umplimiento de la l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673240" y="14911560"/>
              <a:ext cx="12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4744160" y="1495116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4744880" y="1507644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5199200" y="14951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252120" y="150764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422400" y="14911560"/>
              <a:ext cx="508320" cy="2887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5555960" y="1492092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5681240" y="1492092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5797160" y="1492092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5430680" y="14970240"/>
              <a:ext cx="490320" cy="56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5435360" y="14955840"/>
              <a:ext cx="480960" cy="8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5427440" y="14916240"/>
              <a:ext cx="49824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668560" y="14735160"/>
              <a:ext cx="125712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228560" y="14730480"/>
              <a:ext cx="114156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3287240" y="14778000"/>
              <a:ext cx="103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alojo agricult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3236480" y="14911560"/>
              <a:ext cx="112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307400" y="1495116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308120" y="1507644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638960" y="14951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638960" y="15076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862160" y="14911560"/>
              <a:ext cx="507960" cy="2887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995360" y="1492092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119200" y="1492092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236560" y="1492092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870080" y="14970240"/>
              <a:ext cx="19692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870080" y="15094080"/>
              <a:ext cx="29520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3866840" y="14916240"/>
              <a:ext cx="49860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233240" y="14735160"/>
              <a:ext cx="113220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871440" y="15584400"/>
              <a:ext cx="1319400" cy="593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263480" y="1563228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2879360" y="15766920"/>
              <a:ext cx="130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951000" y="1580508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951360" y="1593072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p 25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1360" y="1605456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p 50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3461120" y="15805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512240" y="159307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512240" y="160545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682520" y="15766920"/>
              <a:ext cx="508320" cy="4111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816080" y="15776640"/>
              <a:ext cx="1440" cy="3920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941360" y="15776640"/>
              <a:ext cx="1800" cy="3920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4057280" y="15776640"/>
              <a:ext cx="1800" cy="3920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692240" y="15824160"/>
              <a:ext cx="490320" cy="57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696920" y="15809760"/>
              <a:ext cx="480960" cy="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687560" y="15771960"/>
              <a:ext cx="49824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876120" y="15589080"/>
              <a:ext cx="130968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4584320" y="15478200"/>
              <a:ext cx="142704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809680" y="15527160"/>
              <a:ext cx="103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xtracciones ileg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592240" y="15660720"/>
              <a:ext cx="140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664960" y="1570032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topp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664960" y="1582416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5280200" y="15700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5280200" y="15824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501960" y="15660720"/>
              <a:ext cx="50940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5636960" y="1567008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760800" y="1567008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876720" y="1567008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511320" y="15717960"/>
              <a:ext cx="19692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511320" y="15843240"/>
              <a:ext cx="29376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06640" y="15665400"/>
              <a:ext cx="50004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4589000" y="15482880"/>
              <a:ext cx="141768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6733880" y="15478200"/>
              <a:ext cx="119520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929360" y="15527160"/>
              <a:ext cx="805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stado acequ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6741800" y="15660720"/>
              <a:ext cx="117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6813800" y="1570032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Goo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813080" y="1582416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7197920" y="15700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8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197920" y="15824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7419680" y="15660720"/>
              <a:ext cx="50940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554680" y="1567008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678520" y="1567008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794440" y="1567008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429040" y="15717960"/>
              <a:ext cx="42876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429040" y="15843240"/>
              <a:ext cx="6192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424360" y="15665400"/>
              <a:ext cx="50004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738560" y="15482880"/>
              <a:ext cx="1185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4727240" y="17091000"/>
              <a:ext cx="1141560" cy="469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4748840" y="17138520"/>
              <a:ext cx="109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Revestimiento ca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735160" y="1727352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806080" y="1731168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806440" y="174369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5137280" y="173116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190560" y="174369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5359040" y="17273520"/>
              <a:ext cx="50976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494040" y="172832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617880" y="172832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5733800" y="172832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5368760" y="17330760"/>
              <a:ext cx="490320" cy="57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5373440" y="17316360"/>
              <a:ext cx="480960" cy="8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5363720" y="17278200"/>
              <a:ext cx="50004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4731920" y="17095680"/>
              <a:ext cx="1131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3014360" y="17091000"/>
              <a:ext cx="1141200" cy="469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028400" y="17138520"/>
              <a:ext cx="1111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onstrucción depósi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022280" y="1727352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3093200" y="1731168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093560" y="174369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477320" y="173116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424400" y="174369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647600" y="17273520"/>
              <a:ext cx="50796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3781160" y="172832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3906440" y="1728324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022360" y="172832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3655520" y="17456040"/>
              <a:ext cx="490680" cy="57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3660560" y="17440200"/>
              <a:ext cx="480960" cy="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652640" y="17278200"/>
              <a:ext cx="49824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3019040" y="17095680"/>
              <a:ext cx="1131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6421040" y="19634040"/>
              <a:ext cx="1508040" cy="102744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6551000" y="19683360"/>
              <a:ext cx="1201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xtracciones para finc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6430760" y="1981692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502040" y="19854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503120" y="1998036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 to 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504200" y="20105640"/>
              <a:ext cx="53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00 to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504560" y="2022948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00 to 2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504560" y="2035476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500 to 3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7197920" y="198547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250840" y="199803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250840" y="201056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250840" y="202294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250840" y="203547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419680" y="19816920"/>
              <a:ext cx="509400" cy="6616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7554680" y="1982628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678520" y="1982628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7794440" y="1982628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7429040" y="19873800"/>
              <a:ext cx="49068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424360" y="19821600"/>
              <a:ext cx="500040" cy="65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6430760" y="2046924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425720" y="19639080"/>
              <a:ext cx="1498680" cy="101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4414400" y="19911960"/>
              <a:ext cx="1444680" cy="4716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508000" y="19961280"/>
              <a:ext cx="1267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bastecimiento municip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24120" y="20094480"/>
              <a:ext cx="142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4493240" y="20134440"/>
              <a:ext cx="39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atisfi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93240" y="20257920"/>
              <a:ext cx="50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nsatisfi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5180840" y="201344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127920" y="202579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351120" y="20094480"/>
              <a:ext cx="507960" cy="2890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484320" y="20104200"/>
              <a:ext cx="180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609960" y="20104200"/>
              <a:ext cx="144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725880" y="20104200"/>
              <a:ext cx="144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359040" y="20277000"/>
              <a:ext cx="49212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5355800" y="20099160"/>
              <a:ext cx="4986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419440" y="19916640"/>
              <a:ext cx="1434960" cy="46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449320" y="19164240"/>
              <a:ext cx="137484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718600" y="19211760"/>
              <a:ext cx="934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gua para cosech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459040" y="19346760"/>
              <a:ext cx="1355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4530320" y="19384920"/>
              <a:ext cx="32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ptak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530680" y="195102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NoUptak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5145920" y="193849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093000" y="195102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314760" y="19346760"/>
              <a:ext cx="50940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5449400" y="1935648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5573240" y="1935648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5689160" y="1935648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5324120" y="19529280"/>
              <a:ext cx="49068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319440" y="19351800"/>
              <a:ext cx="50004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4454360" y="19168920"/>
              <a:ext cx="136512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120560" y="19164240"/>
              <a:ext cx="1141560" cy="469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3335480" y="19211760"/>
              <a:ext cx="72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Nuevo siste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3130280" y="1934676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3201200" y="193849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3201560" y="195102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3583880" y="193849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532400" y="195102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754160" y="19346760"/>
              <a:ext cx="50796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3887360" y="1935648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4013000" y="1935648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4128920" y="1935648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3763520" y="19529280"/>
              <a:ext cx="490680" cy="57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768560" y="19513440"/>
              <a:ext cx="480960" cy="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758840" y="19351800"/>
              <a:ext cx="49860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125600" y="19168920"/>
              <a:ext cx="1131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711240" y="19911960"/>
              <a:ext cx="1434960" cy="4716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742560" y="19961280"/>
              <a:ext cx="1377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bastecimiento subterrán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2719160" y="20094480"/>
              <a:ext cx="1419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2791880" y="2013444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dequ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792600" y="2025792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Inadequ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3467960" y="201344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3416480" y="202579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3638240" y="20094480"/>
              <a:ext cx="507960" cy="2890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3771440" y="20104200"/>
              <a:ext cx="180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3897080" y="20104200"/>
              <a:ext cx="144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4013000" y="20104200"/>
              <a:ext cx="144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3647600" y="20277000"/>
              <a:ext cx="490680" cy="57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652640" y="20262960"/>
              <a:ext cx="480960" cy="8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642920" y="20099160"/>
              <a:ext cx="4986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2715920" y="19916640"/>
              <a:ext cx="1425600" cy="46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4405040" y="20604240"/>
              <a:ext cx="147168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4996520" y="20651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4414400" y="20786760"/>
              <a:ext cx="145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4486400" y="20824920"/>
              <a:ext cx="34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4487480" y="20950200"/>
              <a:ext cx="54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n po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198480" y="208249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5147000" y="209502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5368760" y="20786760"/>
              <a:ext cx="50796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5501960" y="2079612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5627240" y="20796120"/>
              <a:ext cx="180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5743160" y="20796120"/>
              <a:ext cx="180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5378120" y="20967840"/>
              <a:ext cx="49068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5373440" y="20791440"/>
              <a:ext cx="49824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409720" y="20608920"/>
              <a:ext cx="146196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014360" y="20604240"/>
              <a:ext cx="1141200" cy="469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3155840" y="20651760"/>
              <a:ext cx="93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Rehabilitación la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022280" y="20786760"/>
              <a:ext cx="112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093200" y="208249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3093560" y="209502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477320" y="208249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3424400" y="209502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3647600" y="20786760"/>
              <a:ext cx="50796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3781160" y="2079612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3906440" y="20796120"/>
              <a:ext cx="180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4022360" y="2079612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3655520" y="20967840"/>
              <a:ext cx="490680" cy="58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3660560" y="20953440"/>
              <a:ext cx="480960" cy="8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3652640" y="20791440"/>
              <a:ext cx="49824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019040" y="20608920"/>
              <a:ext cx="1131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3798440" y="21237480"/>
              <a:ext cx="1284480" cy="47016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3848120" y="21285360"/>
              <a:ext cx="1220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apacidad del reservor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808160" y="21420000"/>
              <a:ext cx="1266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880160" y="21458160"/>
              <a:ext cx="32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3879800" y="2158380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404680" y="214581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353200" y="215838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574960" y="21420000"/>
              <a:ext cx="507960" cy="2876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4708160" y="2142972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4833440" y="2142972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4949360" y="2142972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584320" y="21601080"/>
              <a:ext cx="49068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579640" y="21425040"/>
              <a:ext cx="49860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3803480" y="21242160"/>
              <a:ext cx="127476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878080" y="21985200"/>
              <a:ext cx="1160280" cy="4716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935320" y="22034520"/>
              <a:ext cx="104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mbalse de efluen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4887440" y="22167720"/>
              <a:ext cx="114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4959080" y="22207680"/>
              <a:ext cx="20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4959440" y="22331520"/>
              <a:ext cx="18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5307200" y="222076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307200" y="22331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5528960" y="22167720"/>
              <a:ext cx="509400" cy="2890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663960" y="221774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787800" y="221774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903720" y="221774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5538320" y="22224960"/>
              <a:ext cx="29376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538320" y="22350240"/>
              <a:ext cx="19548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5533640" y="22172760"/>
              <a:ext cx="50004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882760" y="21989880"/>
              <a:ext cx="1150920" cy="46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3549320" y="21985200"/>
              <a:ext cx="1141560" cy="4716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3772520" y="22034520"/>
              <a:ext cx="78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Riego por got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3557240" y="2216772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3628160" y="2220768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3628520" y="223315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4012280" y="222076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3959360" y="22331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4182560" y="22167720"/>
              <a:ext cx="508320" cy="2890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4316120" y="221774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441400" y="2217744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557320" y="2217744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190840" y="22350240"/>
              <a:ext cx="490320" cy="57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4195520" y="22336200"/>
              <a:ext cx="480960" cy="8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4187600" y="22172760"/>
              <a:ext cx="49824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3554000" y="21989880"/>
              <a:ext cx="1131840" cy="46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279840" y="21237480"/>
              <a:ext cx="1436400" cy="47016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5361920" y="21285360"/>
              <a:ext cx="1265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bastecimiento del viv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5289200" y="21420000"/>
              <a:ext cx="1417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357960" y="21458160"/>
              <a:ext cx="42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uffic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357960" y="21583800"/>
              <a:ext cx="49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Insuffic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5985080" y="21458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5985080" y="215838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8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6206840" y="21420000"/>
              <a:ext cx="509400" cy="2876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6341840" y="2142972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6465680" y="2142972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6581600" y="2142972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6216200" y="21477240"/>
              <a:ext cx="6192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6216200" y="21601080"/>
              <a:ext cx="42876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211520" y="21425040"/>
              <a:ext cx="50004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5284520" y="21242160"/>
              <a:ext cx="14270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6457760" y="21985200"/>
              <a:ext cx="1434960" cy="4716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6571880" y="22034520"/>
              <a:ext cx="1236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bastecimiento destilerí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6465680" y="22167720"/>
              <a:ext cx="1419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6535880" y="22207680"/>
              <a:ext cx="42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uffic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6535880" y="22331520"/>
              <a:ext cx="49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Insuffic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214480" y="222076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7161560" y="22331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7384760" y="22167720"/>
              <a:ext cx="507960" cy="2890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7517960" y="2217744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7643600" y="221774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7759520" y="221774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7394120" y="22350240"/>
              <a:ext cx="49068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7389440" y="22172760"/>
              <a:ext cx="49860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6462440" y="21989880"/>
              <a:ext cx="1425600" cy="46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2371400" y="21237480"/>
              <a:ext cx="1141560" cy="4701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576600" y="21285360"/>
              <a:ext cx="838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Nuevo reservor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380760" y="21420000"/>
              <a:ext cx="112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2451680" y="2145816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452400" y="215838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2834360" y="214581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783240" y="215838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004640" y="21420000"/>
              <a:ext cx="508320" cy="2876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138200" y="2142972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263480" y="2142972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379400" y="2142972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014360" y="21601080"/>
              <a:ext cx="490680" cy="58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019040" y="21586680"/>
              <a:ext cx="480960" cy="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009680" y="21425040"/>
              <a:ext cx="49824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2376080" y="21242160"/>
              <a:ext cx="1131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2620240" y="21247200"/>
              <a:ext cx="1419120" cy="90144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2845600" y="21294720"/>
              <a:ext cx="100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xtracciones rur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2629960" y="21429720"/>
              <a:ext cx="140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2702320" y="2146788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 to 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2702680" y="2159316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25 to 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2702680" y="2171700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75 to 4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2702680" y="2184228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5 to 5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3308200" y="21467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3308200" y="21593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3308200" y="21717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.8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3308200" y="218422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5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3529960" y="21429720"/>
              <a:ext cx="509400" cy="53640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3664960" y="21439080"/>
              <a:ext cx="1440" cy="517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3788800" y="21439080"/>
              <a:ext cx="1440" cy="517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904720" y="21439080"/>
              <a:ext cx="1440" cy="517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3539320" y="21486960"/>
              <a:ext cx="1764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3539320" y="21610800"/>
              <a:ext cx="1764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3539320" y="21736080"/>
              <a:ext cx="3492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3539320" y="21861360"/>
              <a:ext cx="41940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3534640" y="21434400"/>
              <a:ext cx="500040" cy="52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2629960" y="21956760"/>
              <a:ext cx="140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2624920" y="21251880"/>
              <a:ext cx="140976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2637880" y="17264160"/>
              <a:ext cx="127620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2656960" y="17311680"/>
              <a:ext cx="1270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xtracciones Abast Mun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2647240" y="17446680"/>
              <a:ext cx="125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2719240" y="17484840"/>
              <a:ext cx="34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 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719240" y="17610120"/>
              <a:ext cx="34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 3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235840" y="174848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182920" y="176101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3406120" y="17446680"/>
              <a:ext cx="50796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539320" y="17456040"/>
              <a:ext cx="180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3664960" y="1745604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780880" y="1745604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3414040" y="17627760"/>
              <a:ext cx="49068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3410800" y="17451360"/>
              <a:ext cx="49860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642560" y="17268840"/>
              <a:ext cx="1266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783440" y="21275640"/>
              <a:ext cx="1419120" cy="84456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9981080" y="21324960"/>
              <a:ext cx="105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audal para uso ru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9792800" y="21458160"/>
              <a:ext cx="1400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9865520" y="214963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 to 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9865880" y="2162160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25 to 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865880" y="2174544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75 to 4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9865880" y="2187108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5 to 5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9864440" y="2199636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gt;= 5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0471400" y="21496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471400" y="216216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471400" y="21745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.8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471400" y="21871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0471400" y="21996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3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0694600" y="21458160"/>
              <a:ext cx="507960" cy="6620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828160" y="2146788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952000" y="2146788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069360" y="2146788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702520" y="21515400"/>
              <a:ext cx="1764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702520" y="21640680"/>
              <a:ext cx="1764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702520" y="21764520"/>
              <a:ext cx="3672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702520" y="21890160"/>
              <a:ext cx="972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702520" y="22014000"/>
              <a:ext cx="41112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0699280" y="21462840"/>
              <a:ext cx="498600" cy="6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9788120" y="21280320"/>
              <a:ext cx="1409760" cy="83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0613600" y="17071920"/>
              <a:ext cx="1471680" cy="84456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659680" y="17119440"/>
              <a:ext cx="1357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Caudal tras arrozales (detallado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623320" y="17254440"/>
              <a:ext cx="1452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694960" y="17292600"/>
              <a:ext cx="31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 to 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696040" y="1741788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0 to 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696400" y="1754172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0 to 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696400" y="1766736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0 to 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0694600" y="1779264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gt;= 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354120" y="172926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354120" y="17417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1354120" y="175417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1407040" y="176673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1407040" y="177926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577320" y="17254440"/>
              <a:ext cx="507960" cy="6620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710520" y="17264160"/>
              <a:ext cx="180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836160" y="1726416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952080" y="1726416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585240" y="17311680"/>
              <a:ext cx="29520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1585240" y="17435520"/>
              <a:ext cx="15228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1585240" y="17560800"/>
              <a:ext cx="5400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1582000" y="17259480"/>
              <a:ext cx="498600" cy="65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618280" y="17076600"/>
              <a:ext cx="1462320" cy="83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2575960" y="19577160"/>
              <a:ext cx="1508040" cy="90144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2645800" y="19624680"/>
              <a:ext cx="1355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xtracciones para 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2585320" y="1975968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2659120" y="1979784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2500 to 2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3218200" y="19797840"/>
              <a:ext cx="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2659120" y="1992312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0500 to 2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3218200" y="19923120"/>
              <a:ext cx="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2659120" y="2004696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8500 to 2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3218200" y="20046960"/>
              <a:ext cx="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2659120" y="2017224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6500 to 1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218200" y="20172240"/>
              <a:ext cx="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3352840" y="19797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3405760" y="199231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3405760" y="200469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3405760" y="201722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3574240" y="19759680"/>
              <a:ext cx="509760" cy="53640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3709240" y="19769040"/>
              <a:ext cx="1800" cy="517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3833080" y="19769040"/>
              <a:ext cx="1800" cy="517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3949000" y="19769040"/>
              <a:ext cx="1440" cy="517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583960" y="19816920"/>
              <a:ext cx="49032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579280" y="19764360"/>
              <a:ext cx="500040" cy="52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2585320" y="2028672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580640" y="19581840"/>
              <a:ext cx="149868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449040" y="19797840"/>
              <a:ext cx="150804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688800" y="19845360"/>
              <a:ext cx="9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gua para 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4458760" y="1998036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4530040" y="20018520"/>
              <a:ext cx="50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ccep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4530760" y="20143800"/>
              <a:ext cx="6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naccep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225920" y="20018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5225920" y="201438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5447680" y="19980360"/>
              <a:ext cx="50940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582680" y="1998972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5706520" y="1998972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822440" y="1998972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5457040" y="20037600"/>
              <a:ext cx="24948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5457040" y="20162880"/>
              <a:ext cx="24948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5452360" y="19985040"/>
              <a:ext cx="50004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4453720" y="19802520"/>
              <a:ext cx="149868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736160" y="20575440"/>
              <a:ext cx="1187640" cy="18108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744080" y="20583360"/>
              <a:ext cx="1171440" cy="165240"/>
            </a:xfrm>
            <a:prstGeom prst="roundRect">
              <a:avLst>
                <a:gd name="adj" fmla="val 50000"/>
              </a:avLst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2785480" y="20623320"/>
              <a:ext cx="1056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guas abajo de Butta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4493680" y="20718360"/>
              <a:ext cx="1409400" cy="47016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4535800" y="20767680"/>
              <a:ext cx="1357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lmacenamiento superfic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4503040" y="20900880"/>
              <a:ext cx="1390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4574680" y="20940840"/>
              <a:ext cx="20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4576480" y="21064680"/>
              <a:ext cx="48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NoChan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224840" y="209408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5171920" y="210646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395120" y="20900880"/>
              <a:ext cx="507960" cy="2876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5528680" y="2091060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5653960" y="2091060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5769880" y="2091060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403040" y="21083760"/>
              <a:ext cx="49068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5400160" y="20905920"/>
              <a:ext cx="49824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498360" y="20723400"/>
              <a:ext cx="140004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2593240" y="16168680"/>
              <a:ext cx="1365480" cy="4716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639320" y="16218000"/>
              <a:ext cx="1315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Capacidad bombas y depósit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2602960" y="16351200"/>
              <a:ext cx="1346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2674240" y="16390800"/>
              <a:ext cx="39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2674600" y="165146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3280120" y="1639080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3227200" y="16514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450400" y="16351200"/>
              <a:ext cx="508320" cy="2890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583960" y="16360920"/>
              <a:ext cx="144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709240" y="16360920"/>
              <a:ext cx="180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825160" y="16360920"/>
              <a:ext cx="180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3458320" y="16533720"/>
              <a:ext cx="490680" cy="57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3463360" y="16519680"/>
              <a:ext cx="480960" cy="8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3455440" y="16355880"/>
              <a:ext cx="49824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2597920" y="16173360"/>
              <a:ext cx="135576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647240" y="14671800"/>
              <a:ext cx="1463760" cy="47124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2921560" y="14720760"/>
              <a:ext cx="100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xtracciones rur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2656960" y="14854320"/>
              <a:ext cx="144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2728600" y="148939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2728960" y="1501776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wn 60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3379840" y="148939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3432760" y="150177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3601240" y="14854320"/>
              <a:ext cx="509760" cy="2887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3736240" y="1486368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3860080" y="1486368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3976000" y="1486368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3610960" y="14911560"/>
              <a:ext cx="49032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3606280" y="14859000"/>
              <a:ext cx="50004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2651920" y="14676480"/>
              <a:ext cx="145440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620240" y="15219360"/>
              <a:ext cx="1525680" cy="18252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628160" y="15227280"/>
              <a:ext cx="1509840" cy="166680"/>
            </a:xfrm>
            <a:prstGeom prst="roundRect">
              <a:avLst>
                <a:gd name="adj" fmla="val 50000"/>
              </a:avLst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2631040" y="15239880"/>
              <a:ext cx="1445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guas arriba de fincas y Butta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600320" y="17541720"/>
              <a:ext cx="1462320" cy="595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745040" y="17591040"/>
              <a:ext cx="1162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ontrol de 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6608600" y="17724600"/>
              <a:ext cx="144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6679880" y="177624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6680600" y="1788804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wn 15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6680600" y="1801332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wn 25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7384400" y="1776240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7384400" y="178880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7331480" y="18013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7554680" y="17724600"/>
              <a:ext cx="507960" cy="41256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7687880" y="17733960"/>
              <a:ext cx="180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7813160" y="17733960"/>
              <a:ext cx="180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7929080" y="17733960"/>
              <a:ext cx="180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7562600" y="18030960"/>
              <a:ext cx="490320" cy="58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7567280" y="18016560"/>
              <a:ext cx="480960" cy="8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7559360" y="17729280"/>
              <a:ext cx="49860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6605360" y="17546760"/>
              <a:ext cx="1452600" cy="58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4626880" y="21524760"/>
              <a:ext cx="1143000" cy="4701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4694920" y="21574080"/>
              <a:ext cx="100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Construcción depósit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4636240" y="21707640"/>
              <a:ext cx="1124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4707160" y="2174544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4707880" y="218710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5091640" y="217454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5038720" y="21871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5260480" y="21707640"/>
              <a:ext cx="50940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5395120" y="2171700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5518960" y="2171700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5634880" y="2171700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5269840" y="21890160"/>
              <a:ext cx="490680" cy="56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5274520" y="21875760"/>
              <a:ext cx="480960" cy="8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5265160" y="21712320"/>
              <a:ext cx="50004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4631560" y="21529800"/>
              <a:ext cx="113364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6411400" y="20373840"/>
              <a:ext cx="1427040" cy="47016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6595000" y="20421720"/>
              <a:ext cx="103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xtracciones ileg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6420760" y="20554920"/>
              <a:ext cx="140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6493120" y="2059452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topp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6493120" y="2072016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7160200" y="205945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7107280" y="20720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7330480" y="20554920"/>
              <a:ext cx="507960" cy="2890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7463680" y="20564640"/>
              <a:ext cx="180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7589320" y="20564640"/>
              <a:ext cx="144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7704880" y="20564640"/>
              <a:ext cx="1800" cy="2696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7339840" y="20737440"/>
              <a:ext cx="49068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7335160" y="20559600"/>
              <a:ext cx="49860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6416080" y="20378880"/>
              <a:ext cx="141768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492040" y="19567440"/>
              <a:ext cx="1266840" cy="4701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6569080" y="19615320"/>
              <a:ext cx="1116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umplimiento de la l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6499960" y="19749960"/>
              <a:ext cx="1249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6570880" y="197881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6571600" y="199137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7080640" y="197881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7027720" y="199137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7249480" y="19749960"/>
              <a:ext cx="509400" cy="2876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7384480" y="1975968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508320" y="1975968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7624240" y="1975968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7258840" y="19931040"/>
              <a:ext cx="490680" cy="58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263880" y="19916640"/>
              <a:ext cx="480960" cy="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7254160" y="19755000"/>
              <a:ext cx="50004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6497080" y="19572120"/>
              <a:ext cx="125712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501680" y="18865800"/>
              <a:ext cx="1320840" cy="5954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893720" y="1891512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5511040" y="19048320"/>
              <a:ext cx="1301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5582680" y="1908828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5583040" y="1921176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p 25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5583040" y="1933740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p 50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6091000" y="190882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6144280" y="192117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6144280" y="1933740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6312760" y="19048320"/>
              <a:ext cx="509760" cy="4129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6447760" y="19058040"/>
              <a:ext cx="1440" cy="3934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6571600" y="19058040"/>
              <a:ext cx="1440" cy="3934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6687520" y="19058040"/>
              <a:ext cx="1440" cy="3934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6322480" y="19105560"/>
              <a:ext cx="490320" cy="58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6327160" y="19091160"/>
              <a:ext cx="480960" cy="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6317440" y="19053000"/>
              <a:ext cx="50004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5506360" y="18870480"/>
              <a:ext cx="1311120" cy="58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6553960" y="18300600"/>
              <a:ext cx="1141560" cy="47016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6593920" y="18348480"/>
              <a:ext cx="103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alojo agricult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6563680" y="1848312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6634600" y="1852128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6634960" y="186469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7017280" y="185212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6965800" y="186469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7187560" y="18483120"/>
              <a:ext cx="507960" cy="2876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7320760" y="1849284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7446400" y="184928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7562320" y="1849284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196920" y="18664200"/>
              <a:ext cx="49068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7192240" y="18488160"/>
              <a:ext cx="49860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6559000" y="18305640"/>
              <a:ext cx="113184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4199920" y="18875520"/>
              <a:ext cx="1141200" cy="471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4232680" y="18924480"/>
              <a:ext cx="109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Revestimiento ca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207840" y="19058040"/>
              <a:ext cx="112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4278760" y="1909764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4279120" y="192214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4662880" y="190976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4609960" y="192214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4833160" y="19058040"/>
              <a:ext cx="507960" cy="2887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966720" y="1906740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5092000" y="1906740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5207920" y="1906740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4841080" y="19240560"/>
              <a:ext cx="490680" cy="57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4846120" y="19226160"/>
              <a:ext cx="480960" cy="8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4838200" y="19062720"/>
              <a:ext cx="49824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4204600" y="18880200"/>
              <a:ext cx="113184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271200" y="17264160"/>
              <a:ext cx="143532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376680" y="17311680"/>
              <a:ext cx="1305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fectividad del tratami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4279120" y="17446680"/>
              <a:ext cx="141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4352200" y="1748484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dequ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4352920" y="1761012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Inadequ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4976800" y="17484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4976800" y="176101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5198560" y="17446680"/>
              <a:ext cx="50796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5331760" y="17456040"/>
              <a:ext cx="144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5457040" y="17456040"/>
              <a:ext cx="180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5572960" y="17456040"/>
              <a:ext cx="180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5207920" y="17503920"/>
              <a:ext cx="24912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5207920" y="17627760"/>
              <a:ext cx="24912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5203240" y="17451360"/>
              <a:ext cx="49824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4275880" y="17268840"/>
              <a:ext cx="142560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350760" y="16457760"/>
              <a:ext cx="127620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4489360" y="16505280"/>
              <a:ext cx="1040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Rdto. bombas ciu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4360120" y="16640280"/>
              <a:ext cx="125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4432120" y="16678440"/>
              <a:ext cx="34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 9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432120" y="16803720"/>
              <a:ext cx="34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 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895800" y="16678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4895800" y="168037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5117560" y="16640280"/>
              <a:ext cx="50940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5252200" y="1664964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5376040" y="1664964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491960" y="16649640"/>
              <a:ext cx="180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5126920" y="16697160"/>
              <a:ext cx="24912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5126920" y="16822800"/>
              <a:ext cx="24912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5122240" y="16644960"/>
              <a:ext cx="50004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355440" y="16462440"/>
              <a:ext cx="1266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288840" y="15468480"/>
              <a:ext cx="1390680" cy="59544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4368040" y="15517800"/>
              <a:ext cx="1226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tamiento de las agu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4298200" y="15651000"/>
              <a:ext cx="1373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4368760" y="1569096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 1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4368760" y="1581480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3 1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367680" y="15940080"/>
              <a:ext cx="21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001280" y="156909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4949800" y="158148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949800" y="15940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5171560" y="15651000"/>
              <a:ext cx="507960" cy="4129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5304760" y="15660720"/>
              <a:ext cx="144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5430040" y="15660720"/>
              <a:ext cx="180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5545960" y="15660720"/>
              <a:ext cx="180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5180920" y="15833880"/>
              <a:ext cx="24912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5180920" y="15957720"/>
              <a:ext cx="24912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5176240" y="15656040"/>
              <a:ext cx="49824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4293520" y="15473520"/>
              <a:ext cx="1380960" cy="58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5930080" y="17264160"/>
              <a:ext cx="1435320" cy="469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014320" y="17311680"/>
              <a:ext cx="1267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bastecimiento municip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5938000" y="17446680"/>
              <a:ext cx="141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011080" y="1748484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dequ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11800" y="1761012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Inadequ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635680" y="17484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35680" y="176101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5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6857440" y="17446680"/>
              <a:ext cx="507960" cy="28728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990640" y="17456040"/>
              <a:ext cx="180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7115920" y="17456040"/>
              <a:ext cx="180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231840" y="17456040"/>
              <a:ext cx="1800" cy="2685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6866800" y="17503920"/>
              <a:ext cx="2700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866800" y="17627760"/>
              <a:ext cx="46368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862120" y="17451360"/>
              <a:ext cx="49860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935120" y="17268840"/>
              <a:ext cx="142560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93720" y="16111440"/>
              <a:ext cx="1508040" cy="4701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5982280" y="16160760"/>
              <a:ext cx="140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Manejo estratégico 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7223200" y="16160760"/>
              <a:ext cx="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5903080" y="16293960"/>
              <a:ext cx="1489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5974000" y="163339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974720" y="164577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6723520" y="163339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6670600" y="164577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6893800" y="16293960"/>
              <a:ext cx="507960" cy="2876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7027360" y="1630368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7152640" y="1630368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7268560" y="16303680"/>
              <a:ext cx="1440" cy="2682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6901720" y="16476840"/>
              <a:ext cx="490680" cy="56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906400" y="16462440"/>
              <a:ext cx="481320" cy="8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6898480" y="16299000"/>
              <a:ext cx="498600" cy="27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5898400" y="16116480"/>
              <a:ext cx="149868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2442400" y="22244040"/>
              <a:ext cx="1668600" cy="18252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2450320" y="22251960"/>
              <a:ext cx="1652760" cy="166680"/>
            </a:xfrm>
            <a:prstGeom prst="roundRect">
              <a:avLst>
                <a:gd name="adj" fmla="val 50000"/>
              </a:avLst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634280" y="22280400"/>
              <a:ext cx="1293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guas abajo fincas y Butta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9686600" y="22312440"/>
              <a:ext cx="1506600" cy="1774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888200" y="22359960"/>
              <a:ext cx="112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audal del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Katarag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694520" y="22494960"/>
              <a:ext cx="149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9765800" y="2253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9767240" y="226584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 to 1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768320" y="2278224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00 to 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768320" y="2290752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000 to 3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768320" y="2303316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000 to 4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9768320" y="2315700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000 to 5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9768320" y="2328228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000 to 6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768320" y="2340612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6000 to 7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9768320" y="2353140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7000 to 8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9768320" y="2365704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8000 to 9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9768680" y="2378088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000 to 10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514960" y="225331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0462040" y="22658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5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62040" y="227822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4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462040" y="22907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514960" y="230331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0514960" y="2315700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0514960" y="232822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0514960" y="234061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0514960" y="2353140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0514960" y="236570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514960" y="237808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685240" y="22494960"/>
              <a:ext cx="507960" cy="140976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818440" y="22504320"/>
              <a:ext cx="1800" cy="1390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0943720" y="22504320"/>
              <a:ext cx="1800" cy="1390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1059640" y="22504320"/>
              <a:ext cx="1800" cy="1390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0694600" y="22677480"/>
              <a:ext cx="16848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0694600" y="22801320"/>
              <a:ext cx="16848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0694600" y="22926600"/>
              <a:ext cx="15084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0689920" y="22499640"/>
              <a:ext cx="498600" cy="140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9694520" y="23895000"/>
              <a:ext cx="149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691280" y="22317120"/>
              <a:ext cx="1497240" cy="176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772440" y="23079240"/>
              <a:ext cx="1508400" cy="47124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021200" y="23128200"/>
              <a:ext cx="101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bastecimiento rur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782160" y="2326176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1853440" y="23301360"/>
              <a:ext cx="50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ccep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1854160" y="23426640"/>
              <a:ext cx="6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naccept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549320" y="23301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2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2549320" y="23426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7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2772520" y="23261760"/>
              <a:ext cx="508320" cy="2887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2906080" y="2327112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3031360" y="2327112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3147280" y="23271120"/>
              <a:ext cx="180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2780800" y="23320440"/>
              <a:ext cx="35712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2780800" y="23444280"/>
              <a:ext cx="13464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2777560" y="23266440"/>
              <a:ext cx="49824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1777480" y="23083920"/>
              <a:ext cx="149832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3610960" y="23079240"/>
              <a:ext cx="1141200" cy="471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3659200" y="23128200"/>
              <a:ext cx="1067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Nuevo conducto poz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3620320" y="23261760"/>
              <a:ext cx="112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3689800" y="2330136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3690160" y="2342664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4073920" y="233013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4021000" y="23426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4244200" y="23261760"/>
              <a:ext cx="507960" cy="2887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4377760" y="2327112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503040" y="2327112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4618960" y="23271120"/>
              <a:ext cx="1440" cy="27000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4252120" y="23444280"/>
              <a:ext cx="490680" cy="58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4257160" y="23429880"/>
              <a:ext cx="480960" cy="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4249240" y="23266440"/>
              <a:ext cx="49824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3615640" y="23083920"/>
              <a:ext cx="113184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6002000" y="18606960"/>
              <a:ext cx="1488960" cy="7779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509600" y="18656280"/>
              <a:ext cx="48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Ejec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011360" y="18789480"/>
              <a:ext cx="1471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082280" y="18829440"/>
              <a:ext cx="48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nforce 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083000" y="189532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nforce hal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083000" y="190785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6761240" y="18829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812720" y="189532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812720" y="190785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983000" y="18789480"/>
              <a:ext cx="507960" cy="41292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7116560" y="18799200"/>
              <a:ext cx="144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241840" y="18799200"/>
              <a:ext cx="144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7357760" y="18799200"/>
              <a:ext cx="144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6992720" y="18846720"/>
              <a:ext cx="490320" cy="58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6997400" y="18832680"/>
              <a:ext cx="480960" cy="8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6987680" y="18794520"/>
              <a:ext cx="49860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6011360" y="19193040"/>
              <a:ext cx="1471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006680" y="18612000"/>
              <a:ext cx="1479600" cy="7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593240" y="18694440"/>
              <a:ext cx="1463760" cy="593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764600" y="18741960"/>
              <a:ext cx="1162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ontrol de extra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2602960" y="18875520"/>
              <a:ext cx="144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674240" y="189151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674960" y="190404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wn 15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674960" y="1916424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wn 25p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3325840" y="189151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3378760" y="1904040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3378760" y="191642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3549040" y="18875520"/>
              <a:ext cx="507960" cy="41256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3682240" y="18884880"/>
              <a:ext cx="180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3807880" y="18884880"/>
              <a:ext cx="144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3923800" y="18884880"/>
              <a:ext cx="1440" cy="3938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3556960" y="18934200"/>
              <a:ext cx="490320" cy="57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561640" y="18919800"/>
              <a:ext cx="480960" cy="8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3553720" y="18880200"/>
              <a:ext cx="49860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2597920" y="18699120"/>
              <a:ext cx="145440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8883440" y="17043480"/>
              <a:ext cx="1508040" cy="9018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8905760" y="17091000"/>
              <a:ext cx="1437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Caudal tras arrozales aguas arrib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8892800" y="17224200"/>
              <a:ext cx="148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8963720" y="1726416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 to 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8964800" y="17389440"/>
              <a:ext cx="53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00 to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8965160" y="1751328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00 to 2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8965160" y="1763856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500 to 3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660320" y="17264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9660320" y="17389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9660320" y="175132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8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9711440" y="176385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9881720" y="17224200"/>
              <a:ext cx="509760" cy="53820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016720" y="17235360"/>
              <a:ext cx="1800" cy="517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140560" y="17235360"/>
              <a:ext cx="1800" cy="517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256480" y="17235360"/>
              <a:ext cx="1440" cy="51768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9891440" y="17283240"/>
              <a:ext cx="8892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9891440" y="17407080"/>
              <a:ext cx="21420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9891440" y="17532360"/>
              <a:ext cx="18720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9886760" y="17229240"/>
              <a:ext cx="500040" cy="52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892800" y="1775304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8888120" y="17048160"/>
              <a:ext cx="149868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8775440" y="19404000"/>
              <a:ext cx="1508040" cy="102708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9115280" y="19453320"/>
              <a:ext cx="878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audal tras finc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8784800" y="19586520"/>
              <a:ext cx="1489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8856440" y="1962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8857520" y="1974996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 to 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8858600" y="19875600"/>
              <a:ext cx="53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00 to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8858960" y="1999944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00 to 2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8858960" y="2012472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500 to 3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605240" y="196246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552320" y="197499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552320" y="198756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552320" y="19999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8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605240" y="201247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9775520" y="19586520"/>
              <a:ext cx="507960" cy="66204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9908720" y="19596240"/>
              <a:ext cx="180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034360" y="1959624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0150280" y="19596240"/>
              <a:ext cx="1440" cy="64296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9783440" y="19769040"/>
              <a:ext cx="90360" cy="572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9783440" y="19892880"/>
              <a:ext cx="214200" cy="586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9783440" y="20018520"/>
              <a:ext cx="18720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9780200" y="19591200"/>
              <a:ext cx="498600" cy="6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784800" y="20239200"/>
              <a:ext cx="148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780120" y="19408680"/>
              <a:ext cx="1498680" cy="101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648520" y="19337400"/>
              <a:ext cx="1508040" cy="1276200"/>
            </a:xfrm>
            <a:prstGeom prst="rect">
              <a:avLst/>
            </a:prstGeom>
            <a:solidFill>
              <a:srgbClr val="fffbf0"/>
            </a:solidFill>
            <a:ln w="0">
              <a:solidFill>
                <a:srgbClr val="ff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912400" y="19384920"/>
              <a:ext cx="1032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audal tras arroz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0658240" y="1951848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0730600" y="1955808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 to 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0731680" y="19683360"/>
              <a:ext cx="53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00 to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0732040" y="1980720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00 to 2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0732040" y="1993248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500 to 3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0732040" y="2005632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500 to 4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0732040" y="2018196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500 to 5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0732040" y="20307240"/>
              <a:ext cx="59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500 to 6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1425400" y="19558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1478320" y="196833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1478320" y="1980720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1478320" y="1993248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1478320" y="2005632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1478320" y="2018196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478320" y="20307240"/>
              <a:ext cx="14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1648600" y="19518480"/>
              <a:ext cx="507960" cy="912600"/>
            </a:xfrm>
            <a:prstGeom prst="rect">
              <a:avLst/>
            </a:prstGeom>
            <a:solidFill>
              <a:srgbClr val="c0dcc0"/>
            </a:solidFill>
            <a:ln w="0">
              <a:solidFill>
                <a:srgbClr val="c0dc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1782160" y="19529280"/>
              <a:ext cx="1440" cy="8924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1907440" y="19529280"/>
              <a:ext cx="1800" cy="8924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2023360" y="19529280"/>
              <a:ext cx="1440" cy="892440"/>
            </a:xfrm>
            <a:prstGeom prst="line">
              <a:avLst/>
            </a:prstGeom>
            <a:ln w="9360">
              <a:solidFill>
                <a:srgbClr val="a0a0a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1656520" y="19577160"/>
              <a:ext cx="490680" cy="5688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1653640" y="19523160"/>
              <a:ext cx="498240" cy="90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0658240" y="20421720"/>
              <a:ext cx="1488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0653200" y="19342080"/>
              <a:ext cx="1498680" cy="126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6876800" y="17235360"/>
              <a:ext cx="1015920" cy="18108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6884720" y="17243280"/>
              <a:ext cx="1000080" cy="165240"/>
            </a:xfrm>
            <a:prstGeom prst="roundRect">
              <a:avLst>
                <a:gd name="adj" fmla="val 50000"/>
              </a:avLst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6973280" y="17283240"/>
              <a:ext cx="87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guas arriba finc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2058840" y="4495680"/>
            <a:ext cx="9371160" cy="7162920"/>
            <a:chOff x="2058840" y="4495680"/>
            <a:chExt cx="9371160" cy="7162920"/>
          </a:xfrm>
        </p:grpSpPr>
        <p:sp>
          <p:nvSpPr>
            <p:cNvPr id="1838" name=""/>
            <p:cNvSpPr/>
            <p:nvPr/>
          </p:nvSpPr>
          <p:spPr>
            <a:xfrm>
              <a:off x="2133720" y="4495680"/>
              <a:ext cx="9296280" cy="7162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440" rIns="109440" tIns="54720" bIns="54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399440" y="9694800"/>
              <a:ext cx="3316320" cy="692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440" rIns="109440" tIns="54720" bIns="54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509600" y="9764640"/>
              <a:ext cx="471600" cy="27468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1" name=""/>
            <p:cNvGrpSpPr/>
            <p:nvPr/>
          </p:nvGrpSpPr>
          <p:grpSpPr>
            <a:xfrm>
              <a:off x="6110280" y="9615600"/>
              <a:ext cx="110880" cy="1067760"/>
              <a:chOff x="6110280" y="9615600"/>
              <a:chExt cx="110880" cy="1067760"/>
            </a:xfrm>
          </p:grpSpPr>
          <p:sp>
            <p:nvSpPr>
              <p:cNvPr id="1842" name=""/>
              <p:cNvSpPr/>
              <p:nvPr/>
            </p:nvSpPr>
            <p:spPr>
              <a:xfrm>
                <a:off x="6163920" y="9615600"/>
                <a:ext cx="1800" cy="9561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110280" y="10568880"/>
                <a:ext cx="110880" cy="11448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0"/>
                    </a:moveTo>
                    <a:lnTo>
                      <a:pt x="32" y="69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4" name=""/>
            <p:cNvSpPr/>
            <p:nvPr/>
          </p:nvSpPr>
          <p:spPr>
            <a:xfrm>
              <a:off x="5596560" y="10922040"/>
              <a:ext cx="116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Katerag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809880" y="5600880"/>
              <a:ext cx="3036960" cy="5884560"/>
            </a:xfrm>
            <a:custGeom>
              <a:avLst/>
              <a:gdLst/>
              <a:ahLst/>
              <a:rect l="l" t="t" r="r" b="b"/>
              <a:pathLst>
                <a:path w="1819" h="3534">
                  <a:moveTo>
                    <a:pt x="15" y="0"/>
                  </a:moveTo>
                  <a:lnTo>
                    <a:pt x="0" y="8"/>
                  </a:lnTo>
                  <a:lnTo>
                    <a:pt x="250" y="490"/>
                  </a:lnTo>
                  <a:lnTo>
                    <a:pt x="253" y="492"/>
                  </a:lnTo>
                  <a:lnTo>
                    <a:pt x="653" y="920"/>
                  </a:lnTo>
                  <a:lnTo>
                    <a:pt x="954" y="1241"/>
                  </a:lnTo>
                  <a:lnTo>
                    <a:pt x="959" y="1234"/>
                  </a:lnTo>
                  <a:lnTo>
                    <a:pt x="952" y="1239"/>
                  </a:lnTo>
                  <a:lnTo>
                    <a:pt x="1152" y="1613"/>
                  </a:lnTo>
                  <a:lnTo>
                    <a:pt x="1153" y="1615"/>
                  </a:lnTo>
                  <a:lnTo>
                    <a:pt x="1154" y="1615"/>
                  </a:lnTo>
                  <a:lnTo>
                    <a:pt x="1555" y="1990"/>
                  </a:lnTo>
                  <a:lnTo>
                    <a:pt x="1560" y="1983"/>
                  </a:lnTo>
                  <a:lnTo>
                    <a:pt x="1553" y="1986"/>
                  </a:lnTo>
                  <a:lnTo>
                    <a:pt x="1703" y="2414"/>
                  </a:lnTo>
                  <a:lnTo>
                    <a:pt x="1711" y="2411"/>
                  </a:lnTo>
                  <a:lnTo>
                    <a:pt x="1703" y="2412"/>
                  </a:lnTo>
                  <a:lnTo>
                    <a:pt x="1754" y="2786"/>
                  </a:lnTo>
                  <a:lnTo>
                    <a:pt x="1761" y="2785"/>
                  </a:lnTo>
                  <a:lnTo>
                    <a:pt x="1753" y="2786"/>
                  </a:lnTo>
                  <a:lnTo>
                    <a:pt x="1803" y="3375"/>
                  </a:lnTo>
                  <a:lnTo>
                    <a:pt x="1811" y="3373"/>
                  </a:lnTo>
                  <a:lnTo>
                    <a:pt x="1803" y="3373"/>
                  </a:lnTo>
                  <a:lnTo>
                    <a:pt x="1803" y="3534"/>
                  </a:lnTo>
                  <a:lnTo>
                    <a:pt x="1819" y="3534"/>
                  </a:lnTo>
                  <a:lnTo>
                    <a:pt x="1819" y="3373"/>
                  </a:lnTo>
                  <a:lnTo>
                    <a:pt x="1819" y="3373"/>
                  </a:lnTo>
                  <a:lnTo>
                    <a:pt x="1769" y="2785"/>
                  </a:lnTo>
                  <a:lnTo>
                    <a:pt x="1769" y="2784"/>
                  </a:lnTo>
                  <a:lnTo>
                    <a:pt x="1719" y="2410"/>
                  </a:lnTo>
                  <a:lnTo>
                    <a:pt x="1719" y="2407"/>
                  </a:lnTo>
                  <a:lnTo>
                    <a:pt x="1569" y="1980"/>
                  </a:lnTo>
                  <a:lnTo>
                    <a:pt x="1568" y="1980"/>
                  </a:lnTo>
                  <a:lnTo>
                    <a:pt x="1567" y="1976"/>
                  </a:lnTo>
                  <a:lnTo>
                    <a:pt x="1566" y="1976"/>
                  </a:lnTo>
                  <a:lnTo>
                    <a:pt x="1165" y="1602"/>
                  </a:lnTo>
                  <a:lnTo>
                    <a:pt x="1160" y="1609"/>
                  </a:lnTo>
                  <a:lnTo>
                    <a:pt x="1167" y="1604"/>
                  </a:lnTo>
                  <a:lnTo>
                    <a:pt x="967" y="1230"/>
                  </a:lnTo>
                  <a:lnTo>
                    <a:pt x="965" y="1229"/>
                  </a:lnTo>
                  <a:lnTo>
                    <a:pt x="665" y="908"/>
                  </a:lnTo>
                  <a:lnTo>
                    <a:pt x="264" y="480"/>
                  </a:lnTo>
                  <a:lnTo>
                    <a:pt x="258" y="485"/>
                  </a:lnTo>
                  <a:lnTo>
                    <a:pt x="265" y="48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88280" y="5338800"/>
              <a:ext cx="1110960" cy="3662280"/>
            </a:xfrm>
            <a:custGeom>
              <a:avLst/>
              <a:gdLst/>
              <a:ahLst/>
              <a:rect l="l" t="t" r="r" b="b"/>
              <a:pathLst>
                <a:path w="666" h="2200">
                  <a:moveTo>
                    <a:pt x="666" y="3"/>
                  </a:moveTo>
                  <a:lnTo>
                    <a:pt x="650" y="0"/>
                  </a:lnTo>
                  <a:lnTo>
                    <a:pt x="599" y="428"/>
                  </a:lnTo>
                  <a:lnTo>
                    <a:pt x="608" y="429"/>
                  </a:lnTo>
                  <a:lnTo>
                    <a:pt x="600" y="426"/>
                  </a:lnTo>
                  <a:lnTo>
                    <a:pt x="600" y="426"/>
                  </a:lnTo>
                  <a:lnTo>
                    <a:pt x="450" y="801"/>
                  </a:lnTo>
                  <a:lnTo>
                    <a:pt x="450" y="801"/>
                  </a:lnTo>
                  <a:lnTo>
                    <a:pt x="449" y="804"/>
                  </a:lnTo>
                  <a:lnTo>
                    <a:pt x="449" y="1232"/>
                  </a:lnTo>
                  <a:lnTo>
                    <a:pt x="457" y="1232"/>
                  </a:lnTo>
                  <a:lnTo>
                    <a:pt x="450" y="1228"/>
                  </a:lnTo>
                  <a:lnTo>
                    <a:pt x="451" y="1227"/>
                  </a:lnTo>
                  <a:lnTo>
                    <a:pt x="301" y="1441"/>
                  </a:lnTo>
                  <a:lnTo>
                    <a:pt x="300" y="1442"/>
                  </a:lnTo>
                  <a:lnTo>
                    <a:pt x="150" y="1763"/>
                  </a:lnTo>
                  <a:lnTo>
                    <a:pt x="150" y="1763"/>
                  </a:lnTo>
                  <a:lnTo>
                    <a:pt x="149" y="1767"/>
                  </a:lnTo>
                  <a:lnTo>
                    <a:pt x="149" y="1980"/>
                  </a:lnTo>
                  <a:lnTo>
                    <a:pt x="157" y="1980"/>
                  </a:lnTo>
                  <a:lnTo>
                    <a:pt x="150" y="1977"/>
                  </a:lnTo>
                  <a:lnTo>
                    <a:pt x="151" y="1976"/>
                  </a:lnTo>
                  <a:lnTo>
                    <a:pt x="0" y="2190"/>
                  </a:lnTo>
                  <a:lnTo>
                    <a:pt x="13" y="2200"/>
                  </a:lnTo>
                  <a:lnTo>
                    <a:pt x="163" y="1986"/>
                  </a:lnTo>
                  <a:lnTo>
                    <a:pt x="164" y="1984"/>
                  </a:lnTo>
                  <a:lnTo>
                    <a:pt x="165" y="1980"/>
                  </a:lnTo>
                  <a:lnTo>
                    <a:pt x="165" y="1980"/>
                  </a:lnTo>
                  <a:lnTo>
                    <a:pt x="165" y="1767"/>
                  </a:lnTo>
                  <a:lnTo>
                    <a:pt x="157" y="1767"/>
                  </a:lnTo>
                  <a:lnTo>
                    <a:pt x="164" y="1771"/>
                  </a:lnTo>
                  <a:lnTo>
                    <a:pt x="314" y="1450"/>
                  </a:lnTo>
                  <a:lnTo>
                    <a:pt x="307" y="1446"/>
                  </a:lnTo>
                  <a:lnTo>
                    <a:pt x="313" y="1451"/>
                  </a:lnTo>
                  <a:lnTo>
                    <a:pt x="464" y="1237"/>
                  </a:lnTo>
                  <a:lnTo>
                    <a:pt x="465" y="1235"/>
                  </a:lnTo>
                  <a:lnTo>
                    <a:pt x="466" y="1232"/>
                  </a:lnTo>
                  <a:lnTo>
                    <a:pt x="466" y="1232"/>
                  </a:lnTo>
                  <a:lnTo>
                    <a:pt x="466" y="804"/>
                  </a:lnTo>
                  <a:lnTo>
                    <a:pt x="457" y="804"/>
                  </a:lnTo>
                  <a:lnTo>
                    <a:pt x="466" y="807"/>
                  </a:lnTo>
                  <a:lnTo>
                    <a:pt x="616" y="433"/>
                  </a:lnTo>
                  <a:lnTo>
                    <a:pt x="615" y="433"/>
                  </a:lnTo>
                  <a:lnTo>
                    <a:pt x="616" y="429"/>
                  </a:lnTo>
                  <a:lnTo>
                    <a:pt x="616" y="431"/>
                  </a:lnTo>
                  <a:lnTo>
                    <a:pt x="666" y="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21040" y="6586560"/>
              <a:ext cx="1674720" cy="1071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981240" y="6989760"/>
              <a:ext cx="1396800" cy="27468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ugar E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236760" y="5164200"/>
              <a:ext cx="1675080" cy="1069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42920" y="5564160"/>
              <a:ext cx="686520" cy="27468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ad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415200" y="5697360"/>
              <a:ext cx="1925640" cy="98136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864480" y="6054840"/>
              <a:ext cx="1056960" cy="27468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nicip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83320" y="4896000"/>
              <a:ext cx="1924200" cy="447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64440" y="4984920"/>
              <a:ext cx="584280" cy="27468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u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243400" y="8102520"/>
              <a:ext cx="1925640" cy="446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924520" y="8191440"/>
              <a:ext cx="584280" cy="27468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u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330960" y="6943680"/>
              <a:ext cx="1927080" cy="9828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962400" y="7300800"/>
              <a:ext cx="686520" cy="27468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ad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9" name=""/>
            <p:cNvGrpSpPr/>
            <p:nvPr/>
          </p:nvGrpSpPr>
          <p:grpSpPr>
            <a:xfrm>
              <a:off x="2484360" y="4716360"/>
              <a:ext cx="2792160" cy="356760"/>
              <a:chOff x="2484360" y="4716360"/>
              <a:chExt cx="2792160" cy="356760"/>
            </a:xfrm>
          </p:grpSpPr>
          <p:sp>
            <p:nvSpPr>
              <p:cNvPr id="1860" name=""/>
              <p:cNvSpPr/>
              <p:nvPr/>
            </p:nvSpPr>
            <p:spPr>
              <a:xfrm>
                <a:off x="2484360" y="4716360"/>
                <a:ext cx="2792160" cy="3567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484360" y="4716360"/>
                <a:ext cx="2792160" cy="45360"/>
              </a:xfrm>
              <a:custGeom>
                <a:avLst/>
                <a:gdLst/>
                <a:ahLst/>
                <a:rect l="l" t="t" r="r" b="b"/>
                <a:pathLst>
                  <a:path w="1673" h="27">
                    <a:moveTo>
                      <a:pt x="0" y="0"/>
                    </a:moveTo>
                    <a:lnTo>
                      <a:pt x="25" y="27"/>
                    </a:lnTo>
                    <a:lnTo>
                      <a:pt x="1648" y="27"/>
                    </a:lnTo>
                    <a:lnTo>
                      <a:pt x="16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ad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484360" y="4716360"/>
                <a:ext cx="4176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0" y="0"/>
                    </a:moveTo>
                    <a:lnTo>
                      <a:pt x="0" y="214"/>
                    </a:lnTo>
                    <a:lnTo>
                      <a:pt x="25" y="187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484360" y="5028120"/>
                <a:ext cx="2792160" cy="45000"/>
              </a:xfrm>
              <a:custGeom>
                <a:avLst/>
                <a:gdLst/>
                <a:ahLst/>
                <a:rect l="l" t="t" r="r" b="b"/>
                <a:pathLst>
                  <a:path w="1673" h="27">
                    <a:moveTo>
                      <a:pt x="0" y="27"/>
                    </a:moveTo>
                    <a:lnTo>
                      <a:pt x="1673" y="27"/>
                    </a:lnTo>
                    <a:lnTo>
                      <a:pt x="1648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cd7b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235120" y="4716360"/>
                <a:ext cx="4140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25" y="214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187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99995c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484360" y="4716360"/>
                <a:ext cx="2792160" cy="35676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526120" y="4761720"/>
                <a:ext cx="2708640" cy="26640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484360" y="4716360"/>
                <a:ext cx="41760" cy="453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2484360" y="5027760"/>
                <a:ext cx="4176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 flipV="1">
                <a:off x="5234760" y="5027760"/>
                <a:ext cx="4140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5234760" y="4716360"/>
                <a:ext cx="41400" cy="453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1" name=""/>
            <p:cNvSpPr/>
            <p:nvPr/>
          </p:nvSpPr>
          <p:spPr>
            <a:xfrm>
              <a:off x="2407680" y="4807080"/>
              <a:ext cx="2833920" cy="16776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 Unicode MS"/>
                </a:rPr>
                <a:t>Paddy farmers upstream of sugar est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2" name=""/>
            <p:cNvGrpSpPr/>
            <p:nvPr/>
          </p:nvGrpSpPr>
          <p:grpSpPr>
            <a:xfrm>
              <a:off x="2567160" y="7032600"/>
              <a:ext cx="1077480" cy="356760"/>
              <a:chOff x="2567160" y="7032600"/>
              <a:chExt cx="1077480" cy="356760"/>
            </a:xfrm>
          </p:grpSpPr>
          <p:sp>
            <p:nvSpPr>
              <p:cNvPr id="1873" name=""/>
              <p:cNvSpPr/>
              <p:nvPr/>
            </p:nvSpPr>
            <p:spPr>
              <a:xfrm>
                <a:off x="2567160" y="7032600"/>
                <a:ext cx="1077480" cy="3567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567160" y="7032600"/>
                <a:ext cx="1077480" cy="45000"/>
              </a:xfrm>
              <a:custGeom>
                <a:avLst/>
                <a:gdLst/>
                <a:ahLst/>
                <a:rect l="l" t="t" r="r" b="b"/>
                <a:pathLst>
                  <a:path w="645" h="27">
                    <a:moveTo>
                      <a:pt x="0" y="0"/>
                    </a:moveTo>
                    <a:lnTo>
                      <a:pt x="25" y="27"/>
                    </a:lnTo>
                    <a:lnTo>
                      <a:pt x="620" y="27"/>
                    </a:lnTo>
                    <a:lnTo>
                      <a:pt x="6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ad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567160" y="7032600"/>
                <a:ext cx="4140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0" y="0"/>
                    </a:moveTo>
                    <a:lnTo>
                      <a:pt x="0" y="214"/>
                    </a:lnTo>
                    <a:lnTo>
                      <a:pt x="25" y="187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1c2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567160" y="7344360"/>
                <a:ext cx="1077480" cy="45000"/>
              </a:xfrm>
              <a:custGeom>
                <a:avLst/>
                <a:gdLst/>
                <a:ahLst/>
                <a:rect l="l" t="t" r="r" b="b"/>
                <a:pathLst>
                  <a:path w="645" h="27">
                    <a:moveTo>
                      <a:pt x="0" y="27"/>
                    </a:moveTo>
                    <a:lnTo>
                      <a:pt x="645" y="27"/>
                    </a:lnTo>
                    <a:lnTo>
                      <a:pt x="620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a47b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603240" y="7032600"/>
                <a:ext cx="4140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25" y="214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187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997a5c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567160" y="7032600"/>
                <a:ext cx="1077480" cy="35676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608560" y="7077600"/>
                <a:ext cx="994320" cy="26676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567160" y="7032600"/>
                <a:ext cx="4140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2567160" y="7344000"/>
                <a:ext cx="4140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 flipV="1">
                <a:off x="3602880" y="7344000"/>
                <a:ext cx="4140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3602880" y="7032600"/>
                <a:ext cx="4140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4" name=""/>
            <p:cNvSpPr/>
            <p:nvPr/>
          </p:nvSpPr>
          <p:spPr>
            <a:xfrm>
              <a:off x="2635920" y="7121520"/>
              <a:ext cx="886320" cy="16776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 Unicode MS"/>
                </a:rPr>
                <a:t>Sugar est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5" name=""/>
            <p:cNvGrpSpPr/>
            <p:nvPr/>
          </p:nvGrpSpPr>
          <p:grpSpPr>
            <a:xfrm>
              <a:off x="8423280" y="6053040"/>
              <a:ext cx="1347480" cy="355320"/>
              <a:chOff x="8423280" y="6053040"/>
              <a:chExt cx="1347480" cy="355320"/>
            </a:xfrm>
          </p:grpSpPr>
          <p:sp>
            <p:nvSpPr>
              <p:cNvPr id="1886" name=""/>
              <p:cNvSpPr/>
              <p:nvPr/>
            </p:nvSpPr>
            <p:spPr>
              <a:xfrm>
                <a:off x="8423280" y="6053040"/>
                <a:ext cx="1347480" cy="3553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8423280" y="6053040"/>
                <a:ext cx="1347480" cy="44640"/>
              </a:xfrm>
              <a:custGeom>
                <a:avLst/>
                <a:gdLst/>
                <a:ahLst/>
                <a:rect l="l" t="t" r="r" b="b"/>
                <a:pathLst>
                  <a:path w="807" h="27">
                    <a:moveTo>
                      <a:pt x="0" y="0"/>
                    </a:moveTo>
                    <a:lnTo>
                      <a:pt x="25" y="27"/>
                    </a:lnTo>
                    <a:lnTo>
                      <a:pt x="782" y="27"/>
                    </a:lnTo>
                    <a:lnTo>
                      <a:pt x="8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ffd6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8423280" y="6053040"/>
                <a:ext cx="41400" cy="35532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0" y="0"/>
                    </a:moveTo>
                    <a:lnTo>
                      <a:pt x="0" y="214"/>
                    </a:lnTo>
                    <a:lnTo>
                      <a:pt x="25" y="188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ffe1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8423280" y="6365160"/>
                <a:ext cx="1347480" cy="43200"/>
              </a:xfrm>
              <a:custGeom>
                <a:avLst/>
                <a:gdLst/>
                <a:ahLst/>
                <a:rect l="l" t="t" r="r" b="b"/>
                <a:pathLst>
                  <a:path w="807" h="26">
                    <a:moveTo>
                      <a:pt x="0" y="26"/>
                    </a:moveTo>
                    <a:lnTo>
                      <a:pt x="807" y="26"/>
                    </a:lnTo>
                    <a:lnTo>
                      <a:pt x="782" y="0"/>
                    </a:lnTo>
                    <a:lnTo>
                      <a:pt x="25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4cda4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729360" y="6053040"/>
                <a:ext cx="41400" cy="35532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25" y="214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188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7a997a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423280" y="6053040"/>
                <a:ext cx="1347480" cy="35532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464680" y="6097680"/>
                <a:ext cx="1264320" cy="26748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423280" y="6053040"/>
                <a:ext cx="41400" cy="446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8423280" y="6365160"/>
                <a:ext cx="4140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 flipV="1">
                <a:off x="9729000" y="6365160"/>
                <a:ext cx="4140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9729000" y="6053040"/>
                <a:ext cx="41400" cy="446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8506440" y="6141960"/>
              <a:ext cx="1194120" cy="167760"/>
            </a:xfrm>
            <a:prstGeom prst="rect">
              <a:avLst/>
            </a:prstGeom>
            <a:noFill/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 Unicode MS"/>
                </a:rPr>
                <a:t>Municipal Suppl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364840" y="8369280"/>
              <a:ext cx="2742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 Unicode MS"/>
                </a:rPr>
                <a:t>Rural Supply downstream from Butta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809880" y="5600880"/>
              <a:ext cx="3036960" cy="5884560"/>
            </a:xfrm>
            <a:custGeom>
              <a:avLst/>
              <a:gdLst/>
              <a:ahLst/>
              <a:rect l="l" t="t" r="r" b="b"/>
              <a:pathLst>
                <a:path w="1819" h="3534">
                  <a:moveTo>
                    <a:pt x="15" y="0"/>
                  </a:moveTo>
                  <a:lnTo>
                    <a:pt x="0" y="8"/>
                  </a:lnTo>
                  <a:lnTo>
                    <a:pt x="250" y="490"/>
                  </a:lnTo>
                  <a:lnTo>
                    <a:pt x="253" y="492"/>
                  </a:lnTo>
                  <a:lnTo>
                    <a:pt x="653" y="920"/>
                  </a:lnTo>
                  <a:lnTo>
                    <a:pt x="954" y="1241"/>
                  </a:lnTo>
                  <a:lnTo>
                    <a:pt x="959" y="1234"/>
                  </a:lnTo>
                  <a:lnTo>
                    <a:pt x="952" y="1239"/>
                  </a:lnTo>
                  <a:lnTo>
                    <a:pt x="1152" y="1613"/>
                  </a:lnTo>
                  <a:lnTo>
                    <a:pt x="1153" y="1615"/>
                  </a:lnTo>
                  <a:lnTo>
                    <a:pt x="1154" y="1615"/>
                  </a:lnTo>
                  <a:lnTo>
                    <a:pt x="1555" y="1990"/>
                  </a:lnTo>
                  <a:lnTo>
                    <a:pt x="1560" y="1983"/>
                  </a:lnTo>
                  <a:lnTo>
                    <a:pt x="1553" y="1986"/>
                  </a:lnTo>
                  <a:lnTo>
                    <a:pt x="1703" y="2414"/>
                  </a:lnTo>
                  <a:lnTo>
                    <a:pt x="1711" y="2411"/>
                  </a:lnTo>
                  <a:lnTo>
                    <a:pt x="1703" y="2412"/>
                  </a:lnTo>
                  <a:lnTo>
                    <a:pt x="1754" y="2786"/>
                  </a:lnTo>
                  <a:lnTo>
                    <a:pt x="1761" y="2785"/>
                  </a:lnTo>
                  <a:lnTo>
                    <a:pt x="1753" y="2786"/>
                  </a:lnTo>
                  <a:lnTo>
                    <a:pt x="1803" y="3375"/>
                  </a:lnTo>
                  <a:lnTo>
                    <a:pt x="1811" y="3373"/>
                  </a:lnTo>
                  <a:lnTo>
                    <a:pt x="1803" y="3373"/>
                  </a:lnTo>
                  <a:lnTo>
                    <a:pt x="1803" y="3534"/>
                  </a:lnTo>
                  <a:lnTo>
                    <a:pt x="1819" y="3534"/>
                  </a:lnTo>
                  <a:lnTo>
                    <a:pt x="1819" y="3373"/>
                  </a:lnTo>
                  <a:lnTo>
                    <a:pt x="1819" y="3373"/>
                  </a:lnTo>
                  <a:lnTo>
                    <a:pt x="1769" y="2785"/>
                  </a:lnTo>
                  <a:lnTo>
                    <a:pt x="1769" y="2784"/>
                  </a:lnTo>
                  <a:lnTo>
                    <a:pt x="1719" y="2410"/>
                  </a:lnTo>
                  <a:lnTo>
                    <a:pt x="1719" y="2407"/>
                  </a:lnTo>
                  <a:lnTo>
                    <a:pt x="1569" y="1980"/>
                  </a:lnTo>
                  <a:lnTo>
                    <a:pt x="1568" y="1980"/>
                  </a:lnTo>
                  <a:lnTo>
                    <a:pt x="1567" y="1976"/>
                  </a:lnTo>
                  <a:lnTo>
                    <a:pt x="1566" y="1976"/>
                  </a:lnTo>
                  <a:lnTo>
                    <a:pt x="1165" y="1602"/>
                  </a:lnTo>
                  <a:lnTo>
                    <a:pt x="1160" y="1609"/>
                  </a:lnTo>
                  <a:lnTo>
                    <a:pt x="1167" y="1604"/>
                  </a:lnTo>
                  <a:lnTo>
                    <a:pt x="967" y="1230"/>
                  </a:lnTo>
                  <a:lnTo>
                    <a:pt x="965" y="1229"/>
                  </a:lnTo>
                  <a:lnTo>
                    <a:pt x="665" y="908"/>
                  </a:lnTo>
                  <a:lnTo>
                    <a:pt x="264" y="480"/>
                  </a:lnTo>
                  <a:lnTo>
                    <a:pt x="258" y="485"/>
                  </a:lnTo>
                  <a:lnTo>
                    <a:pt x="265" y="48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488280" y="5338800"/>
              <a:ext cx="1110960" cy="3662280"/>
            </a:xfrm>
            <a:custGeom>
              <a:avLst/>
              <a:gdLst/>
              <a:ahLst/>
              <a:rect l="l" t="t" r="r" b="b"/>
              <a:pathLst>
                <a:path w="666" h="2200">
                  <a:moveTo>
                    <a:pt x="666" y="3"/>
                  </a:moveTo>
                  <a:lnTo>
                    <a:pt x="650" y="0"/>
                  </a:lnTo>
                  <a:lnTo>
                    <a:pt x="599" y="428"/>
                  </a:lnTo>
                  <a:lnTo>
                    <a:pt x="608" y="429"/>
                  </a:lnTo>
                  <a:lnTo>
                    <a:pt x="600" y="426"/>
                  </a:lnTo>
                  <a:lnTo>
                    <a:pt x="600" y="426"/>
                  </a:lnTo>
                  <a:lnTo>
                    <a:pt x="450" y="801"/>
                  </a:lnTo>
                  <a:lnTo>
                    <a:pt x="450" y="801"/>
                  </a:lnTo>
                  <a:lnTo>
                    <a:pt x="449" y="804"/>
                  </a:lnTo>
                  <a:lnTo>
                    <a:pt x="449" y="1232"/>
                  </a:lnTo>
                  <a:lnTo>
                    <a:pt x="457" y="1232"/>
                  </a:lnTo>
                  <a:lnTo>
                    <a:pt x="450" y="1228"/>
                  </a:lnTo>
                  <a:lnTo>
                    <a:pt x="451" y="1227"/>
                  </a:lnTo>
                  <a:lnTo>
                    <a:pt x="301" y="1441"/>
                  </a:lnTo>
                  <a:lnTo>
                    <a:pt x="300" y="1442"/>
                  </a:lnTo>
                  <a:lnTo>
                    <a:pt x="150" y="1763"/>
                  </a:lnTo>
                  <a:lnTo>
                    <a:pt x="150" y="1763"/>
                  </a:lnTo>
                  <a:lnTo>
                    <a:pt x="149" y="1767"/>
                  </a:lnTo>
                  <a:lnTo>
                    <a:pt x="149" y="1980"/>
                  </a:lnTo>
                  <a:lnTo>
                    <a:pt x="157" y="1980"/>
                  </a:lnTo>
                  <a:lnTo>
                    <a:pt x="150" y="1977"/>
                  </a:lnTo>
                  <a:lnTo>
                    <a:pt x="151" y="1976"/>
                  </a:lnTo>
                  <a:lnTo>
                    <a:pt x="0" y="2190"/>
                  </a:lnTo>
                  <a:lnTo>
                    <a:pt x="13" y="2200"/>
                  </a:lnTo>
                  <a:lnTo>
                    <a:pt x="163" y="1986"/>
                  </a:lnTo>
                  <a:lnTo>
                    <a:pt x="164" y="1984"/>
                  </a:lnTo>
                  <a:lnTo>
                    <a:pt x="165" y="1980"/>
                  </a:lnTo>
                  <a:lnTo>
                    <a:pt x="165" y="1980"/>
                  </a:lnTo>
                  <a:lnTo>
                    <a:pt x="165" y="1767"/>
                  </a:lnTo>
                  <a:lnTo>
                    <a:pt x="157" y="1767"/>
                  </a:lnTo>
                  <a:lnTo>
                    <a:pt x="164" y="1771"/>
                  </a:lnTo>
                  <a:lnTo>
                    <a:pt x="314" y="1450"/>
                  </a:lnTo>
                  <a:lnTo>
                    <a:pt x="307" y="1446"/>
                  </a:lnTo>
                  <a:lnTo>
                    <a:pt x="313" y="1451"/>
                  </a:lnTo>
                  <a:lnTo>
                    <a:pt x="464" y="1237"/>
                  </a:lnTo>
                  <a:lnTo>
                    <a:pt x="465" y="1235"/>
                  </a:lnTo>
                  <a:lnTo>
                    <a:pt x="466" y="1232"/>
                  </a:lnTo>
                  <a:lnTo>
                    <a:pt x="466" y="1232"/>
                  </a:lnTo>
                  <a:lnTo>
                    <a:pt x="466" y="804"/>
                  </a:lnTo>
                  <a:lnTo>
                    <a:pt x="457" y="804"/>
                  </a:lnTo>
                  <a:lnTo>
                    <a:pt x="466" y="807"/>
                  </a:lnTo>
                  <a:lnTo>
                    <a:pt x="616" y="433"/>
                  </a:lnTo>
                  <a:lnTo>
                    <a:pt x="615" y="433"/>
                  </a:lnTo>
                  <a:lnTo>
                    <a:pt x="616" y="429"/>
                  </a:lnTo>
                  <a:lnTo>
                    <a:pt x="616" y="431"/>
                  </a:lnTo>
                  <a:lnTo>
                    <a:pt x="666" y="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821040" y="6586560"/>
              <a:ext cx="1674720" cy="1071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236760" y="5164200"/>
              <a:ext cx="1675080" cy="1069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415200" y="5697360"/>
              <a:ext cx="1925640" cy="98136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583320" y="4896000"/>
              <a:ext cx="1924200" cy="447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243400" y="8102520"/>
              <a:ext cx="1925640" cy="446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330960" y="6943680"/>
              <a:ext cx="1927080" cy="9828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7" name=""/>
            <p:cNvGrpSpPr/>
            <p:nvPr/>
          </p:nvGrpSpPr>
          <p:grpSpPr>
            <a:xfrm>
              <a:off x="2484360" y="4716360"/>
              <a:ext cx="2792160" cy="356760"/>
              <a:chOff x="2484360" y="4716360"/>
              <a:chExt cx="2792160" cy="356760"/>
            </a:xfrm>
          </p:grpSpPr>
          <p:sp>
            <p:nvSpPr>
              <p:cNvPr id="1908" name=""/>
              <p:cNvSpPr/>
              <p:nvPr/>
            </p:nvSpPr>
            <p:spPr>
              <a:xfrm>
                <a:off x="2484360" y="4716360"/>
                <a:ext cx="2792160" cy="3567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484360" y="4716360"/>
                <a:ext cx="2792160" cy="45360"/>
              </a:xfrm>
              <a:custGeom>
                <a:avLst/>
                <a:gdLst/>
                <a:ahLst/>
                <a:rect l="l" t="t" r="r" b="b"/>
                <a:pathLst>
                  <a:path w="1673" h="27">
                    <a:moveTo>
                      <a:pt x="0" y="0"/>
                    </a:moveTo>
                    <a:lnTo>
                      <a:pt x="25" y="27"/>
                    </a:lnTo>
                    <a:lnTo>
                      <a:pt x="1648" y="27"/>
                    </a:lnTo>
                    <a:lnTo>
                      <a:pt x="16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ad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484360" y="4716360"/>
                <a:ext cx="4176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0" y="0"/>
                    </a:moveTo>
                    <a:lnTo>
                      <a:pt x="0" y="214"/>
                    </a:lnTo>
                    <a:lnTo>
                      <a:pt x="25" y="187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2484360" y="5028120"/>
                <a:ext cx="2792160" cy="45000"/>
              </a:xfrm>
              <a:custGeom>
                <a:avLst/>
                <a:gdLst/>
                <a:ahLst/>
                <a:rect l="l" t="t" r="r" b="b"/>
                <a:pathLst>
                  <a:path w="1673" h="27">
                    <a:moveTo>
                      <a:pt x="0" y="27"/>
                    </a:moveTo>
                    <a:lnTo>
                      <a:pt x="1673" y="27"/>
                    </a:lnTo>
                    <a:lnTo>
                      <a:pt x="1648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cd7b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235120" y="4716360"/>
                <a:ext cx="4140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25" y="214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187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99995c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484360" y="4716360"/>
                <a:ext cx="2792160" cy="35676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526120" y="4761720"/>
                <a:ext cx="2708640" cy="26640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484360" y="4716360"/>
                <a:ext cx="41760" cy="453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2484360" y="5027760"/>
                <a:ext cx="4176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 flipV="1">
                <a:off x="5234760" y="5027760"/>
                <a:ext cx="4140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5234760" y="4716360"/>
                <a:ext cx="41400" cy="453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2406600" y="7032600"/>
              <a:ext cx="1249200" cy="356760"/>
              <a:chOff x="2406600" y="7032600"/>
              <a:chExt cx="1249200" cy="356760"/>
            </a:xfrm>
          </p:grpSpPr>
          <p:sp>
            <p:nvSpPr>
              <p:cNvPr id="1920" name=""/>
              <p:cNvSpPr/>
              <p:nvPr/>
            </p:nvSpPr>
            <p:spPr>
              <a:xfrm>
                <a:off x="2406600" y="7032600"/>
                <a:ext cx="1249200" cy="35676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406600" y="7032600"/>
                <a:ext cx="1249200" cy="45000"/>
              </a:xfrm>
              <a:custGeom>
                <a:avLst/>
                <a:gdLst/>
                <a:ahLst/>
                <a:rect l="l" t="t" r="r" b="b"/>
                <a:pathLst>
                  <a:path w="645" h="27">
                    <a:moveTo>
                      <a:pt x="0" y="0"/>
                    </a:moveTo>
                    <a:lnTo>
                      <a:pt x="25" y="27"/>
                    </a:lnTo>
                    <a:lnTo>
                      <a:pt x="620" y="27"/>
                    </a:lnTo>
                    <a:lnTo>
                      <a:pt x="6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ad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406600" y="7032600"/>
                <a:ext cx="4824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0" y="0"/>
                    </a:moveTo>
                    <a:lnTo>
                      <a:pt x="0" y="214"/>
                    </a:lnTo>
                    <a:lnTo>
                      <a:pt x="25" y="187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1c2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406600" y="7344360"/>
                <a:ext cx="1249200" cy="45000"/>
              </a:xfrm>
              <a:custGeom>
                <a:avLst/>
                <a:gdLst/>
                <a:ahLst/>
                <a:rect l="l" t="t" r="r" b="b"/>
                <a:pathLst>
                  <a:path w="645" h="27">
                    <a:moveTo>
                      <a:pt x="0" y="27"/>
                    </a:moveTo>
                    <a:lnTo>
                      <a:pt x="645" y="27"/>
                    </a:lnTo>
                    <a:lnTo>
                      <a:pt x="620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a47b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607560" y="7032600"/>
                <a:ext cx="4824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25" y="214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187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997a5c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406600" y="7032600"/>
                <a:ext cx="1249200" cy="35676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454840" y="7077600"/>
                <a:ext cx="1152720" cy="26676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406600" y="7032600"/>
                <a:ext cx="4824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2406600" y="7344000"/>
                <a:ext cx="4824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 flipV="1">
                <a:off x="3607560" y="7344000"/>
                <a:ext cx="4824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3607560" y="7032600"/>
                <a:ext cx="4824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8423280" y="7299360"/>
              <a:ext cx="1965240" cy="356760"/>
              <a:chOff x="8423280" y="7299360"/>
              <a:chExt cx="1965240" cy="356760"/>
            </a:xfrm>
          </p:grpSpPr>
          <p:sp>
            <p:nvSpPr>
              <p:cNvPr id="1932" name=""/>
              <p:cNvSpPr/>
              <p:nvPr/>
            </p:nvSpPr>
            <p:spPr>
              <a:xfrm>
                <a:off x="8423280" y="7299360"/>
                <a:ext cx="1965240" cy="3567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8423280" y="7299360"/>
                <a:ext cx="1965240" cy="45000"/>
              </a:xfrm>
              <a:custGeom>
                <a:avLst/>
                <a:gdLst/>
                <a:ahLst/>
                <a:rect l="l" t="t" r="r" b="b"/>
                <a:pathLst>
                  <a:path w="1579" h="27">
                    <a:moveTo>
                      <a:pt x="0" y="0"/>
                    </a:moveTo>
                    <a:lnTo>
                      <a:pt x="25" y="27"/>
                    </a:lnTo>
                    <a:lnTo>
                      <a:pt x="1554" y="27"/>
                    </a:lnTo>
                    <a:lnTo>
                      <a:pt x="15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dad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8423280" y="7299360"/>
                <a:ext cx="3096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0" y="0"/>
                    </a:moveTo>
                    <a:lnTo>
                      <a:pt x="0" y="214"/>
                    </a:lnTo>
                    <a:lnTo>
                      <a:pt x="25" y="187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2c2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8423280" y="7611120"/>
                <a:ext cx="1965240" cy="45000"/>
              </a:xfrm>
              <a:custGeom>
                <a:avLst/>
                <a:gdLst/>
                <a:ahLst/>
                <a:rect l="l" t="t" r="r" b="b"/>
                <a:pathLst>
                  <a:path w="1579" h="27">
                    <a:moveTo>
                      <a:pt x="0" y="27"/>
                    </a:moveTo>
                    <a:lnTo>
                      <a:pt x="1579" y="27"/>
                    </a:lnTo>
                    <a:lnTo>
                      <a:pt x="1554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d7b7b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0357200" y="7299360"/>
                <a:ext cx="31320" cy="3567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25" y="214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187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995c5c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8423280" y="7299360"/>
                <a:ext cx="1965240" cy="35676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454240" y="7344360"/>
                <a:ext cx="1902600" cy="26676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8423280" y="7299360"/>
                <a:ext cx="3096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V="1">
                <a:off x="8423280" y="7610760"/>
                <a:ext cx="3096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 flipV="1">
                <a:off x="10356840" y="7610760"/>
                <a:ext cx="3132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10356840" y="7299360"/>
                <a:ext cx="31320" cy="45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8423280" y="6053040"/>
              <a:ext cx="1644120" cy="355320"/>
              <a:chOff x="8423280" y="6053040"/>
              <a:chExt cx="1644120" cy="355320"/>
            </a:xfrm>
          </p:grpSpPr>
          <p:sp>
            <p:nvSpPr>
              <p:cNvPr id="1944" name=""/>
              <p:cNvSpPr/>
              <p:nvPr/>
            </p:nvSpPr>
            <p:spPr>
              <a:xfrm>
                <a:off x="8423280" y="6053040"/>
                <a:ext cx="1644120" cy="355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8423280" y="6053040"/>
                <a:ext cx="1644120" cy="44640"/>
              </a:xfrm>
              <a:custGeom>
                <a:avLst/>
                <a:gdLst/>
                <a:ahLst/>
                <a:rect l="l" t="t" r="r" b="b"/>
                <a:pathLst>
                  <a:path w="807" h="27">
                    <a:moveTo>
                      <a:pt x="0" y="0"/>
                    </a:moveTo>
                    <a:lnTo>
                      <a:pt x="25" y="27"/>
                    </a:lnTo>
                    <a:lnTo>
                      <a:pt x="782" y="27"/>
                    </a:lnTo>
                    <a:lnTo>
                      <a:pt x="8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ffd6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8423280" y="6053040"/>
                <a:ext cx="50760" cy="35532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0" y="0"/>
                    </a:moveTo>
                    <a:lnTo>
                      <a:pt x="0" y="214"/>
                    </a:lnTo>
                    <a:lnTo>
                      <a:pt x="25" y="188"/>
                    </a:lnTo>
                    <a:lnTo>
                      <a:pt x="25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ffe1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8423280" y="6365160"/>
                <a:ext cx="1644120" cy="43200"/>
              </a:xfrm>
              <a:custGeom>
                <a:avLst/>
                <a:gdLst/>
                <a:ahLst/>
                <a:rect l="l" t="t" r="r" b="b"/>
                <a:pathLst>
                  <a:path w="807" h="26">
                    <a:moveTo>
                      <a:pt x="0" y="26"/>
                    </a:moveTo>
                    <a:lnTo>
                      <a:pt x="807" y="26"/>
                    </a:lnTo>
                    <a:lnTo>
                      <a:pt x="782" y="0"/>
                    </a:lnTo>
                    <a:lnTo>
                      <a:pt x="25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4cda4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0016640" y="6053040"/>
                <a:ext cx="50760" cy="35532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25" y="214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188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7a997a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8423280" y="6053040"/>
                <a:ext cx="1644120" cy="35532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8474040" y="6097680"/>
                <a:ext cx="1542600" cy="26748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423280" y="6053040"/>
                <a:ext cx="50760" cy="446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8423280" y="6365160"/>
                <a:ext cx="5076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H="1" flipV="1">
                <a:off x="10016280" y="6365160"/>
                <a:ext cx="5076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10016280" y="6053040"/>
                <a:ext cx="50760" cy="446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5" name=""/>
            <p:cNvGrpSpPr/>
            <p:nvPr/>
          </p:nvGrpSpPr>
          <p:grpSpPr>
            <a:xfrm>
              <a:off x="2212920" y="8172360"/>
              <a:ext cx="2958840" cy="353880"/>
              <a:chOff x="2212920" y="8172360"/>
              <a:chExt cx="2958840" cy="353880"/>
            </a:xfrm>
          </p:grpSpPr>
          <p:sp>
            <p:nvSpPr>
              <p:cNvPr id="1956" name=""/>
              <p:cNvSpPr/>
              <p:nvPr/>
            </p:nvSpPr>
            <p:spPr>
              <a:xfrm>
                <a:off x="2212920" y="8172360"/>
                <a:ext cx="2958840" cy="35388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212920" y="8172360"/>
                <a:ext cx="2958840" cy="43200"/>
              </a:xfrm>
              <a:custGeom>
                <a:avLst/>
                <a:gdLst/>
                <a:ahLst/>
                <a:rect l="l" t="t" r="r" b="b"/>
                <a:pathLst>
                  <a:path w="1612" h="26">
                    <a:moveTo>
                      <a:pt x="0" y="0"/>
                    </a:moveTo>
                    <a:lnTo>
                      <a:pt x="25" y="26"/>
                    </a:lnTo>
                    <a:lnTo>
                      <a:pt x="1587" y="26"/>
                    </a:lnTo>
                    <a:lnTo>
                      <a:pt x="16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d6ff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212920" y="8172360"/>
                <a:ext cx="45720" cy="353880"/>
              </a:xfrm>
              <a:custGeom>
                <a:avLst/>
                <a:gdLst/>
                <a:ahLst/>
                <a:rect l="l" t="t" r="r" b="b"/>
                <a:pathLst>
                  <a:path w="25" h="213">
                    <a:moveTo>
                      <a:pt x="0" y="0"/>
                    </a:moveTo>
                    <a:lnTo>
                      <a:pt x="0" y="213"/>
                    </a:lnTo>
                    <a:lnTo>
                      <a:pt x="25" y="187"/>
                    </a:lnTo>
                    <a:lnTo>
                      <a:pt x="25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e1ff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212920" y="8483040"/>
                <a:ext cx="2958840" cy="43200"/>
              </a:xfrm>
              <a:custGeom>
                <a:avLst/>
                <a:gdLst/>
                <a:ahLst/>
                <a:rect l="l" t="t" r="r" b="b"/>
                <a:pathLst>
                  <a:path w="1612" h="26">
                    <a:moveTo>
                      <a:pt x="0" y="26"/>
                    </a:moveTo>
                    <a:lnTo>
                      <a:pt x="1612" y="26"/>
                    </a:lnTo>
                    <a:lnTo>
                      <a:pt x="1587" y="0"/>
                    </a:lnTo>
                    <a:lnTo>
                      <a:pt x="25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a4cd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126040" y="8172360"/>
                <a:ext cx="45720" cy="353880"/>
              </a:xfrm>
              <a:custGeom>
                <a:avLst/>
                <a:gdLst/>
                <a:ahLst/>
                <a:rect l="l" t="t" r="r" b="b"/>
                <a:pathLst>
                  <a:path w="25" h="213">
                    <a:moveTo>
                      <a:pt x="25" y="213"/>
                    </a:moveTo>
                    <a:lnTo>
                      <a:pt x="25" y="0"/>
                    </a:lnTo>
                    <a:lnTo>
                      <a:pt x="0" y="26"/>
                    </a:lnTo>
                    <a:lnTo>
                      <a:pt x="0" y="187"/>
                    </a:lnTo>
                    <a:lnTo>
                      <a:pt x="25" y="213"/>
                    </a:lnTo>
                    <a:close/>
                  </a:path>
                </a:pathLst>
              </a:custGeom>
              <a:solidFill>
                <a:srgbClr val="007a99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212920" y="8172360"/>
                <a:ext cx="2958840" cy="35388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258640" y="8215560"/>
                <a:ext cx="2867400" cy="26748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212920" y="8172360"/>
                <a:ext cx="4572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V="1">
                <a:off x="2212920" y="8483040"/>
                <a:ext cx="4572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 flipV="1">
                <a:off x="5125680" y="8483040"/>
                <a:ext cx="4572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>
                <a:off x="5125680" y="8172360"/>
                <a:ext cx="4572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7" name=""/>
            <p:cNvSpPr/>
            <p:nvPr/>
          </p:nvSpPr>
          <p:spPr>
            <a:xfrm>
              <a:off x="2058840" y="8259840"/>
              <a:ext cx="313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 Unicode MS"/>
                </a:rPr>
                <a:t>Abastecimiento rural aguas abajo de Butta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8" name=""/>
            <p:cNvGrpSpPr/>
            <p:nvPr/>
          </p:nvGrpSpPr>
          <p:grpSpPr>
            <a:xfrm>
              <a:off x="8545680" y="4896000"/>
              <a:ext cx="2804760" cy="354960"/>
              <a:chOff x="8545680" y="4896000"/>
              <a:chExt cx="2804760" cy="354960"/>
            </a:xfrm>
          </p:grpSpPr>
          <p:sp>
            <p:nvSpPr>
              <p:cNvPr id="1969" name=""/>
              <p:cNvSpPr/>
              <p:nvPr/>
            </p:nvSpPr>
            <p:spPr>
              <a:xfrm>
                <a:off x="8545680" y="4896000"/>
                <a:ext cx="2804760" cy="35496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8545680" y="4896000"/>
                <a:ext cx="2804760" cy="43200"/>
              </a:xfrm>
              <a:custGeom>
                <a:avLst/>
                <a:gdLst/>
                <a:ahLst/>
                <a:rect l="l" t="t" r="r" b="b"/>
                <a:pathLst>
                  <a:path w="1503" h="26">
                    <a:moveTo>
                      <a:pt x="0" y="0"/>
                    </a:moveTo>
                    <a:lnTo>
                      <a:pt x="25" y="26"/>
                    </a:lnTo>
                    <a:lnTo>
                      <a:pt x="1478" y="26"/>
                    </a:lnTo>
                    <a:lnTo>
                      <a:pt x="150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d6ff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8545680" y="4896000"/>
                <a:ext cx="46440" cy="3549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0" y="0"/>
                    </a:moveTo>
                    <a:lnTo>
                      <a:pt x="0" y="214"/>
                    </a:lnTo>
                    <a:lnTo>
                      <a:pt x="25" y="187"/>
                    </a:lnTo>
                    <a:lnTo>
                      <a:pt x="25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e1ff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8545680" y="5206320"/>
                <a:ext cx="2804760" cy="44640"/>
              </a:xfrm>
              <a:custGeom>
                <a:avLst/>
                <a:gdLst/>
                <a:ahLst/>
                <a:rect l="l" t="t" r="r" b="b"/>
                <a:pathLst>
                  <a:path w="1503" h="27">
                    <a:moveTo>
                      <a:pt x="0" y="27"/>
                    </a:moveTo>
                    <a:lnTo>
                      <a:pt x="1503" y="27"/>
                    </a:lnTo>
                    <a:lnTo>
                      <a:pt x="1478" y="0"/>
                    </a:lnTo>
                    <a:lnTo>
                      <a:pt x="2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a4cd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1303640" y="4896000"/>
                <a:ext cx="46800" cy="354960"/>
              </a:xfrm>
              <a:custGeom>
                <a:avLst/>
                <a:gdLst/>
                <a:ahLst/>
                <a:rect l="l" t="t" r="r" b="b"/>
                <a:pathLst>
                  <a:path w="25" h="214">
                    <a:moveTo>
                      <a:pt x="25" y="214"/>
                    </a:moveTo>
                    <a:lnTo>
                      <a:pt x="25" y="0"/>
                    </a:lnTo>
                    <a:lnTo>
                      <a:pt x="0" y="26"/>
                    </a:lnTo>
                    <a:lnTo>
                      <a:pt x="0" y="187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007a99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8545680" y="4896000"/>
                <a:ext cx="2804760" cy="35496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8592120" y="4939200"/>
                <a:ext cx="2711520" cy="267120"/>
              </a:xfrm>
              <a:prstGeom prst="rect">
                <a:avLst/>
              </a:prstGeom>
              <a:noFill/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8545680" y="4896000"/>
                <a:ext cx="4644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8545680" y="5206320"/>
                <a:ext cx="46440" cy="446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 flipV="1">
                <a:off x="11303640" y="5206320"/>
                <a:ext cx="46800" cy="446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11303640" y="4896000"/>
                <a:ext cx="46800" cy="432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0" name=""/>
            <p:cNvSpPr/>
            <p:nvPr/>
          </p:nvSpPr>
          <p:spPr>
            <a:xfrm>
              <a:off x="7399440" y="9694800"/>
              <a:ext cx="3316320" cy="692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693560" y="9764640"/>
              <a:ext cx="2783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uenca del Menik Gang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incipales usua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6110280" y="9615600"/>
              <a:ext cx="110880" cy="1067760"/>
              <a:chOff x="6110280" y="9615600"/>
              <a:chExt cx="110880" cy="1067760"/>
            </a:xfrm>
          </p:grpSpPr>
          <p:sp>
            <p:nvSpPr>
              <p:cNvPr id="1983" name=""/>
              <p:cNvSpPr/>
              <p:nvPr/>
            </p:nvSpPr>
            <p:spPr>
              <a:xfrm>
                <a:off x="6163920" y="9615600"/>
                <a:ext cx="1800" cy="9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110280" y="10568880"/>
                <a:ext cx="110880" cy="11448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0"/>
                    </a:moveTo>
                    <a:lnTo>
                      <a:pt x="32" y="69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>
              <a:off x="2538000" y="4765680"/>
              <a:ext cx="25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Arroceros aguas arriba de los remolache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463200" y="547056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rroce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668280" y="722772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rroce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782760" y="601488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unicip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50920" y="6908760"/>
              <a:ext cx="156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emolache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861600" y="491004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edio ru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499360" y="810720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edio ru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454480" y="7080120"/>
              <a:ext cx="98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Fincas de 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azúc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628480" y="4937040"/>
              <a:ext cx="26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Abastecimiento rural aguas arriba de Butta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521920" y="6095880"/>
              <a:ext cx="1322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bastecimiento municip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457480" y="7372440"/>
              <a:ext cx="1652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Arroceros aguas abajo de Butta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6" name=""/>
          <p:cNvSpPr/>
          <p:nvPr/>
        </p:nvSpPr>
        <p:spPr>
          <a:xfrm>
            <a:off x="27476280" y="28575000"/>
            <a:ext cx="838440" cy="304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42:16Z</dcterms:created>
  <dc:creator>santaolalla</dc:creator>
  <dc:description/>
  <dc:language>en-US</dc:language>
  <cp:lastModifiedBy>cfabeiro</cp:lastModifiedBy>
  <dcterms:modified xsi:type="dcterms:W3CDTF">2001-09-05T17:52:11Z</dcterms:modified>
  <cp:revision>6</cp:revision>
  <dc:subject/>
  <dc:title>Presentación de PowerPoint</dc:title>
</cp:coreProperties>
</file>